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EBEA6-6881-494C-82AC-CEBD6A73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37453-BCB3-40DF-8E04-0DD53C50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367E2-E3F0-4286-B3F5-B57F6D1C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E06A-DA75-46A2-B677-05C8218E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FF40-8805-4698-B4BC-EC6F71F1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1D62-F51D-4EA9-82F9-F4225EFF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6D4D-B284-4811-B26C-7857931C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D974-132A-4EC0-9DD5-8C8DF248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0A9E-FFE7-4630-A67E-6CFB2565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E33B-C238-4750-81F9-5C9533B9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85BB-0E40-4905-9952-5035C221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392F2-85AB-4A42-847C-C5880BD7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AA08-4C9B-4721-942D-24F236F0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504A-4D36-4B80-8E94-15E77DAC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7DA8-3AD4-43D7-883E-BF9E22FA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74FC-BC0C-49DF-BF93-B50F10B0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4341-2F2E-43C0-9823-2D3E342D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EF639-36DA-40BD-AA6D-D9CB79B8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A493A-DC89-48D9-8EAA-6558E057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AF551-CA55-4A7B-A4F5-2E7FC4A7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66E4F-6EAA-43EC-B116-6712B733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8EB83-6E6B-40CB-B712-59E4D2BF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C176C-1AE3-49BC-B510-3E8BF935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1CAFD-F4F1-4BE7-87C2-42695C25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222F-2418-47CE-AF0A-29B0A688D2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/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44D3-B221-4DC9-B2F8-FDFB579C7E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2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500" spc="-1" strike="noStrike">
                <a:solidFill>
                  <a:srgbClr val="ffffff"/>
                </a:solidFill>
                <a:latin typeface="Arial"/>
              </a:rPr>
              <a:t>Функционално програмиране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onh McCarthy,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ff"/>
                </a:solidFill>
                <a:latin typeface="Arial"/>
              </a:rPr>
              <a:t>разработчик на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ISP (1958-5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EFEF-457E-4CFE-81C7-C7318D4853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ISP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cessing (LISP, Makkarti, 1950)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ърво е описан като математически формализъ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собе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й-старият и най-разпространения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много диалек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ървият</a:t>
            </a:r>
            <a:r>
              <a:rPr b="0" lang="bg-BG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иалект е з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BM 7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 символна обработка и задачи от 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езтипов ез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ефиксен запи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ffffff"/>
                </a:solidFill>
                <a:latin typeface="바탕"/>
                <a:ea typeface="바탕"/>
              </a:rPr>
              <a:t>⇒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 произволен брой аргумент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unname arg1 arg2 …arg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666699"/>
                </a:solidFill>
                <a:latin typeface="Arial"/>
              </a:rPr>
              <a:t>Механизъм на работ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Четене – оценка – отпечатв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eme (1975)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иалект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Фукциите могат да бъдат стойности на изрази и елементи на списъци, могат да бъдат присвоявани на променливи и предавани като парамет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55F26-A709-4164-B286-A0524D792E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имитивни изрази (обекти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то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Числа – цели и реални (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7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-2.3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Константи - 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#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true), 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#f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false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Символи – последователност от малки и главни латински букви, цифри и специални знаци без интервали, кавички и скоби (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а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ав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Идентификатори – символи, започващи с буква и означават имена на обек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Числата не са символи. Символите представляват данни, процедури и идентификатор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Низове – последователност от знаци, заградена с кавички (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“а в”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ци – наредена последователност от обекти, разделени с интервал и заградена с 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Обикновен – 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(1 2 3)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bg-BG" sz="1900" spc="-1" strike="noStrike">
                <a:solidFill>
                  <a:srgbClr val="ffff99"/>
                </a:solidFill>
                <a:latin typeface="Arial"/>
              </a:rPr>
              <a:t> () 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nil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(1 (2 3)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Комбинация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Специална форма – всички вградени и потребителски процедури (функции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AACA1-5DDD-4172-A532-EFBC6B0E5D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ценяван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Числа – като самите себе с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имволи – в зависимост дали със символа е свързана стойност или 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 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(ако а е несъвърза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rror/n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 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(ако а=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изове – като самите себе с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 “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bc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b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бикновени списъци – като греш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 (1 2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ециални форми – различно за всяка фун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281F-64DE-4F38-A6E3-0FCE175C9D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Комбина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666699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комбинацията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редставлява списък, чийто първи елемент е процедура (първият елемент се нарича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оператор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а останалите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операнди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процедура&gt; &lt;арг1&gt; ... &lt;арг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&gt;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666699"/>
                </a:solidFill>
                <a:latin typeface="Arial"/>
              </a:rPr>
              <a:t>Оценяване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: Оценява се операцият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цедурата), като нейната оценка е процедурен обект, който представлява последователност от машинни инструкции, които реализират операцията. Оценяват се операндите. Накрая процедурния обект се прилага върху оценените операнд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 (+ 1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&gt; (+ 1 2 3)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предимство на префиксния запис: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изволен брой аргумен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-380880" y="4417920"/>
            <a:ext cx="2895480" cy="1145520"/>
            <a:chOff x="-380880" y="4417920"/>
            <a:chExt cx="2895480" cy="1145520"/>
          </a:xfrm>
        </p:grpSpPr>
        <p:sp>
          <p:nvSpPr>
            <p:cNvPr id="140" name=""/>
            <p:cNvSpPr/>
            <p:nvPr/>
          </p:nvSpPr>
          <p:spPr>
            <a:xfrm>
              <a:off x="1981080" y="44179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09680" y="44179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8280" y="44179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7400" y="466056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0" y="46465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380880" y="4646520"/>
              <a:ext cx="2514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ffffff"/>
                  </a:solidFill>
                  <a:latin typeface="Arial"/>
                </a:rPr>
                <a:t>маш. инструкции, реализиращи опер. “+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3F6A-FDB3-4484-9681-A15CE24C5E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имитивни функ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+, * - с 0 или повече параметъ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-, / - с 2 или повече параметъ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qrt –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вдигане на 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500" spc="-1" strike="noStrike">
                <a:solidFill>
                  <a:srgbClr val="ffffff"/>
                </a:solidFill>
                <a:latin typeface="Arial"/>
              </a:rPr>
              <a:t>Примитивни предикат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&lt;, =, 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, or,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nd (&gt; x 5) (&lt; x 15)</a:t>
            </a:r>
            <a:r>
              <a:rPr b="0" lang="bg-BG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define (&gt;= x 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or (&gt; x y) (= x y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define (&gt;= x 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not (&lt; x y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27B73-CA00-4BBC-A67F-5BD2C531AD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Запишете в префиксна форма изразите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5+2*3)* (7-5/4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3*х-1)/((х+1)*(х+5)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Оценете изразите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5.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* (+ 1 6 2) 2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1 6 9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а вс”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(&gt; 1 5)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(&lt; 2 1)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74A74-31E9-486C-BBD7-4157B3791C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6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Как се реализират базите от данни в Пролог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чрез релационни таблиц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чрез факти и правил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чрез релационни таблици с факти и правил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я съставна структура от данни не може да се реализира на Пролог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двоично дърв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опашк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множеств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никоя от изброенит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не е част от експертните систем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операционна систем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база от знани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машина за изв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потребителски интерфейс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Ако променлива от целта не може да получи стойност в програмата, то: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променливата остава свободна и програмата приключва успешн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рограмата връща грешк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роменливата се свързва с произволна стойност и програмата приключва успешн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3A2B4-3BDC-4550-9211-8E8ECB9FED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6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араметър на предикат може да бъде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входен или изходен в зависимост от желанието на потребител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входен или изходен в зависимост от програма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входен или изходен в зависимост от Пролог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d. или само входен или само изходен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В чистия логически език какво не може да им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обработка на списъц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рекурсия, присвояване и проверка за типов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ак се намират множество от решения на дадена задач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чрез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чрез механизма на възврат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чрез метода на резолюция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d. чрез !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B42DA-4FC6-4A23-9BB7-875D7B5092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6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Как се реализират базите от данни в Пролог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чрез релационни таблиц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b. чрез факти и правил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чрез релационни таблици с факти и правил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я съставна структура от данни не може да се реализира на Пролог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двоично дърв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опашк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множеств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d. никоя от изброенит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не е част от експертните систем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a. операционна систем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база от знани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машина за изв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потребителски интерфейс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Ако променлива от целта не може да получи стойност в програмата, то: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a. променливата остава свободна и програмата приключва успешн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рограмата връща грешк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роменливата се свързва с произволна стойност и програмата приключва успешн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B4893-80F9-467F-84E9-D8658E6E35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6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араметър на предикат може да бъде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3300"/>
                </a:solidFill>
                <a:latin typeface="Arial"/>
              </a:rPr>
              <a:t>a. входен или изходен в зависимост от желанието на потребител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b. входен или изходен в зависимост от програма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входен или изходен в зависимост от Пролог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d. или само входен или само изходен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В чистия логически език какво не може да им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обработка на списъц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3300"/>
                </a:solidFill>
                <a:latin typeface="Arial"/>
              </a:rPr>
              <a:t>b. рекурсия, присвояване и проверка за типов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ак се намират множество от решения на дадена задач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a. чрез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3300"/>
                </a:solidFill>
                <a:latin typeface="Arial"/>
              </a:rPr>
              <a:t>b. чрез механизма на възврат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c. чрез метода на резолюцият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d. чрез !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F1C4-0004-4E2E-B2C3-2B15417F48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500" spc="-1" strike="noStrike">
                <a:solidFill>
                  <a:srgbClr val="ffffff"/>
                </a:solidFill>
                <a:latin typeface="Arial"/>
              </a:rPr>
              <a:t>Въведение във функционалното програмиран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Теоретичен мод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Особености на функционалните ези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Видове функционални ези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Лис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имитивни обек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Механизъм на работа. Оценява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омбин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имитивни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F6936-111C-45B3-9B79-16A8CA5002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оретичен модел на функционалните езиц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</a:rPr>
              <a:t>математически функции и </a:t>
            </a:r>
            <a:r>
              <a:rPr b="0" lang="he-IL" sz="2600" spc="-1" strike="noStrike">
                <a:solidFill>
                  <a:srgbClr val="ffffff"/>
                </a:solidFill>
                <a:latin typeface="Arial"/>
                <a:cs typeface="Arial"/>
              </a:rPr>
              <a:t>ג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  <a:ea typeface="Arial"/>
              </a:rPr>
              <a:t>-смятането (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lonzo Church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за дефиниране на функции без име –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lambda </a:t>
            </a:r>
            <a:r>
              <a:rPr b="0" lang="bg-BG" sz="2600" spc="-1" strike="noStrike">
                <a:solidFill>
                  <a:srgbClr val="ffffff"/>
                </a:solidFill>
                <a:latin typeface="Arial"/>
                <a:ea typeface="Arial"/>
              </a:rPr>
              <a:t>функции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(Alonzo Church, 194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Arial"/>
                <a:ea typeface="Arial"/>
              </a:rPr>
              <a:t>Бекус, 1978 поставя началото на функционалния стил за програмиране, използващ примитивни форми, дефиниции или функционални форм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9E466-AD0E-43E4-92C3-3BBFABDC7F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собености на функционалните езиц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Единственото действие е обръщението към функци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Единствения начин за разделяне на програмата на части е въвеждането на име на функция и задаването на това име на израз, който пресмята стойността на функцията </a:t>
            </a:r>
            <a:r>
              <a:rPr b="0" lang="bg-BG" sz="1900" spc="-1" strike="noStrike">
                <a:solidFill>
                  <a:srgbClr val="ffffff"/>
                </a:solidFill>
                <a:latin typeface="바탕"/>
                <a:ea typeface="바탕"/>
              </a:rPr>
              <a:t>⇒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 програмите представляват дефиниране на функци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Единственото правило за композиция е суперпозицията на функции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Не използват променливи и оператори за присвояване </a:t>
            </a:r>
            <a:r>
              <a:rPr b="0" lang="bg-BG" sz="1900" spc="-1" strike="noStrike">
                <a:solidFill>
                  <a:srgbClr val="ffffff"/>
                </a:solidFill>
                <a:latin typeface="바탕"/>
                <a:ea typeface="바탕"/>
              </a:rPr>
              <a:t>⇒</a:t>
            </a: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 итеративните конструкции не са възможн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Повторенията се реализират чрез рекурс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Еднакво представяне на код (функции) и данн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Изпълнението на функция винаги дава същия резултат  при същите входни параметр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Проста семантик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Задават множества от примитивни функции и функционални форми за конструиране на съставни функции, операции, и някои структури за представяне на даннит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ffff"/>
                </a:solidFill>
                <a:latin typeface="Arial"/>
              </a:rPr>
              <a:t>Използват се по-често интерпретатор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2CDFD-76DF-4496-BEBD-BBE3F86769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Видове функционални езиц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Чист функционален ези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управляващите конструкции са функциите, функциите не допускат странични ефек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–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ЧИС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P,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kell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PE, Miranda, FP, 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ечист функционален ези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управляващите конструкции са функции и императивни конструкции, функциите допускат странични ефек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eme, Common Lisp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L(1980), Golden Lisp,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... (диалекти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P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Логически и функционални езиц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, F, R, HASL, FUNLOG, QUTE, LOGLISP, QLOG, PIL, W, Prolog-with-Equality, EQLOG, TABLOG, UNICORN, Pop-11, LEAF, APP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41D94-D0A4-41F2-9498-8F1F64BBF0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54:40Z</dcterms:created>
  <dc:creator>Elena Somova</dc:creator>
  <dc:description/>
  <dc:language>en-US</dc:language>
  <cp:lastModifiedBy>presentation</cp:lastModifiedBy>
  <dcterms:modified xsi:type="dcterms:W3CDTF">2007-11-09T08:01:40Z</dcterms:modified>
  <cp:revision>161</cp:revision>
  <dc:subject/>
  <dc:title>Функционално програмиране</dc:title>
</cp:coreProperties>
</file>