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1BD04-FFB4-4507-899A-9F9699F5E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2D039-4770-425E-9F5E-7C4697D4A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2F0C1-7507-43DA-8F02-49AB9C922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11BF3-FB03-4658-B381-B971467C3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227EF-22F1-471F-A50E-B48CF1F6D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0F88D-9E74-424E-AA8D-98B469303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EE91D-9B46-4CAF-AD73-304C0EE06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2B22A-2BF2-49CE-B41E-19757EE83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ABD45-55DC-447B-8C15-A244B07B6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40947-6E3C-4233-B7B5-09BD11780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5D704-43F4-431A-BDBF-549F1B1E4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0763B-C7F3-4F4D-B252-E17A655D2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E0C27-4F3A-4A48-9901-0A5EF278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06BF6-44B6-4E6F-AE56-EE942191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DC44C-9D22-40EA-B741-0F9629282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0E5EC-F675-425C-9A89-52BDC8270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4E4B5-C280-459F-86FF-BCB091543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393E8-2230-40DB-92A1-D25A5C7B4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13DB0-49ED-402D-B0DA-C395AEC2A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F75B5-B8F8-4ADC-8EF2-4D860427B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89E52-6A2F-4049-BE64-2B129A553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7A077-427C-4D9E-8F2A-66A63F00E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2998A-C6CD-4AC3-B0C5-C78FC823F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45C5A-7A8C-49AD-997E-1A27FF5D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3E78B-ED32-45BA-884C-4CD71223050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bg-BG" sz="1200" spc="-1" strike="noStrike">
                <a:solidFill>
                  <a:srgbClr val="ffffff"/>
                </a:solidFill>
                <a:latin typeface="Arial"/>
              </a:rPr>
              <a:t>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6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5F6C6-2B93-412D-A131-FFAD44D417B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2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ТЕСТ 7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Кое не е вид списък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a. специална форма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b. комбинация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c. атом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Кое не е списък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a. празен списък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b. специална форма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c. примитивна функция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d. няма такова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e. комбинация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Кое не е вярно за Лисп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a. повторенията се реализират чрез рекурсия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b. може да се променя синтаксиса на функциите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c. може да се променя семантиката на функциите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d. реализира се само чрез интерпретатори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07585-0F5F-4EAA-AFBC-6DBEEA58AAE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Точкова двойка (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S-</a:t>
            </a: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израз)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Определение: всеки атом е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S-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израз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; ако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Y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са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-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изрази, то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X.Y)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е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-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израз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 – 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глава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Y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опашк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Конструира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cons &lt;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глава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&gt; &lt;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опашка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&gt;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Пример: 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&gt;(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cons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 1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    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(1.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Достъп до частите на точковата двой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car &lt;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точкова двойка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&gt;)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Пример: 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&gt;(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car ‘(1.2)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first)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(cdr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&lt;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точкова двойка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&gt;)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Пример: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&gt;(cdr ‘(1.2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rest)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78043-36EF-43A3-BEE5-7467ACDE988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Списъц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Съставен обект, вграден в Лисп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 a1 (cons a2 … (cons an nil) … 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a1.(a2. … .(an.nil) … ))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означаваме с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a1 a2 … a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разен списък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()=nil=#f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Конструиран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list </a:t>
            </a: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&lt;елемент_1&gt; &lt;елемент_2&gt; ...)</a:t>
            </a: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римери: 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&gt;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list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 1 2 3)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&gt;(list 1 ‘(2 3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    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(1 2 3)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1 (2 3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cons &lt;</a:t>
            </a: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глава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&gt; &lt;</a:t>
            </a: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опашка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&gt;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римери: 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&gt;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cons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 1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‘(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)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&gt;(cons ‘(1 2) ‘(3 4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append  &lt;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списък1&gt; &lt;списък2&gt;)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    (1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2)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(1 2) 3 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Достъп до частите на списъ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car &lt;</a:t>
            </a: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списък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&gt;)</a:t>
            </a: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ример: 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&gt;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car ‘(1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2)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)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&gt;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car ‘((1 2) (3 4)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first)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1 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cdr</a:t>
            </a: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&lt; </a:t>
            </a: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списък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&gt;)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ример: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&gt;(cdr ‘(1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2))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&gt;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cdr ‘((1 2) (3 4)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rest)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2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(3 4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st)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4A4B9-D401-44EA-BEE3-CD4A7ECBA29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Списъци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Пример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99"/>
                </a:solidFill>
                <a:latin typeface="Arial"/>
              </a:rPr>
              <a:t>&gt;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(car ‘</a:t>
            </a:r>
            <a:r>
              <a:rPr b="0" lang="bg-BG" sz="2800" spc="-1" strike="noStrike">
                <a:solidFill>
                  <a:srgbClr val="ffff99"/>
                </a:solidFill>
                <a:latin typeface="Arial"/>
              </a:rPr>
              <a:t>а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bg-BG" sz="2800" spc="-1" strike="noStrike">
                <a:solidFill>
                  <a:srgbClr val="ffff99"/>
                </a:solidFill>
                <a:latin typeface="Arial"/>
              </a:rPr>
              <a:t>&gt;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(car ‘())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bg-BG" sz="2800" spc="-1" strike="noStrike">
                <a:solidFill>
                  <a:srgbClr val="ffff99"/>
                </a:solidFill>
                <a:latin typeface="Arial"/>
              </a:rPr>
              <a:t>&gt;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(car ‘(a))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error 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error/nil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99"/>
                </a:solidFill>
                <a:latin typeface="Arial"/>
              </a:rPr>
              <a:t>&gt;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(cdr ‘</a:t>
            </a:r>
            <a:r>
              <a:rPr b="0" lang="bg-BG" sz="2800" spc="-1" strike="noStrike">
                <a:solidFill>
                  <a:srgbClr val="ffff99"/>
                </a:solidFill>
                <a:latin typeface="Arial"/>
              </a:rPr>
              <a:t>а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bg-BG" sz="2800" spc="-1" strike="noStrike">
                <a:solidFill>
                  <a:srgbClr val="ffff99"/>
                </a:solidFill>
                <a:latin typeface="Arial"/>
              </a:rPr>
              <a:t>&gt;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(cdr ‘())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bg-BG" sz="2800" spc="-1" strike="noStrike">
                <a:solidFill>
                  <a:srgbClr val="ffff99"/>
                </a:solidFill>
                <a:latin typeface="Arial"/>
              </a:rPr>
              <a:t>&gt;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(cdr ‘(a))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error 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error/()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(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gt;(cons ‘a ‘()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gt;(cons’() ‘(a b)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() a b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00AEC-ED8C-40C9-A5AE-7CE31325433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Обработка </a:t>
            </a:r>
            <a:br>
              <a:rPr sz="3900"/>
            </a:b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на списъц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724280" y="380880"/>
            <a:ext cx="46483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Броя на атомите в списъ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define (br_a 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cond ((null? l) 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(atom? l) 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else (+ (br_a (car l) (br_a (cdr l))))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Сума на елементите на списъ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роизведение на елементите на списъ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овдигане на квадрат на елементите на списъ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Всеки елемент на списъка да се увеличи с 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Списък от простите числа от списъ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Списък от числата на Фибоначи от списъ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1905120"/>
            <a:ext cx="45720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разен списък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[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]=nil=#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Основни алгорит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Броя на елементите на списъ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define (length 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if (null? l)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+ 1 (length (cdr l)))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-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ти елемент на списъ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define (n_el n 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if (= n 1) (car 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 n_el (- n 1) (cdr l))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41A3D-E0B7-4357-831F-F8C4B6B2794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ЗАДАЧ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Задача 1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500" spc="-1" strike="noStrike">
                <a:solidFill>
                  <a:srgbClr val="ffffff"/>
                </a:solidFill>
                <a:latin typeface="Arial"/>
              </a:rPr>
              <a:t>Конструирайте списъка (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((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))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bg-BG" sz="2500" spc="-1" strike="noStrike">
                <a:solidFill>
                  <a:srgbClr val="ffffff"/>
                </a:solidFill>
                <a:latin typeface="Arial"/>
              </a:rPr>
              <a:t>чрез: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i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Задача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500" spc="-1" strike="noStrike">
                <a:solidFill>
                  <a:srgbClr val="ffffff"/>
                </a:solidFill>
                <a:latin typeface="Arial"/>
              </a:rPr>
              <a:t>Извлечете от списъка ((3 4) ((5)) 2):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(3 4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(5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7A356-817C-4BE9-998F-48CAEA33572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ТЕСТ 7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Кое е вярно за Лисп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a. кода представлява дефиниране на променливи и функции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b. притежават оператори за присвояване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c. повторенията се реализират чрез цикли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d. кода и данните имат еднакво представяне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Кой е механизма на работа на Лисп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a. механизъм на възврат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b. оценяване-отпечатване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c. метод на резолюцията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d. четене-оценяване-отпечатване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e. функционален механизъм на Лисп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Колко аргумента може да има умножението в Лисп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a. поне 1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b. точно 2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c. произволен брой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d. поне 2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Какъв вид запис се използва в Лисп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a. префиксен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b. постфиксен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c. инфиксен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738AD-6BBE-4C35-8632-9769C0B366A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Отговори на Тест 7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Кое не е вид списък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a. специална форма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b. комбинация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3300"/>
                </a:solidFill>
                <a:latin typeface="Arial"/>
              </a:rPr>
              <a:t>c. атом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Кое не е списък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a. празен списък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b. специална форма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c. примитивна функция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3300"/>
                </a:solidFill>
                <a:latin typeface="Arial"/>
              </a:rPr>
              <a:t>d. няма такова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e. комбинация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Кое не е вярно за Лисп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a. повторенията се реализират чрез рекурсия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b. може да се променя синтаксиса на функциите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c. може да се променя семантиката на функциите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3300"/>
                </a:solidFill>
                <a:latin typeface="Arial"/>
              </a:rPr>
              <a:t>d. реализира се само чрез интерпретатори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B48EA-B82E-444A-BCDA-B3782DB9FA7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Отговори на Тест 7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Кое е вярно за Лисп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a. кода представлява дефиниране на променливи и функции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b. притежават оператори за присвояване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c. повторенията се реализират чрез цикли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3300"/>
                </a:solidFill>
                <a:latin typeface="Arial"/>
              </a:rPr>
              <a:t>d. кода и данните имат еднакво представяне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Кой е механизма на работа на Лисп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a. механизъм на възврат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b. оценяване-отпечатване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c. метод на резолюцията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3300"/>
                </a:solidFill>
                <a:latin typeface="Arial"/>
              </a:rPr>
              <a:t>d. четене-оценяване-отпечатване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e. функционален механизъм на Лисп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Колко аргумента може да има умножението в Лисп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a. поне 1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b. точно 2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3300"/>
                </a:solidFill>
                <a:latin typeface="Arial"/>
              </a:rPr>
              <a:t>c. произволен брой</a:t>
            </a: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d. поне 2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Какъв вид запис се използва в Лисп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3300"/>
                </a:solidFill>
                <a:latin typeface="Arial"/>
              </a:rPr>
              <a:t>a. префиксен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b. постфиксен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c. инфиксен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E16E6-10FD-4CF0-9DD7-B6FB881DB7C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Специални форми. Списъц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Предикатни функ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Специални форми. Пример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Точкова двой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Списъц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Обработка на списъц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4D104-E6D6-44A7-A5CA-979C89E2694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Предикатни функци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47920" y="1523520"/>
            <a:ext cx="769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Определение – функции, връщащи логическа стойнос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eq?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arg1 arg2)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– резултата е #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, ако аргументите са еднакви атоми,иначе връща 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&gt;(eq? ‘a ‘a)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&gt;(eq? ‘a ‘b)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&gt;(eq? ‘a ‘(a b))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#t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)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&gt;(eq? ‘(a b) ‘(a b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) 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или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#t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(list? arg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– резултата е #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, ако аргумента е списъ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&gt;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list? ‘(x y))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&gt;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list? ‘x)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&gt;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list? ‘(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#t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)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#t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(null? arg)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– резултата е #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, ако аргумента е празен списъ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&gt;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null? ‘(x y))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&gt;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null? ‘())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&gt;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null? ‘x)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&gt;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null? ‘(()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)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#t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)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)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3474F-47A7-41EB-AF06-AEE2EB7125B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3520" y="45720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Предикатни функци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47920" y="1523520"/>
            <a:ext cx="769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=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&lt;&gt;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&gt;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&lt;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&gt;=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&lt;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even?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– проверява дали аргумента е четно числ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odd?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 – проверява дали аргумента е нечетно числ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zero?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– проверява дали аргумента е нул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chem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eq?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еквивалентност при символни дан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=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еквивалентност при числови дан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eqv?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еквивалентност при символни и числови дан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Функции за изход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(display 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&lt;израз&gt;)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отпечатва на екра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newline)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нов ре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9965D-C0CF-48B8-A75C-9EEDDEBD349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Специални форми. Пример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ote –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връща неоценения обек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quote </a:t>
            </a:r>
            <a:r>
              <a:rPr b="0" i="1" lang="en-US" sz="2000" spc="-1" strike="noStrike">
                <a:solidFill>
                  <a:srgbClr val="ff9900"/>
                </a:solidFill>
                <a:latin typeface="Arial"/>
              </a:rPr>
              <a:t>exp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&gt;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quote (1 2 3))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&gt;‘(1 2 3)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&gt;’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(1 2 3)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(1 2 3)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al –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връща като резултат оценения изра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Универсална функция, която може да оцени всяка друга функция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바탕"/>
                <a:ea typeface="바탕"/>
              </a:rPr>
              <a:t>⇒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може да се</a:t>
            </a:r>
            <a:r>
              <a:rPr b="0" lang="en-US" sz="2000" spc="-1" strike="noStrike">
                <a:solidFill>
                  <a:srgbClr val="ffffff"/>
                </a:solidFill>
                <a:latin typeface="바탕"/>
                <a:ea typeface="바탕"/>
              </a:rPr>
              <a:t>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използва като интерпретатор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cCarthy, 1965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eval </a:t>
            </a:r>
            <a:r>
              <a:rPr b="0" i="1" lang="en-US" sz="2000" spc="-1" strike="noStrike">
                <a:solidFill>
                  <a:srgbClr val="ff9900"/>
                </a:solidFill>
                <a:latin typeface="Arial"/>
              </a:rPr>
              <a:t>exp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&gt;(set 'expr '(+ 3 4))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&gt;(set 'y 12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+ 3 4)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&gt;(set 'x '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&gt;(eval expr)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&gt;x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7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&gt;(eval (list + 3 4))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&gt;(eval x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7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123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&gt;(eval ''x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3667C-13B1-4763-BAAA-95EBE93895A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Специални форми. Пример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d –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оценява условен_израз_1, ако е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lse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се оценява условен_израз_2 и т. н. докато се получи оценка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ue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. След това се оценява съответния списък от изрази и получената оценка се връща като оценка на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d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-израза. Оценката на списък от изрази е оценката на последния израз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Ако никои условен израз не е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ue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се връща оценката на списъка от изрази след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se.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9900"/>
                </a:solidFill>
                <a:latin typeface="Arial"/>
              </a:rPr>
              <a:t>(cond </a:t>
            </a:r>
            <a:r>
              <a:rPr b="0" lang="bg-BG" sz="1900" spc="-1" strike="noStrike">
                <a:solidFill>
                  <a:srgbClr val="ff9900"/>
                </a:solidFill>
                <a:latin typeface="Arial"/>
              </a:rPr>
              <a:t>(&lt;условен_израз_1&gt; &lt;списък_от_изрази_1&gt;)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Пример: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ffff99"/>
                </a:solidFill>
                <a:latin typeface="Arial"/>
              </a:rPr>
              <a:t>(cond ((&gt; x 0) x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1900" spc="-1" strike="noStrike">
                <a:solidFill>
                  <a:srgbClr val="ff9900"/>
                </a:solidFill>
                <a:latin typeface="Arial"/>
              </a:rPr>
              <a:t>(&lt;условен_израз_2&gt; &lt;списък_от_изрази_2&gt;)</a:t>
            </a:r>
            <a:r>
              <a:rPr b="0" lang="en-US" sz="19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99"/>
                </a:solidFill>
                <a:latin typeface="Arial"/>
              </a:rPr>
              <a:t>((&lt; x 0) (- 0 x)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1900" spc="-1" strike="noStrike">
                <a:solidFill>
                  <a:srgbClr val="ff9900"/>
                </a:solidFill>
                <a:latin typeface="Arial"/>
              </a:rPr>
              <a:t>...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99"/>
                </a:solidFill>
                <a:latin typeface="Arial"/>
              </a:rPr>
              <a:t>(else 0)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1900" spc="-1" strike="noStrike">
                <a:solidFill>
                  <a:srgbClr val="ff9900"/>
                </a:solidFill>
                <a:latin typeface="Arial"/>
              </a:rPr>
              <a:t>(</a:t>
            </a:r>
            <a:r>
              <a:rPr b="0" lang="en-US" sz="1900" spc="-1" strike="noStrike">
                <a:solidFill>
                  <a:srgbClr val="ff9900"/>
                </a:solidFill>
                <a:latin typeface="Arial"/>
              </a:rPr>
              <a:t>else</a:t>
            </a:r>
            <a:r>
              <a:rPr b="0" lang="bg-BG" sz="1900" spc="-1" strike="noStrike">
                <a:solidFill>
                  <a:srgbClr val="ff9900"/>
                </a:solidFill>
                <a:latin typeface="Arial"/>
              </a:rPr>
              <a:t> &lt;списък_от_изрази&gt;)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– оценява се условен_израз и ако е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ue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се получава като оценка на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-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израза оценката на израз_1, иначе се получава оценката на израз_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If</a:t>
            </a: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 &lt;условен_израз&gt; &lt;израз_1&gt; &lt;израз_2&gt;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ример: 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if (&gt; x 0) 1 -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9B194-7385-46F3-996D-6A758644C4A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4T11:54:40Z</dcterms:created>
  <dc:creator>Elena Somova</dc:creator>
  <dc:description/>
  <dc:language>en-US</dc:language>
  <cp:lastModifiedBy>presentation</cp:lastModifiedBy>
  <dcterms:modified xsi:type="dcterms:W3CDTF">2007-11-16T07:44:46Z</dcterms:modified>
  <cp:revision>156</cp:revision>
  <dc:subject/>
  <dc:title>Функционално програмиране</dc:title>
</cp:coreProperties>
</file>