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E4EE-5596-42C1-866E-D7BA0808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AD4F-7DDE-4BF9-A3FA-6FB24A6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5515-5365-42B5-8B66-5D0608DB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798C-13C3-4A5F-A124-6F40E655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7D41-BB6E-489A-B6DD-BC47FD4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C7D2-A5B8-4439-B9C0-9D64A52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ABA4-6F87-45DC-8D03-A57F6A1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9EDB-0653-45E1-A07E-F0CC2CB0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F7F-F398-4F98-9613-F04B6E3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A30-E1E5-4C96-A70C-B6CB68F0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3684-965E-49F9-9E9B-3F3DDB1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6EEA-5EA2-4E11-A98B-B6135DD9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0E97-3345-44AE-AC88-1ED293D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8C84-FA92-4572-9A99-F32BC6B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CE6D-3C0E-4E31-BE2D-1FCC8FCF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BB1A-026E-46C6-9F75-8E0DF3E3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E548-3F1C-4115-BD37-D9338771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8A68-6352-444E-8CD2-37226D78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A535-E1C5-4524-A197-F95D9B4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FCA7-B8F1-48A6-887E-D5FFEAB9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654A-F1A4-4850-B371-DB19574E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1DA6-101A-4CCA-911F-53BDD4B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65C6-601F-48B4-A962-572DA08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5F16-5463-46A4-9C62-23B9499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0070-32A0-4E3A-9FA0-4F86DB39DE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C9C1-F5C8-4F42-B14D-B6E794CC9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модел за оценяване на функциите е по-добъ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апликативен моде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ормален модел на замества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еднакво добри 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алгоритъм е по-добър: дървовидна рекурсия или линейна итера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и двата са еднакво доб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дървовидна рекурс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линейн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ложените умножения са специфика на кой проце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на линейнат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а линейната рекурс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и при дв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F912-2079-4D45-83B2-DFED90CAFB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ulate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a b) nullval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item a) (accumulate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ulate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accum-iter i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accum-iter (next i) (oper s (item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accum-iter a nullva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 a item b next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+ 0 a item b n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oduct a item b next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* 1 a item b n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BFC9-F550-4464-8B57-733C74323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accum pred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&gt; a b) null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 (item a)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item a) (filter-accum pred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-accum pred oper nullval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accum pred oper nullval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filter-iter i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&gt; i b)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 (item a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filter-iter (next i) (oper s (item i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-iter (next i) s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filter-iter a nullva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) Сума на четните числа от а до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) Произведение на простите числа от а до в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0022-2AF0-4B5E-9720-652FB8A78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ърсене на елемент в реди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a), …, f(b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 релация 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found rel x a item b next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cond ((&gt; a b) #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(rel (item a) x) #t)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else (found rel x (next a) item b next)))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7714-BA0E-4CEF-AC73-FF27CA8B4E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m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(car l) (sum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едение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car l) (product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ccumulate oper nullval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null? l) null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oper (car l) (accumulate oper nullval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 = {+, *, cons, append, …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m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cumulate + 0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duct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ccumulate * 1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ACF5-9B14-4E94-91FE-AA095FD9A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дигане на квадрат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quar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(square (car l)) (square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ки елемент на списъка да се увеличи с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+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(1+ (car l)) (1+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ap f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null? l) ‘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s (f (car l)) (map f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quar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p square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+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p 1+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A55C-2C07-422B-8540-ED5864DE22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простите числа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im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prime? (car l)) (cons (car l) (prime_list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prime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числата на Фибоначи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b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fib? (car l)) (cons (car l) (fib_list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fib_list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lter pred?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ond ((null? l)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(pred? (car l)) (cons (car l) (filter pred?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lse (filter pred?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ime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lter prime?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b_list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lter fib? l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334120"/>
            <a:ext cx="3581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та от кубовете на четните числа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sum3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ccumulate + 0 (map cube (filter even?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AF45-D30E-4819-B334-311D0ED40D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ефиниране на процедура “анонимно”, т. е. без да се свързва с 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нтакси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&lt;формални параметри&gt;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тяло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ка: същата е ка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изразите, разликата е, че няма свързване с 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mbda (e) (car (cdr 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lambda (e) (car (cdr e))) ‘(a b c)) e –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свързана промен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sum1 a 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1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term 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(lambda (x) (* x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x x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ext 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mbda (x) (+ x 1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x 1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term a next 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CDA4-2D1E-421A-89B1-7C020AA991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место име на процедура им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ме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формален параметър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ме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формални параметри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яло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Като оператор в комбин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ambda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... 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&gt;)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яло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...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&gt;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619D-419A-45D2-A271-55C2EA268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ременно свързване на променливи с оценките на изр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вързването на променливите с изразите става е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а 5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 ((a 7)) (* 5 a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바탕"/>
                <a:ea typeface="바탕"/>
              </a:rPr>
              <a:t>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lambda (a) (* 5 a)) 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*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a b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A14D-38DE-47BD-B8AF-80FCAE43AC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 реализиране на влож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израз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1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пром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 &lt;израз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_n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тяло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не – оценява се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се свързва с п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т. н. Ако при оценяването на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2, в него се среща п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то се използва вече свързаната с нея оценка на изра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1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т. 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 ((x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x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* x 2))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* x 2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let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z (+ x y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z (+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x y z)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   (+ x y z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B7CD-A9EE-4535-B8B3-F16F926AA2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формален параметър на вложена дефиниция да съвпада с името на формалния параметър на външната дефиниц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вложената функция да е същото като на външната процедур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во представлява бл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ложени дефин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ложени дефиниции +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задължително за една рекурсия за да не се зацикл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рекурсивното извикване да е с променени параме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 не се пишат две рекурсивни извик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условие за кр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5535-5F29-4A7F-A366-CB218E8FA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Функции като връщани стойно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=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(x)=3*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(x)=(f(x+dx)-f(x))/dx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изволно достатъчно малко чи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bda (x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 се знае коя функция се получ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(+ x dx)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резулт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(derive f dx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цедура намираща производн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bda (x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(+ x d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((derive cube 0.001) 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.0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2193-D762-4EFF-8646-17C2C92A98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Напишете функция от по-висок ред за изчисляване сумата на квадратите на четните числа от 1 до 100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Напишете функция от по-висок ред за изчисляване на произведението на елементите на списъка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, които са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&lt;50 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и &gt;10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E125-D62A-410B-AE8F-87764FECA6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модел за оценяване на функциите е по-добър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a. апликативен моде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нормален модел на замества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еднакво добри 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Кой алгоритъм е по-добър: дървовидна рекурсия или линейна итерац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и двата са еднакво добр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b. дървовидна рекурс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c. линейн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ложените умножения са специфика на кой проце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a. на линейната итерац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3300"/>
                </a:solidFill>
                <a:latin typeface="Arial"/>
              </a:rPr>
              <a:t>b. на линейната рекурс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c. и при дв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61B2-EBAF-402C-8098-4BBDC110FF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9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формален параметър на вложена дефиниция да съвпада с името на формалния параметър на външната дефиниц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името на вложената функция да същото като на външната процедур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во представлява блок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ложени дефини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c. вложени дефиниции + тяло на външна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задължително за една рекурсия за да не се зацикл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рекурсивното извикване да е с променени параме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да не се пишат две рекурсивни извик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3300"/>
                </a:solidFill>
                <a:latin typeface="Arial"/>
              </a:rPr>
              <a:t>c. условие за кр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90F-96C4-4922-94EC-8E244E98CC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пределение и видо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амбда израз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окални променли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ункции като връщани стой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8480-0B0E-4150-8ABE-0FEFF58F1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Определение и видо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пределение: Функция, чийто параметър е функци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ли връща като стойност функция или и двете (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unctional form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Вид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мпозиция на функции – резултата е едната функцията, приложена върху резултата на другата функцията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в оригиналния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sp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(x)=x+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(x)=3*x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h(x)=f(g(x))=(3*x)+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dr (cdr ‘(a b c)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нструкция – приема като параметър списък от функции, тези функции се прилагат към аргумента и резултатите се връщат като списък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(x)=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(x)=2*x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(x)=x/2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[g, h, f] (4) -&gt; (16, 8, 2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илагане – приема като параметър една функция и се прилага към списък с аргументи, като резултата от прилагането се връща в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(x)=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666699"/>
                </a:solidFill>
                <a:latin typeface="Arial"/>
                <a:ea typeface="Arial"/>
              </a:rPr>
              <a:t>α</a:t>
            </a:r>
            <a:r>
              <a:rPr b="0" lang="en-US" sz="1900" spc="-1" strike="noStrike">
                <a:solidFill>
                  <a:srgbClr val="666699"/>
                </a:solidFill>
                <a:latin typeface="Arial"/>
              </a:rPr>
              <a:t>(h, (2, 3, 4)) -&gt; (4, 9, 16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cheme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define (mapcar fun li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ond ((null? Lis) ‘(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else (cons (fun (car lis)) (mapcar fun (cdr lis))))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&gt;(mapcar (lambda (x) (* x x)) ‘(1 2 3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1 4 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CA71-4FF2-4749-8DA1-CB51FD16F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1) а+(а+1)+...+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(a+2)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…+b</a:t>
            </a:r>
            <a:r>
              <a:rPr b="0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um1 a b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um2 a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f (&gt; a b) 0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if (&gt; a b)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+ a (sum1 (+ a 1) b))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(+ (cube a) (sum2 (+ a 2) b)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efine (sum a item b next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if (&gt; a b) 0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+ (item a) (sum (next a) item b next)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) (define (sum1 a b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) (define (sum2 a 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um a id b +1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um a cube b +2)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дача: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а*(а+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+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(а+4)*(а+6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+ ... + 1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*(b+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549F-DD01-4341-85CA-D08C89A519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1) а+(а+1)+...+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 a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+(a+2)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+…+b</a:t>
            </a:r>
            <a:r>
              <a:rPr b="0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1 a b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2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-iter1 i s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sum-iter2 i s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&gt; i b)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1 (+ i 1) (+ s i))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2 (+ i 2) (+ s (cube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1 a 0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-iter2 a 0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sum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sum-iter i s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um-iter (next i) (+ s (item i))))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um-iter a 0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) (define (sum1 a 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 (define (sum2 a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a id b +1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um a cube b +2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1/(а*(а+2) + 1/(а+4)*(а+6) + ... + 1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*(b+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5503-C4F9-491C-8A1B-715100E8F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еализиране на функции от по-висок ред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(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*…*f(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 a item b next)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a b) 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* (item a) (product (next a) item b next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 a item b nex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define (product-iter i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if (&gt; i b) 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product-iter (next i) (* p (item i)))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product-item a 1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) 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fact n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id x)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oduct 1 id n 1+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7CA4-07A0-4B82-B045-1C8FBDEC38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30T08:21:34Z</dcterms:modified>
  <cp:revision>159</cp:revision>
  <dc:subject/>
  <dc:title>Функционално програмиране</dc:title>
</cp:coreProperties>
</file>