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4A86-3DE0-4B75-807F-D9156511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3B47-0CAB-456E-B0D8-B452D25B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1584-8C4A-40A9-B2CF-D3F90EB1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55D3-5453-4155-98AC-32EFE166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0D15-5590-4EAC-B30B-E9EAF414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4C6E-BDCD-4E61-B9FE-3D83D6CD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51CA-0E2B-4A28-A656-099BA13E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A12B-53AC-4E4D-8B67-3A78DF70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D81F-8DFB-4ED3-A4B5-8A8FED30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89EF-35A0-4E4B-90A2-F5AFA2C6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88F9-FC0B-4021-B745-118504B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503CE-CEBD-41DA-A0DE-FB03DED8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1B4F-BF0D-4ADE-B552-BA9ABAC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6FA9-4A5E-4959-B2C9-A9931B9F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C9FD-E5B0-473D-B02B-3186AFE3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C80D-4CF8-4F99-95D9-A8297948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0709-7202-4341-8651-85F2959F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C695-F274-4F01-BA96-767969ED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690D1-160C-40D4-9EA5-B490FA9B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B5DA-135C-4FE1-B988-DFE5BCFE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BABF-4838-4926-803B-AF3F003A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14A9-5B3A-48A4-BBFC-996F342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2059-0767-4262-B2D0-750C11A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5C02-F705-4116-8440-4C0BF9A2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8F82-1A63-423C-964D-A392C290F1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6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9E83-1F54-49FB-BF65-D82596EEC3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2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не е функция от по-висок ред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има параметър функция и/или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има параметър списъ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нито една н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e. всич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а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f. има параметър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 се реализират функциите като връщани стойност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чрез функции от по-висок 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чрез предикат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чрез lambda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За какво не се използват lambda-изразит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за дефиниране на аноним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за реализиране на рекур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за връщане на функции като стойности на друг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за дефиниране на локални променли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6EAD-72B4-4CC7-896C-5B587752F9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ационални числа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ато точкова двойка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, q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make_rat n 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ons n d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umber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r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denom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dr 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+rat x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make_rat (+ (* (numer x) (denom y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(denom x) (numer y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* (denom x) (denom y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Конструктор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оцедура за конструиране на съставна структура от примитивни структу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Селектор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– процедура за извличане на компонентите на съставна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A69C-348B-4EA0-BD35-69F2A3C32D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воично дърво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ато списък 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ot left right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make_tree root left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ist root left right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root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r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left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dr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right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ddr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leaf? tre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and (null? (left tre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null? (right tree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7716-8878-4C68-B65E-29B95CBE6C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пашка 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като списък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first-ptr last-pt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q (make-queu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insert-queue! q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1)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insert-queue! q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1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insert-queue! q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1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2 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lete-queue! 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2 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A3C1-7FE2-4191-A571-27E0D20749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first-ptr 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ar queu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last-ptr 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dr queu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et-first-ptr! queue i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et-car! queue item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set-last-ptr! queue i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set-cdr! queue item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empty-queue? 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null? (first-ptr queue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fine (make-que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ons nil nil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34BA-E461-4CD5-AFB6-02B8AF3CF3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insert-queue! queue it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et ((new-pair (cons item nill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first-ptr! queue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last-ptr! queue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cdr! (first-ptr queue)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last-ptr! queue new-pai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eue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delete-queue!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rror “deleting an element from an empty queue”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first-ptr! queue (cdr (first-ptr queu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eu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AA30-2850-4248-8E69-E318D96797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print-queue!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 (princ “  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inc (first queue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inc “  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print-queue! (delete-queue! queue)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first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error “first is called for an empty queue”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car (first-ptr queue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print-queue que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empty-queue? queue) (princ “  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first-ptr queue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3B64-0E84-4D66-BD6B-7A086F2FF9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Чрез разрушаващите функции от списъка (1 2 3 4) получете списъка ((3 5) 7 8 9), а след това списъка ((3 5) (1 2) 8 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Задача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дставете по подходящ начин комплексното число в Лисп, заедно с операциите за конструиране, извличане на частите от числото, събиране и изважда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942A-6AD0-464C-B1D3-828BEF5211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структура от данни не може да се представи на Лисп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опашк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граф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двоично дърв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d. няма така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При реализиране на съставна структура от данни трябва да се дефинира функция-селектор з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конструиране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осъществяване достъп до съставните части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преодоляване проблеми с зацикляне при използване на структурата в рекурсивни 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ва е основната разлика между разрушаващите функции и обикновените функц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разрушаващите функции се реализират като lambda-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обикновените функции не могат да се реализират като 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обикновените функции връщат нова стойност, докато разрушаващите променят някоя съществуваща стойност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1695-EA1B-4C0E-9A4F-EC51A89451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главата на списък да се промени без да се налага използването на нов списък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съдържанието на гла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да се реализират операции над съставна структура без да има функция-конструктор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По кой модел се оценяват разрушаващите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по нормалния модел на замес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и по д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 апликативния моде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е резултата от оценката на x, ак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x е свързана с (1 2 3) и (set-cdr! (cdr 'x) '(4 5)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(1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(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(1 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(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7FD7-A205-45E4-B609-E240166F67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структура от данни не може да се представи на Лисп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опашк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граф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двоично дърв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3300"/>
                </a:solidFill>
                <a:latin typeface="Arial"/>
              </a:rPr>
              <a:t>d. няма така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При реализиране на съставна структура от данни трябва да се дефинира функция-селектор з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конструиране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3300"/>
                </a:solidFill>
                <a:latin typeface="Arial"/>
              </a:rPr>
              <a:t>b. осъществяване достъп до съставните части на структура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c. преодоляване проблеми с зацикляне при използване на структурата в рекурсивни 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ва е основната разлика между разрушаващите функции и обикновените функц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a. разрушаващите функции се реализират като lambda-функц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b. обикновените функции не могат да се реализират като 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3300"/>
                </a:solidFill>
                <a:latin typeface="Arial"/>
              </a:rPr>
              <a:t>c. обикновените функции връщат нова стойност, докато разрушаващите променят някоя съществуваща стойност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11DB-8738-4A3D-A7AC-A005A48AC8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предимство на функциите от по-висок ред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реализират се по-лес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ямат им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решават цял клас от задач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Чрез кой израз не могат да се реализират локални променливи?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l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ev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lambd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let*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вложените дефиниции да се реализират чрез lambda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само, ако те са дефинирани в let-израз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let-израз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 могат да променят смисъла на символите за аритметични пресмят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менливите се свързват последовател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роменливите се свързват едновремен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1C11E-0625-4E44-8945-2EB5B2A63E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главата на списък да се промени без да се налага използването на нов списък?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съдържанието на гла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да се реализират операции над съставна структура без да има функция-конструктор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зависи от реализацията на Лисп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По кой модел се оценяват разрушаващите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a. по нормалния модел на замества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и по дват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по апликативния моде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акъв е резултата от оценката на x, ак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x е свързана с (1 2 3) и (set-cdr! (cdr 'x) '(4 5)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(1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(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(1 2 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(4 5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BB5C-8AD0-42A5-981B-AD3A219C57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ЗАКЛЮЧИТЕЛЕН ТЕС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Изпълниха ли се Вашите очаквания от дисциплина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акво още бихте желали по отношение на материала и преподаване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Други комента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аква оценка ще поставите за лекци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аква оценка ще поставите за упражнения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А за Вашите знания до мо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0BF9-6375-4FE0-90C1-4C727810E7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БЛАГОДАРЯ В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ЗА ВНИМАНИЕТО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2507-24F4-4224-A7D5-7EBB88CA08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оя не е функция от по-висок ред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има параметър функция и/или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b. има параметър списъ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връща като стойност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нито една не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e. всички се 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функции от по-висок ред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f. има параметър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Как се реализират функциите като връщани стойност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чрез функции от по-висок 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b. чрез предикат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c. чрез lambda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За какво не се използват lambda-изразит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a. за дефиниране на анонимн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Arial"/>
              </a:rPr>
              <a:t>b. за реализиране на рекур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c. за връщане на функции като стойности на други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d. за дефиниране на локални променли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339F-3EB7-471D-9191-5C706D10AC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Отговори на Тест 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предимство на функциите от по-висок ред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реализират се по-лесно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нямат им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решават цял клас от задач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Чрез кой израз не могат да се реализират локални променливи?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l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ev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lambd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d. let*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Може ли вложените дефиниции да се реализират чрез lambda функци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b. да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c. само, ако те са дефинирани в let-израз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bg-BG" sz="1600" spc="-1" strike="noStrike">
                <a:solidFill>
                  <a:srgbClr val="ffffff"/>
                </a:solidFill>
                <a:latin typeface="Arial"/>
              </a:rPr>
              <a:t> Кое е вярно за let-израза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a. не могат да променят смисъла на символите за аритметични пресмятани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ffff"/>
                </a:solidFill>
                <a:latin typeface="Arial"/>
              </a:rPr>
              <a:t>b. променливите се свързват последовател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3300"/>
                </a:solidFill>
                <a:latin typeface="Arial"/>
              </a:rPr>
              <a:t>c. променливите се свързват едновременно със стойнос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E52F-D81B-4D92-9332-05B995B08E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. Съставни структур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едставяне на съставни структу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7309C-4384-465A-B098-0E001650DA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set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пром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 &l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израз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&gt;</a:t>
            </a:r>
            <a:r>
              <a:rPr b="0" lang="bg-BG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ценява се израза. Резултата от оценяването зависи от реализацията. По стандарт е неопределен. Като страничен ефект се разрушава съществуващата връзка на името с обект и се създава нова връзка с оценката на израза. Името трябва да е свързано преди обръщението къ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define x 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! x (+ x 5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(set! a 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азрушаващите процедури не могат да се оценяват чрез апликативния мо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2DFE-F284-4682-B4B8-D265A8B20F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e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зраз с оценка точкова двой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е произволен из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set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ar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x y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ценяват се изразите х и у. Резултата от оценяването е неопределен. Като страничен ефект главата на х се разрушава и се заменя с у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x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‘(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 c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set-car! x 1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1 b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57B9-4FD4-4692-8E0E-C1D4A357BF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900" spc="-1" strike="noStrike">
                <a:solidFill>
                  <a:srgbClr val="ffffff"/>
                </a:solidFill>
                <a:latin typeface="Arial"/>
              </a:rPr>
              <a:t>Разрушаващи функ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set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dr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x y </a:t>
            </a:r>
            <a:r>
              <a:rPr b="0" lang="bg-BG" sz="2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ценяват се изразите х и у. Резултата от оценяването е неопределен. Като страничен ефект опашката на х се разрушава и се заменя с у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x 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‘((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c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0" lang="bg-BG" sz="24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define y ‘(e 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(set-cdr! x y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&gt;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(a b) e 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C537-B520-45C4-930E-946B1D0341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38320" y="1371600"/>
            <a:ext cx="4038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Разрушаващи процеду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520" y="304560"/>
            <a:ext cx="7620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а: Реализация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end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като резултата се връща в първия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ppend! x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set-cdr! (last x)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x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last 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null? (cdr x))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last (cdr x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дача: изключване 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ия елемент на списъ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fine (delete! l 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= n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(set! l (cdr l))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begin (set-cdr! (n_sub_list (- n 1) l) (cdr (n_sub_list n l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define (n_sub_list n 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if (= n 1)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(n_sub_list (- n 1) (cdr l))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872E-8795-493A-8287-6A2317DB48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54:40Z</dcterms:created>
  <dc:creator>Elena Somova</dc:creator>
  <dc:description/>
  <dc:language>en-US</dc:language>
  <cp:lastModifiedBy>Presentation</cp:lastModifiedBy>
  <dcterms:modified xsi:type="dcterms:W3CDTF">2007-12-07T08:01:19Z</dcterms:modified>
  <cp:revision>160</cp:revision>
  <dc:subject/>
  <dc:title>Функционално програмиране</dc:title>
</cp:coreProperties>
</file>