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605-8391-45A3-94B4-66B39C8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2F0-887D-455E-BE87-BBB274C3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460-322A-47A3-8014-470518FF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3A1-B3F0-4AAB-BE7D-87CD4C9B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B486-3DCA-41A8-AA07-0A557292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057F-D54C-4C56-A98D-BB841D50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B80C-9267-43AF-B807-7EB648A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B3B9-1BFD-4D85-9CB5-2EF8FAF4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A27F-0095-4FAB-B3E3-6D81F11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B49-04C5-4595-AC10-39BEE9B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A7D8-7C89-483F-B1BC-3B74A62D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DB4-8C44-40AC-AB88-A5446090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89D-03E0-4DB7-87A2-E8BD8B4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B163-B28D-4D48-A648-620F14F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7697-0944-4DE3-AD57-4ED3E27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50D0-FA0C-46F7-B572-A512EDB7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35E3-F224-4F34-8701-821CFFA4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181-9E9B-4AE8-9C5C-40B3078A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8AF-DE34-49CC-9ABC-8223CE7A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CF1-72C5-4D8E-9203-E440F64B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817-C3DA-4C4C-BEDD-F3F7B7B7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61C-D446-4CEA-A998-FD24B9C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3E2-CA61-45F8-A3AC-49DC687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B81-CEC2-4A55-ADC4-21376896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C110-E9D6-4C1A-8E24-92B42C12E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6D91-1966-48B0-8B3F-197D479B10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Логическо и функционално програмира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ц. д-р Елена Со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У “Паисий Хилендарск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. “Компютърна информатик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eledel@pu.acad.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99E-AEBF-4819-A31E-94A54F622B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икатно смятане от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ре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Константат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Променливат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e n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тна функция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, …, t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терми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t1, …, tn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тер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местен предикат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1, …, t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терми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(t1, …, tn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атомарна форму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термите се конструират аргументи на предикати и функции, а чрез предикатите и функциите се изразяват твърд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Атомарната формула е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правилно построена формула (формула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формули, 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G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формул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А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формул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а, 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X(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바탕"/>
              </a:rPr>
              <a:t>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X(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а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формул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Литера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атомарна формула или отрицание на атомарна форм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Свободната променли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променлива без квантор отп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Затворена формул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формула без свободни променл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8C5-FC97-401E-9E81-AEE98FAA7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Ще разглеждаме затворени формули. Чрез еквивалентни преобразования формулите се привеждат в клаузна фор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4f917e"/>
                </a:solidFill>
                <a:latin typeface="Arial"/>
              </a:rPr>
              <a:t>Определение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2100" spc="-1" strike="noStrike">
                <a:solidFill>
                  <a:srgbClr val="4f917e"/>
                </a:solidFill>
                <a:latin typeface="Arial"/>
              </a:rPr>
              <a:t>Клауз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е нарича дизюнкция на краен брой литера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кони за привеждане на дадена формула в клаузна форм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2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омутатив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4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истрибутив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6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 де Морг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войното отриц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 ≡ (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(X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Y(A(Y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a0c6ba"/>
              </a:buClr>
              <a:buSzPct val="90000"/>
              <a:buFont typeface="Batang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X(A(X)) ≡ </a:t>
            </a:r>
            <a:r>
              <a:rPr b="0" lang="bg-BG" sz="21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100" spc="-1" strike="noStrike">
                <a:solidFill>
                  <a:srgbClr val="000000"/>
                </a:solidFill>
                <a:latin typeface="바탕"/>
                <a:ea typeface="바탕"/>
              </a:rPr>
              <a:t>Y(A(Y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420-222E-4BF2-BBDE-6921B3563A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авила за привеждане на дадена формула в клаузна фор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еквивалентности и имплик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8 и 9 зак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(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умен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мен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граничаване на отрицанието (чрез 5, 6, 7, 10 и 11 зак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ени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удент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зделяне на променливите (чрез 11 и 12 закон) – всеки квантор с неизползвана променл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астлив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ъжен(Х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Х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астлив(Х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(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ъжен(У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32C-DFB5-4EE6-96D2-CBC0785A7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лиминиране на квантора за съществу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(a)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ъдето а е съществуващия об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образуване в префиксна фор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,f(X,Y)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,f(X,Y)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ждане в конюнктивна нормална форма (конюнкция от дизюнк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r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a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q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a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p(X,a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(q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квантора за всеобщност – т. к. се разглеждат само затворени формули, всички променливи са свързани с този кван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D91-0C3E-4EC7-8E5E-09298A0CAC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Правила за привеждане в клаузна форм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ключване на конюнкци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1 и 2 закон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. к. реда в конюнкцията е без значение можем да замени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C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D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ножеството с форму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{A, B, C, D}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Да се преобразува в клаузна форма формулат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1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2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Y(q(Y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Y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4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6.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(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X(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7. 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8. {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E8D-0668-43DA-B87E-E8494605B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ообразен запис на 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сяка клауза има ви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 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рез закон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B)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(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Q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 R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M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заменим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,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∨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;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바탕"/>
              </a:rPr>
              <a:t> ⇒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- с :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; L; M; … :- P, Q, R, 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4f917e"/>
                </a:solidFill>
                <a:latin typeface="Arial"/>
              </a:rPr>
              <a:t>прологообразен запис на клау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дете в прологообразен запис множеството от клаузи: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{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p(X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r(X,f(X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q(f(X)); s(X) :- p(X)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s(X) :- p(X), r(X,f(X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D0B-B50E-44CC-9B11-76DEC2AAC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ологообразен запис на клауза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f917e"/>
                </a:solidFill>
                <a:latin typeface="Arial"/>
              </a:rPr>
              <a:t>Задача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ведете в прологообразен запис формулата: човек(петър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петър)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Х, У)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∧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{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петър), майка(иванка, петър),  (човек(Х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У)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∨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Х, У)), </a:t>
            </a:r>
            <a:r>
              <a:rPr b="0" lang="bg-BG" sz="22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Х)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  <a:ea typeface="바탕"/>
              </a:rPr>
              <a:t>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йка(иванка, петър) :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човек(Х) :- човек(У), майка(Х, У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- майка(иванка, 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AF6-C6F5-4975-AB94-1E960AE4AE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дача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ставете в термините на предикатното смятане от първи ред твърдения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п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2000 лв в банка Хеб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ма кола и 2000 лв в банка Хеб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ван или Мария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ария има кола, то Иван също има 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ария има кола, то Иван има кола и п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пишете формулата в клаузна форма и в прологообразен запи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(животно(Х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∀У(животно(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ху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(У, Х)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ъв(Х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784-24FC-4F3B-BE40-FA54E69996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ВАРИТЕЛЕН ТЕС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и са очакванията Ви от тази дисципл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те ли желание да правите домашни рабо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те ли желание да правите курсови проек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о мислите (нужен ли е) за семестриалния контро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кви задачи предпочитате да решавате на упражнения – стандартни или творчес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лко често смятате да посещавате лекции и 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олко често смятате да посещавате упражнения и защ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49D-7393-4738-8774-348E96C4D9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Times New Roman"/>
              </a:rPr>
              <a:t>Логическо програмиран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Kowalski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изследовател в областта на изкуствения интелект. Заедно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in Colmerauer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lippe Rousse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 разработили първия логически програмен език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3935" r="7253" b="2178"/>
          <a:stretch/>
        </p:blipFill>
        <p:spPr>
          <a:xfrm>
            <a:off x="6324480" y="762120"/>
            <a:ext cx="2273400" cy="27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CABA-C240-4E3E-B597-AC2A7C1924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ТЕСТ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Пролог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Лисп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ците за логическо и функционално програмиране се използват предимно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тематически пресмя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областта на изкуствения интел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бота с Б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fld id="{259A6948-E745-4FA2-BB86-BAE7DB8934D4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fld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2A8-76E2-40E4-9815-AC4387027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Отговори на Тест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Пролог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кът за програмиране Лисп 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функциона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логиче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мператив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зиците за логическо и функционално програмиране се използват предимно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атематически пресмят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5050"/>
                </a:solidFill>
                <a:latin typeface="Arial"/>
              </a:rPr>
              <a:t>в областта на изкуствения интел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абота с Б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50"/>
              </a:spcBef>
              <a:buClr>
                <a:srgbClr val="4f917e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fld id="{4121E072-0E1B-4E50-ABE3-819F913AE65D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fld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5BD-C446-4762-9B0A-A4769AC7F6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Times New Roman"/>
              </a:rPr>
              <a:t>МАТЕМАТИЧЕСКИ ОСНОВИ НА ЛОГИЧЕСКОТО ПРОГРАМИРАН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ждително смя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икатно смятане от първи 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л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авила за привеждане в клауз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ологообразен запис на кл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96B-A0D1-4954-BB12-A3A623274F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Съждително смятан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менти на формална система – азбука, множество от допустими изрази (формули), правила за образуване на нови формули (правила за извод), фиксирано множество от правилно построени изра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f917e"/>
                </a:solidFill>
                <a:latin typeface="Arial"/>
              </a:rPr>
              <a:t>Съждително смят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й-малките различими обекти са съжд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станти – за верни и грешни факти: истина (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лъжа (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F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ждителни променливи – за произволни фа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 съю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 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мволи за пунктоация –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те константи са съ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ите са съ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но съждение може да се образува от по-прости съждения, свързани с логически съюз: конюнция, дизюнкция, импликация, еквивалентност, отриц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787-4B2E-4947-BEDD-9F2B92627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Съждително смятане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ин съждителен символ се интерпретира като произволен фа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– съждителна променлива -&gt; факт “Пловдив се намира в България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Логическите константи се интерпретират като верен или грешен фа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но съждение състоящо се от 1 символ е вярно, ако факта, с който е свързан е вер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Едно съставно съждение се интерпретира в зависимост от използваните логически съюз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таблица на истинностт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4f917e"/>
                </a:solidFill>
                <a:latin typeface="Arial"/>
              </a:rPr>
              <a:t>Теорем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: всяко съставно съждение може да се представи като съставно съждение чрез логическите съюзи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7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bg-BG" sz="17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4f917e"/>
                </a:solidFill>
                <a:latin typeface="Arial"/>
              </a:rPr>
              <a:t>Закони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за еквивалентни преобразован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 = 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 = 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мута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 = 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 = 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социа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= 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(B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 = (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дистрибутив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=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=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(на де Морг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= А (за двойното отриц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= 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⌐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, T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A, T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T, F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F, F</a:t>
            </a:r>
            <a:r>
              <a:rPr b="0" lang="bg-BG" sz="16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A =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24320" y="4044960"/>
          <a:ext cx="3886200" cy="1365120"/>
        </p:xfrm>
        <a:graphic>
          <a:graphicData uri="http://schemas.openxmlformats.org/drawingml/2006/table">
            <a:tbl>
              <a:tblPr/>
              <a:tblGrid>
                <a:gridCol w="544680"/>
                <a:gridCol w="544320"/>
                <a:gridCol w="544680"/>
                <a:gridCol w="542880"/>
                <a:gridCol w="566640"/>
                <a:gridCol w="609480"/>
                <a:gridCol w="533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∧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FA6-E3B2-4BC7-84EC-87EE93715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Предикатно смятане от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bg-BG" sz="4200" spc="-1" strike="noStrike">
                <a:solidFill>
                  <a:srgbClr val="000000"/>
                </a:solidFill>
                <a:latin typeface="Times New Roman"/>
              </a:rPr>
              <a:t> ред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f917e"/>
                </a:solidFill>
                <a:latin typeface="Arial"/>
              </a:rPr>
              <a:t>Предикатно смятане от </a:t>
            </a:r>
            <a:r>
              <a:rPr b="1" lang="en-US" sz="2400" spc="-1" strike="noStrike">
                <a:solidFill>
                  <a:srgbClr val="4f917e"/>
                </a:solidFill>
                <a:latin typeface="Arial"/>
              </a:rPr>
              <a:t>I</a:t>
            </a:r>
            <a:r>
              <a:rPr b="1" lang="bg-BG" sz="2400" spc="-1" strike="noStrike">
                <a:solidFill>
                  <a:srgbClr val="4f917e"/>
                </a:solidFill>
                <a:latin typeface="Arial"/>
              </a:rPr>
              <a:t> ред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съжденията имат вътрешна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станти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конкретни обе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iva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ivan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менли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роизволни обекти, пр. </a:t>
            </a:r>
            <a:r>
              <a:rPr b="0" lang="en-US" sz="2000" spc="-1" strike="noStrike">
                <a:solidFill>
                  <a:srgbClr val="a0c6ba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и (функционални символ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зависимост между обек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+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xR</a:t>
            </a:r>
            <a:r>
              <a:rPr b="0" lang="en-US" sz="2100" spc="-1" strike="noStrike">
                <a:solidFill>
                  <a:srgbClr val="a0c6ba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f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: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a0c6ba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R 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за 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f(x)=x*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приятел</a:t>
            </a:r>
            <a:r>
              <a:rPr b="0" lang="en-US" sz="2100" spc="-1" strike="noStrike">
                <a:solidFill>
                  <a:srgbClr val="a0c6ba"/>
                </a:solidFill>
                <a:latin typeface="Arial"/>
              </a:rPr>
              <a:t>_</a:t>
            </a:r>
            <a:r>
              <a:rPr b="0" lang="bg-BG" sz="2100" spc="-1" strike="noStrike">
                <a:solidFill>
                  <a:srgbClr val="a0c6ba"/>
                </a:solidFill>
                <a:latin typeface="Arial"/>
              </a:rPr>
              <a:t>на (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Предикати (предикатни символи)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за свойства и отношения между обекти 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p : D1 x D2 x … x Dn </a:t>
            </a:r>
            <a:r>
              <a:rPr b="0" lang="en-US" sz="2000" spc="-1" strike="noStrike">
                <a:solidFill>
                  <a:srgbClr val="5a84d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a84d8"/>
                </a:solidFill>
                <a:latin typeface="Arial"/>
              </a:rPr>
              <a:t> {T, F}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пр.</a:t>
            </a:r>
            <a:r>
              <a:rPr b="0" lang="bg-BG" sz="2000" spc="-1" strike="noStrike">
                <a:solidFill>
                  <a:srgbClr val="5a84d8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иван (мъж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е (иван, мъж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a0c6ba"/>
                </a:solidFill>
                <a:latin typeface="Arial"/>
              </a:rPr>
              <a:t>мъж (ив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огически съюзи –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∧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∨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∼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⌐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 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ван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всеобщност 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съществуване (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∃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арактеризират променли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. Всеки човек е смъртен -&gt;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 (човек(Х) </a:t>
            </a:r>
            <a:r>
              <a:rPr b="0" lang="bg-BG" sz="20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мъртен(Х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мволи за пунктоация – (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644-0EBB-4ECB-A7DA-725ADD779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8:45Z</dcterms:created>
  <dc:creator>Elena Somova</dc:creator>
  <dc:description/>
  <dc:language>en-US</dc:language>
  <cp:lastModifiedBy>stu1</cp:lastModifiedBy>
  <dcterms:modified xsi:type="dcterms:W3CDTF">2008-10-10T07:51:30Z</dcterms:modified>
  <cp:revision>134</cp:revision>
  <dc:subject/>
  <dc:title>Логическо програмиране</dc:title>
</cp:coreProperties>
</file>