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EB8-AC98-4F33-AA34-2C007381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06A-7CCB-4B82-99A4-C3B34BE2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F93-F2A8-45DF-A1EA-08C57C2E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4F5-A628-4F20-B113-449E6B41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2FB1-98E5-47D8-A656-A7A3DC27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496E-5670-4964-8CD6-CB06F7E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5C6-B1A1-461E-95DD-E5DFB95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836-3F3F-417C-9BA5-B7C3287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7B7-0C9E-417E-8CCE-181EC60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4A76-851D-4221-98DB-28F97F84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03B1-3393-4B54-A6C9-66AB65C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D35-1E6B-4C01-905B-072C825E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4CF2-0FAB-4A60-A894-014D389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6B38-D250-4873-94FE-8CAF063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8C3E-A7B7-4EF1-92D4-4D4FBA4E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60CC-F268-459C-A1B2-482BA344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1DD-FF60-4FB1-BC35-3356AE05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BF1-E8B3-45BA-975F-7476A48E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80A-340D-4649-84FC-529C55A5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374-816E-4931-8A84-B4C78E2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DFF-7492-4057-AE4D-2171117F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22A-5B9D-4613-9C92-485E5DE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4FD-1064-4A3E-BA29-FBA89FE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8D8-3097-445A-AB7F-9D30C46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7497-4881-4683-8E25-D6C7E99BA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714E-7F25-42D1-9A0E-630E840566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F2D-CEE1-4EFD-99D5-E537E78765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множеството е неудоволетвор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родител(Х, У) :- баща(Х, 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роднина(Х1, У1) :- родител(Х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У1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ща(иван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баща(мария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5. :- роднин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5 -&gt; 6. :- родител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6 -&gt; 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баща(мария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, 7 -&gt; 8. :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одител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, 8 -&gt; 9. :- баща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петъ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 9 -&gt; :-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зна клауза) -&gt; противоречие -&gt; множеството е неудоволетвори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F50-C3CE-4F48-A1B6-B8B6350B3E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</a:t>
            </a: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. животно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лъв(Х) :- животно(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. лъв(Х) :- животно(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), 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:-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4. животн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 се докаже, че том е лъ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2, 3 -&gt; 5; 1, 5 -&gt; 6; 4, 6 -&gt; 7; 4, 7 -&gt; 8; 0, 8 -&gt; 9; 0, 9 -&gt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B1F-95BE-4B5E-954C-C31A5B047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ди 22 века – Аристотел – традиционна логика, съждение (вярно, грешн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9 век –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и на машинно доказване на теоре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рбран 193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ърви компютърни реализации на идеите на Ербран – Гилмор, Дейвис и Патнъм началото на 60-те год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ката като език за програмиране – Ковалски и Колмерау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тел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log (PROgramming in LOGic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in Colmerauer, Philippe Roussel (Greupe d’Intelligence Artificielle – University of Marseil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675-9D9F-4059-9862-F4CA2C3B66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обе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скриптивен характер: “как” -&gt; “какво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грама = правила + фа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кларативен ЕП – задаване на отношения между обекти от ПО и условия за тяхната валид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накво представяне на данни и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едуктивен из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ение = доказателство (изво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едетерминираност – генериране на алтернативни решения върху едно описание на П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роля на аргумен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ойнствена интерпретация – декларативно и процеду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39B-EEE9-46DB-BF19-213964C00B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собености на Пролог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По-естествени изразни средства – използване на термините на П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Вградени средства за автоматичен логически из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изграждане на релационни БД и удобно представяне на качествени характеристики и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Лесно формулиране на сложни въпроси от логически свързани подвъпро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AB3-6C5A-4698-88DB-38C2CD491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Ограничения на клаузите в Пролог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интак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клаузи на Хорн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- клаузи, които съдържат най-много един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p 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множество от клаузи, в което само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една клауза може да не съдържа положителен литер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- q1, q2, …, q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мантични ограни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вход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започва се с целевата клауза, резолвира се с някоя от клаузите от БЗ, получената резолвента се резолвира пак с клаузите от БЗ и т.н. (не могат да се резолвират две от клаузите от БЗ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селективна линейна резолюция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редът на унификация на литералите от целта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ляво на дясно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търсене в дълбочин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за селекция на клаузите – избира се винаги първата клауза от БЗ като към следващата се преминава само ако направения избор не води до успех т.е. търсенето е </a:t>
            </a:r>
            <a:r>
              <a:rPr b="0" lang="bg-BG" sz="2100" spc="-1" strike="noStrike">
                <a:solidFill>
                  <a:srgbClr val="5a84d8"/>
                </a:solidFill>
                <a:latin typeface="Arial"/>
              </a:rPr>
              <a:t>от горе на долу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3B3-37AF-43AC-B90C-95254275B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ажете неудоволетворимостта на множество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v~q, zv~pv~k, q, k, ~z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ко е дадено множеството от клау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. студент (Х); студентка (Х) 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2. мъж (Х) :- студент (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ценка(иван, 6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4. :- студентка (и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5. добър_студент (Х) :- студент (Х), оценка (Х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докаже, че иван е добър сту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F4F-98C8-49E0-ACBE-171C0B57E8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B29-DEEB-4477-A737-50945C7D3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лаузите не съдър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. дизю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b. отриц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5050"/>
                </a:solidFill>
                <a:latin typeface="Arial"/>
              </a:rPr>
              <a:t>c. кон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е може да е връщана стойност на предик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константата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числото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обекта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е не е тер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a. лит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функц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. променл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й е символа за запис на дизюнкция в прологообразния запи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.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c.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4E1-6BA9-4022-8398-7F5DA83028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е правило не сеизползва за привеждане на формула в клаузен ви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премахване на еквивалентности и импл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ограничаване на отрицани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премахване на дизюнкци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ое не е конста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бан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. 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c. Ис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Кой закон не се използва за привеждане на дадена формула в клаузна 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. на де Морг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Arial"/>
              </a:rPr>
              <a:t>b. асоци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. комут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DE0-4CA5-4E90-9FAF-F5C1692B8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МЕТОД НА РЕЗОЛЮЦИЯТ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щност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метода на резолюци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без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лагане на метода на резолюцията за клаузи с променл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н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собености на ЕП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граничения на клаузите в Пр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32B-C57B-4499-8448-3680B5D97E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етод на резолюцията – </a:t>
            </a:r>
            <a:br>
              <a:rPr sz="3800"/>
            </a:b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същност и използв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Цел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установи дали дадена формула е неудоволетворим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Използван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за общовалидност на формула (т.е. винаг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лага се метода за отрицанието на формулата, ако отрицанието на формулата е неудоволетворимо, тогава формулата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проверка дали формула е логическо следствие на множество от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общовали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логическо следствие от множеството форму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A1, …, An}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1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е неудоволетвор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A76-540C-41AE-8BC3-39E425C95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без променливи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Базово правило на резолюция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без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L :- K1, K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1; B2; … :- L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лучаваме резолв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2V…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2V…V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2V…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1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2V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1; A2; …; B1; B2; … :- K1, K2, … , M1, M2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резолвентата е празната клауза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в процеса на умозаключения се достигне до празната клауза, то множеството от клаузи е неудоволетвор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EB1-A41C-425B-97C7-FB531BF9FE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илагане на метода на резолюцията за клаузи с променливи. Унификаци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клаузи с променли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м умозаключения между клаузите в БЗ като унифицираме променливите чрез правил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е атомарни формули са унифицируеми ако има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и също име за предика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аква размерност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ргументите им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ва терма са унифицируеми а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иният от тях е променлива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а идентични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4f917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мат едно и също име за функция, аргументите на която могат да бъдат унифицир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F3B-2F7A-426A-99A7-022445049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(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Y, Z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4f917e"/>
                </a:solidFill>
                <a:latin typeface="Arial"/>
              </a:rPr>
              <a:t>съвместени променл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, q(a, b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Примери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за липса на унифик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етъ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a, 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b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, Y, Z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68E-D1B5-405F-A630-350396EB1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49:58Z</dcterms:modified>
  <cp:revision>132</cp:revision>
  <dc:subject/>
  <dc:title>Логическо програмиране</dc:title>
</cp:coreProperties>
</file>