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83D-1D04-4AB0-9965-12363A23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C41-81DF-4DF3-A6B8-98BE4381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4F9-4558-478C-A9A0-4D6C7BFB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9B8E-DE54-4820-A596-51DAEE67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361A-E020-430E-B3A1-D269E989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94F0-70EB-47E4-9274-CA3DC389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BE4E-55E1-4ED3-819B-F6FD9B41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2D95-9109-4DB1-946B-3FFE537E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56FF-CEA6-4838-B006-E3C1DB21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D905-3B2F-49C9-B17C-674F26F3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28B7-2F99-4B98-AD76-28EDC751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F94-B862-4D27-BBC8-89346A25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DE00-E5D9-4B88-9359-19C19209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5E62-8636-4F36-BCDE-9BEB78F5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81D4-E7C3-41B2-A3AA-7907568F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6166-D656-47BD-A9D1-F5704B65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805E-EE12-4A91-A8C9-0D492DEA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B0BA-55E1-4313-BF1F-2B1F8A6F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BB6-2CAE-46DE-8B80-27789901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C74-8263-4B05-B074-9DB6469A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1C4-87CD-4083-9B53-43D434D4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134-FFA5-4885-A721-EC9374EE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0B8-3E30-4033-9D35-7B2F9A3A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AEA-FFA9-4F2A-9DFB-C1BD967F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cb0a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760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760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FADA-FDC5-4BE7-88CC-720809F9DB4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/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797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797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212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CBFA-F064-4BED-8B64-F251D09454C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ТЕСТ 4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е не е правилен ред на Пролог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обича (Х, А) :- харесва (Х, шоколад), харесва (А, шокола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обича (Х, А) :- харесва (Х, шоколад); харесва (А, шокола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обича (Х, шоколад); обича (А, шоколад) :- харесва (Х, 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На кой запис са еквивалентни тези клауз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t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s(X), n(X), m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k(X), h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Ако е изпълнено q(X) то следва t(X) или (s(X) и n(X) и m(X)) или (k(X) и h(X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на нито един от запис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Ако е изпълнено t(X) или (s(X) и n(X) и m(X)) или (k(X) и h(X)) то следва q(X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Ако е изпълнено t(X) и (s(X) и n(X) и m(X)) и (k(X) и h(X)) то следва q(X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га не се задейства механизма на възвра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при унификация на цел с прави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при пропадане на дадена ц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при търсене на алтернативно ре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425-BF16-40B3-A560-9D484122D7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fffcc"/>
                </a:solidFill>
                <a:latin typeface="Times New Roman"/>
              </a:rPr>
              <a:t>Основни предикати. Отсичане</a:t>
            </a:r>
            <a:r>
              <a:rPr b="0" lang="en-US" sz="3800" spc="-1" strike="noStrike">
                <a:solidFill>
                  <a:srgbClr val="ffffcc"/>
                </a:solidFill>
                <a:latin typeface="Times New Roman"/>
              </a:rPr>
              <a:t> (!)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Същност: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Предиката винаги успява (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ue)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и забранява връщането назад за преудоволетворяване (спира механизма на възв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Приложения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За указване, че е намерено необходимото правило за удоволетворяване на цел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?- member (a, [a, b, a, c, a, g, a]).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ще се преудоволетвори 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member (X, [X|_])</a:t>
            </a:r>
            <a:r>
              <a:rPr b="0" lang="bg-BG" sz="2200" spc="-1" strike="noStrike">
                <a:solidFill>
                  <a:srgbClr val="8cb0a2"/>
                </a:solidFill>
                <a:latin typeface="Arial"/>
              </a:rPr>
              <a:t> :- !</a:t>
            </a: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ъ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За прекратяване търсенето на алтернативни реш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p :- p1, p2, p3, !, p4, p5, p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За указване верността на само една от клаузит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r :- !, a, b,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r :- !,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r :- 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За явно предизвикване на пропадане на дадена це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ne (X) :- X, !, fai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b0a2"/>
                </a:solidFill>
                <a:latin typeface="Arial"/>
              </a:rPr>
              <a:t>ne (X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DE4-BE6F-4D74-8E81-068ED066EA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Списъц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476077"/>
                </a:solidFill>
                <a:latin typeface="Arial"/>
              </a:rPr>
              <a:t>Определение: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Наредена последователност от произволен брой елементи с разделител запетая и заградени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476077"/>
                </a:solidFill>
                <a:latin typeface="Arial"/>
              </a:rPr>
              <a:t>Примери</a:t>
            </a:r>
            <a:r>
              <a:rPr b="1" lang="en-US" sz="1800" spc="-1" strike="noStrike">
                <a:solidFill>
                  <a:srgbClr val="476077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b0a2"/>
                </a:solidFill>
                <a:latin typeface="Arial"/>
              </a:rPr>
              <a:t>[1, 2, 3]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cb0a2"/>
                </a:solidFill>
                <a:latin typeface="Arial"/>
              </a:rPr>
              <a:t>[]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cb0a2"/>
                </a:solidFill>
                <a:latin typeface="Arial"/>
              </a:rPr>
              <a:t>[1, [2, 3]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Части на списъ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лава (е елеме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Опашка (е списъ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Означения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, [H|T], [X, Y|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476077"/>
                </a:solidFill>
                <a:latin typeface="Arial"/>
              </a:rPr>
              <a:t>Примери</a:t>
            </a:r>
            <a:r>
              <a:rPr b="1" lang="en-US" sz="1800" spc="-1" strike="noStrike">
                <a:solidFill>
                  <a:srgbClr val="476077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Списък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Глава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</a:rPr>
              <a:t>Опа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, 2, 3]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, 3]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[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[1, 2, 3]]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, 2, 3]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]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[1, 2], 3]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1, 2]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[3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, [2, 3]]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, 3]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]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няма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► ня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476077"/>
                </a:solidFill>
                <a:latin typeface="Arial"/>
              </a:rPr>
              <a:t>Вътрешно представяне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: чрез служебен функтор “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, 2, 3]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8cb0a2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8cb0a2"/>
                </a:solidFill>
                <a:latin typeface="Arial"/>
                <a:ea typeface="Arial"/>
              </a:rPr>
              <a:t>.(1, .(2, .(3, </a:t>
            </a:r>
            <a:r>
              <a:rPr b="0" lang="en-US" sz="1800" spc="-1" strike="noStrike">
                <a:solidFill>
                  <a:srgbClr val="8cb0a2"/>
                </a:solidFill>
                <a:latin typeface="Arial"/>
                <a:ea typeface="Arial"/>
              </a:rPr>
              <a:t>[])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3BA-E6ED-4DA6-9D3E-8788EEDB14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Списъц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ffffff"/>
                </a:solidFill>
                <a:latin typeface="Arial"/>
              </a:rPr>
              <a:t>Предимства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Елементите на списъка могат да бъдат атоми, структури или др. списъ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за обработката не е необходимо предварително да се знаят типът и броят на елемент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Чрез списъци могат да се обработват по еднообразен начин различна по обем и съдържание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Елементите са подредени, но предварително могат да бъдат с неизвестен бр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ffffff"/>
                </a:solidFill>
                <a:latin typeface="Arial"/>
                <a:ea typeface="Arial"/>
              </a:rPr>
              <a:t>Недостатъци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ffffff"/>
                </a:solidFill>
                <a:latin typeface="Arial"/>
                <a:ea typeface="Arial"/>
              </a:rPr>
              <a:t>Не е възможен пряк достъп до произволен елемент от списъка, което води до по-бавна обработк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663-18E7-477F-B1B9-78B205EED8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Унификация на списъц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476077"/>
                </a:solidFill>
                <a:latin typeface="Arial"/>
              </a:rPr>
              <a:t>Свързване на променливи при унификация на два списъка</a:t>
            </a:r>
            <a:r>
              <a:rPr b="1" lang="en-US" sz="2400" spc="-1" strike="noStrike">
                <a:solidFill>
                  <a:srgbClr val="476077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Списък1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Списък2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Свързване на променли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1, 2, 3]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X, Y, Z]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=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Y=2, Z=3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X|Y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1, 2, 3]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=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Y=[2, 3]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1, [2, 3]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X, Y|Z]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=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Y=[2, 3], Z=[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X, Y| Z, V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1, 2, 3, 4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неверен синтакс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1, 2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2, X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проп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X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1, 2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проп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 Y]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, 3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X=2, Y=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2, Y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X, Z]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X=2, Y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 се съвместяв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X|Y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  <a:ea typeface="Arial"/>
              </a:rPr>
              <a:t>проп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73D-BF9B-49C3-B6E0-7C4891D473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сновни задачи със списъц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Обединение на две множ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Сечение на две множ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Разлика на две множ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одмножество на дадено множ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разно множ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Непразно множ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Равенство на множ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Различност на множ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ринадлежност на елемент към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одсписък на даден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Сортиране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Намиране на минимум (максимум)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Обединение на два сортирани списъ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Намиране на к-тия елемент на списъ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Намиране на дължината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Изтриване на елемент от списък (всяко срещане, първо срещан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Добавяне на елемент преди (след) даден елемент в списък (всяко срещане, първо срещан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ромяна елементите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Намиране на сума (произведение) на елементите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Обръщане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Пермутация на елементите на списъ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5AE-B997-4A08-AB48-7F1CC6B674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fffcc"/>
                </a:solidFill>
                <a:latin typeface="Times New Roman"/>
              </a:rPr>
              <a:t>Множествени операции чрез списъци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надлежност на елемент към списък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ember (X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ember (X, [X|_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ember (X, [_|T]) :- member (X, 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 member (1, [1, 2, 3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 member (X, [1, 2, 3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бединение на две множества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union (L1, L2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union ([], L2, L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union ([X|T], L2, [X|T1]):- union (T, L2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union ([1, 2], [3, 4], [1, 2, 3, 4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union ([1, 2], [3, 4], 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union ([1, 2], L, [1, 2, 3, 4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union (L, [3, 4], [1, 2, 3, 4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union (L1, L2, [1, 2, 3, 4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889-6573-49E5-A5BA-5A17089666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fffcc"/>
                </a:solidFill>
                <a:latin typeface="Times New Roman"/>
              </a:rPr>
              <a:t>Поелементни операции на списък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триване на всяко срещане на елемент А в списъ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1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L1, L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[A|T], L) :- !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(A, T, L)</a:t>
            </a:r>
            <a:fld id="{3AD3E18C-135C-4554-B9F2-8818FBC6CF82}" type="slidenum">
              <a:rPr b="0" lang="en-US" sz="2400" spc="-1" strike="noStrike">
                <a:solidFill>
                  <a:srgbClr val="8cb0a2"/>
                </a:solidFill>
                <a:latin typeface="Arial"/>
              </a:rPr>
              <a:t>&lt;number&gt;</a:t>
            </a:fld>
            <a:fld id="{6FE82D50-6F8F-4C51-8C61-FB1BBC80EDE3}" type="slidenum">
              <a:rPr b="0" lang="en-US" sz="2400" spc="-1" strike="noStrike">
                <a:solidFill>
                  <a:srgbClr val="8cb0a2"/>
                </a:solidFill>
                <a:latin typeface="Arial"/>
              </a:rPr>
              <a:t>&lt;number&gt;</a:t>
            </a:fld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[B|T], [B|T1]) :- del(A, T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триване на първо срещане на елемент А в списъ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1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L1, L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[A|T], T) :- !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del (A, [B|T], [B|T1]) :- del(A, T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28B-D932-4A66-B4A0-ADDFB6B247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омощни предикат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дсписък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ublist (L, L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ublist (L, L1) :- union (X, L, Z), union (Z, Y, L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бръщане на елементите на списък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reverse (L, 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reverse([], [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reverse([X|T], Y) :- reverse (T, Z), union (Z, [X], 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осле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 елемент на списък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last_el (Z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last_el (Z, L) :- union (_, [Z], 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ермутация на елементите на списък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perm (Z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perm ([], []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perm (L, [X|T]) :- union (A, [X|B], L), union (A, B, C), perm (C, T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F76-3CFB-4B68-8401-126AE78BFC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fffcc"/>
                </a:solidFill>
                <a:latin typeface="Times New Roman"/>
              </a:rPr>
              <a:t>Намиране на сума (произведение)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Намиране на сума (произведение) на елементите на списък </a:t>
            </a: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 (L, 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 лява рекур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 ([], 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 ([X|T], S) :- sum (T, S1), S=S1+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 дясна рекур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 (L, S) :- sum1(L, S, 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1 ([], R, 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1 ([X|T], S, R) :- R1=R+X, sum1 (T, S, R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1A0-1A9A-43FF-9F4C-1533DEC3A4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Сортиране на списък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Метод на мехурчето </a:t>
            </a: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um (L, 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bubsort (L, L1) :- shift (L, T), !, bubsort (T, L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bubsort (L, 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hift ([X, Y|T], [Y|T1]) :- X&gt;Y, !, shift ([X|T], T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hift ([X|T], [X|T1]) :- shift (T, T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hift ([], []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ort (L, R) :- union (X, [A, B|Y], L), A&gt;B, union (X, [B, A|Y], L1), sort (L1, 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b0a2"/>
                </a:solidFill>
                <a:latin typeface="Arial"/>
              </a:rPr>
              <a:t>sort (L, 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0D0-03D2-4025-831C-2F7C86097C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ТЕСТ 4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еханизма на възврат предизвикв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връщане към подцелта, стояща от дяс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връщане към предходна клауза в Б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връщане към клаузата в БЗ, маркирана при последното удоволетворява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d. връщане към подцелта, стояща от ляв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За какво се използват функторите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за записване на съставни це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за записване на съставни обек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за представяне на дизюнкции в правила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и не са клаузи в Пролог?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правила и предика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факти, правила и це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факти и въпрос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d. факти и прави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Това какво 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обича (иван, бира) :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правил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це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?-обича (иван, бир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d. обича (иван, бир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963-0D80-49DD-9DFB-DCAEDB7567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Сортиране на списък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ортиране чрез вмъкв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ort ([], [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ort ([X|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], L) :-</a:t>
            </a:r>
            <a:r>
              <a:rPr b="0" lang="bg-BG" sz="2400" spc="-1" strike="noStrike">
                <a:solidFill>
                  <a:srgbClr val="8cb0a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ort (T, T1), insert (X, T1, 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insert (X, [H|T], [H|T1]) :- X&gt;H, !, insert (X, T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insert (X, L, [X|L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Сортиране чрез пряка селекция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начален м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ort ([], []).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 – мин елемент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X|L], S –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исъка бе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sort ([X|L], [M|L1]) :- min (L, X, M, S), sort (S, L1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in ([H|T], X, M, [X|T1]) :- X&gt;H, !, min (T, H, M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in ([H|T], X, M, [H|T1]) :- min (T, X, M, T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min ([], M, M, []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B10-62FC-4776-98D2-38F73AA1CF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пишете предикат, определящ равенство на две множ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пишете предикат, намиращ дължината на списъ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пишете предикат, добавящ елемент А преди елемент В в списъ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пишете предикат, намиращ числата на Фибонач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B81-688C-48C9-82F5-EB9023E623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тговори на Тест 4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е не е правилен ред на Пролог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обича (Х, А) :- харесва (Х, шоколад), харесва (А, шокола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обича (Х, А) :- харесва (Х, шоколад); харесва (А, шокола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5050"/>
                </a:solidFill>
                <a:latin typeface="Arial"/>
              </a:rPr>
              <a:t>c. обича (Х, шоколад); обича (А, шоколад) :- харесва (Х, 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На кой запис са еквивалентни тези клауз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t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s(X), n(X), m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q(X) :- k(X), h(X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Ако е изпълнено q(X) то следва t(X) или (s(X) и n(X) и m(X)) или (k(X) и h(X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на нито един от запис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5050"/>
                </a:solidFill>
                <a:latin typeface="Arial"/>
              </a:rPr>
              <a:t>c. Ако е изпълнено t(X) или (s(X) и n(X) и m(X)) или (k(X) и h(X)) то следва q(X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Ако е изпълнено t(X) и (s(X) и n(X) и m(X)) и (k(X) и h(X)) то следва q(X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га не се задейства механизма на възвра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5050"/>
                </a:solidFill>
                <a:latin typeface="Arial"/>
              </a:rPr>
              <a:t>a. при унификация на цел с прави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при пропадане на дадена ц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при търсене на алтернативно ре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784-A55F-43BB-B46D-679C6F3A0E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тговори на Тест 4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еханизма на възврат предизвикв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връщане към подцелта, стояща от дяс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връщане към предходна клауза в Б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връщане към клаузата в БЗ, маркирана при последното удоволетворява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5050"/>
                </a:solidFill>
                <a:latin typeface="Arial"/>
              </a:rPr>
              <a:t>d. връщане към подцелта, стояща от ляв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За какво се използват функторите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за записване на съставни це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5050"/>
                </a:solidFill>
                <a:latin typeface="Arial"/>
              </a:rPr>
              <a:t>b. за записване на съставни обек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за представяне на дизюнкции в правила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и не са клаузи в Пролог?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5050"/>
                </a:solidFill>
                <a:latin typeface="Arial"/>
              </a:rPr>
              <a:t>a. правила и предика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факти, правила и це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факти и въпрос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d. факти и прави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Това какво 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обича (иван, бира) :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a. правил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b. це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c. ?-обича (иван, бир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5050"/>
                </a:solidFill>
                <a:latin typeface="Arial"/>
              </a:rPr>
              <a:t>d. обича (иван, бир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7298-36AF-4AD5-A0AC-13D7CF2DB7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Рекурсия. Списъци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Рекур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Видове рекур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Основни вградени предика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писъц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Унификация на списъ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Множествени операции чрез списъ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оелементни операции на списъ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Намиране на су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ортиране на списъц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C0F-3A6A-41C2-BEBD-04736BA702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Рекурсия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Определение</a:t>
            </a:r>
            <a:r>
              <a:rPr b="1" lang="en-US" sz="2200" spc="-1" strike="noStrike">
                <a:solidFill>
                  <a:srgbClr val="476077"/>
                </a:solidFill>
                <a:latin typeface="Arial"/>
              </a:rPr>
              <a:t>:</a:t>
            </a: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равила, които изразяват </a:t>
            </a: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отношения чрез същите отношения се наричат</a:t>
            </a: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 рекурсивни правил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Реализация: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гранично условие за край на рекурсията - нерекурсивно правило, което задава тривиалния случа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рекурсивн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правило, декомпозиращо определяното отношение на тривиален случай и същото отношение, но в по-тесен смисъл. Неколкократното му прилагане свежда задачата към тривиален случай, описан в граничното услов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5F18-82B9-41B3-9AC5-5FA5EA11F1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Видове рекурсия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Видове: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ля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q(…)</a:t>
            </a:r>
            <a:r>
              <a:rPr b="0" lang="bg-BG" sz="2200" spc="-1" strike="noStrike">
                <a:solidFill>
                  <a:srgbClr val="666699"/>
                </a:solidFill>
                <a:latin typeface="Arial"/>
              </a:rPr>
              <a:t>:- 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q(…), p</a:t>
            </a:r>
            <a:r>
              <a:rPr b="0" lang="bg-BG" sz="22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, p</a:t>
            </a:r>
            <a:r>
              <a:rPr b="0" lang="en-US" sz="22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, …, p</a:t>
            </a:r>
            <a:r>
              <a:rPr b="0" lang="en-US" sz="2200" spc="-1" strike="noStrike" baseline="-25000">
                <a:solidFill>
                  <a:srgbClr val="666699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666699"/>
                </a:solidFill>
                <a:latin typeface="Arial"/>
              </a:rPr>
              <a:t>Недостатък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: правилото може да се зацикли, ако преди рекурсивния ред не е записан реда за изход от рекурсия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дяс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q(…)</a:t>
            </a:r>
            <a:r>
              <a:rPr b="0" lang="bg-BG" sz="2200" spc="-1" strike="noStrike">
                <a:solidFill>
                  <a:srgbClr val="666699"/>
                </a:solidFill>
                <a:latin typeface="Arial"/>
              </a:rPr>
              <a:t>:- 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p</a:t>
            </a:r>
            <a:r>
              <a:rPr b="0" lang="bg-BG" sz="22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, p</a:t>
            </a:r>
            <a:r>
              <a:rPr b="0" lang="en-US" sz="22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, …, p</a:t>
            </a:r>
            <a:r>
              <a:rPr b="0" lang="en-US" sz="2200" spc="-1" strike="noStrike" baseline="-25000">
                <a:solidFill>
                  <a:srgbClr val="666699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666699"/>
                </a:solidFill>
                <a:latin typeface="Arial"/>
              </a:rPr>
              <a:t>(…), q(…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A70-D919-4D18-8312-7924F86B98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Примери за рекурсия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Пример:</a:t>
            </a:r>
            <a:r>
              <a:rPr b="1" lang="en-US" sz="22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Да се опише отношението “потомък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Х, У) :- син (Х, 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Х, У) :- дъщеря (Х, 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Х, У) :- син (Х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, 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Х, У) :- дъщеря (Х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потомък (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bg-BG" sz="2200" spc="-1" strike="noStrike">
                <a:solidFill>
                  <a:srgbClr val="ffffff"/>
                </a:solidFill>
                <a:latin typeface="Arial"/>
              </a:rPr>
              <a:t>, 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76077"/>
                </a:solidFill>
                <a:latin typeface="Arial"/>
              </a:rPr>
              <a:t>Пример:</a:t>
            </a:r>
            <a:r>
              <a:rPr b="1" lang="en-US" sz="2200" spc="-1" strike="noStrike">
                <a:solidFill>
                  <a:srgbClr val="476077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миране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екти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!=1, n=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!=n*(n-1)!, n&gt;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760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грамир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fact (1, 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fact (N, R):- N</a:t>
            </a:r>
            <a:r>
              <a:rPr b="0" lang="bg-BG" sz="2000" spc="-1" strike="noStrike">
                <a:solidFill>
                  <a:srgbClr val="8cb0a2"/>
                </a:solidFill>
                <a:latin typeface="Arial"/>
              </a:rPr>
              <a:t>1=</a:t>
            </a: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N</a:t>
            </a:r>
            <a:r>
              <a:rPr b="0" lang="bg-BG" sz="2000" spc="-1" strike="noStrike">
                <a:solidFill>
                  <a:srgbClr val="8cb0a2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8cb0a2"/>
                </a:solidFill>
                <a:latin typeface="Arial"/>
              </a:rPr>
              <a:t>, fact (N1, R1), R=N*R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037-DD01-4C1A-B65F-CD599123F1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ffffcc"/>
                </a:solidFill>
                <a:latin typeface="Times New Roman"/>
              </a:rPr>
              <a:t>Основни предикати. </a:t>
            </a: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Fail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476077"/>
                </a:solidFill>
                <a:latin typeface="Arial"/>
              </a:rPr>
              <a:t>Същност: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Предиката винаги пропада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),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 което предизвиква връщане назад (механизъм на възврат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476077"/>
                </a:solidFill>
                <a:latin typeface="Arial"/>
              </a:rPr>
              <a:t>Приложение: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За намиране на всички възможни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476077"/>
                </a:solidFill>
                <a:latin typeface="Arial"/>
              </a:rPr>
              <a:t>Пример: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father (ivan, mar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father (peter, mile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all_fathers (X, Y):- father (X, Y), write (X), write (Y), fa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?- all_fathers (X, 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X=ivan, Y=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b0a2"/>
                </a:solidFill>
                <a:latin typeface="Arial"/>
              </a:rPr>
              <a:t>X=peter, Y=mi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38C-C9AE-4832-99DD-76D56D5EC8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2:38:45Z</dcterms:created>
  <dc:creator>Elena Somova</dc:creator>
  <dc:description/>
  <dc:language>en-US</dc:language>
  <cp:lastModifiedBy>Svetoslav</cp:lastModifiedBy>
  <dcterms:modified xsi:type="dcterms:W3CDTF">2008-10-24T06:59:59Z</dcterms:modified>
  <cp:revision>133</cp:revision>
  <dc:subject/>
  <dc:title>Логическо програмиране</dc:title>
</cp:coreProperties>
</file>