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352-7137-46D3-9988-9AB951CB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235-AC6B-45A0-BD7B-4A96622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79A-A2E6-446B-AD38-06B03424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3C9-7510-4EF8-A3E1-8B41B1AF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461-FDC1-4AEE-A9C1-A638A0E3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4CAC-1140-4B71-A050-6298143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FF8B-4DC7-4DC9-8FDE-C3428D76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F15-D84F-4376-9900-2C9F901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B7B8-07BE-43DA-B463-DD8A17E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3BE-E4B7-499D-9792-0595ADB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53F-BC97-486E-BB67-B3FF044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4C8-5200-4B40-BCC3-938F5C54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0C28-9754-491D-8E96-C61D58C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060-E14E-4E11-85FF-92F44FAA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D94-E5A0-4799-A2AE-04DF0CE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FB6-8AEA-449A-84CF-438B726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DAA-955C-4610-8A1A-AA6EA1B3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FCE-1826-44A0-B170-75C2454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A9C-3976-4A1D-8D37-330CFA1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504-E64E-4B8E-89EE-921FC41C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22F-0082-4BDF-984B-198A33F5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57A-AB39-4DF0-B1D9-2923036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AF0-5B54-48EC-A28C-3416EE9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9E0-9B3D-4698-9E98-89A7EAB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D586-3AB0-4A00-AE10-651B23476B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48AE-F2E8-4655-9D7D-44BB468F3D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отсич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CBC-2FAC-4221-835C-C9F5230DF0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зключване на еле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nil, X, R), X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nil), X, 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X, R), X, bintree (L, Y, R1)) :- delmin (R, Y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1, K, R)) :- K&gt;X, delete (L, X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ete (bintree (L, K, R), X, bintree (L, K, R1)) :- K&lt;X, delete (R, X, R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nil, Y, R), Y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delmin (bintree (L, K, R), Y, bintree (L1, K, R)) :- delmin (L, Y, L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 празно, то за дясно поддърво се избира непразно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а непразни, то най-малкия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е премества от текущото си положение и заема мястото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4A5-B6C4-41F0-BC21-A7710B07D4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t, 3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b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t, u, 5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c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arc (s, u, 20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a, b, c], [p (a, b), p (b, c), p (a, c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graph ([s, t, u], [d (s, t, 30), d (t, u, 50), d (s, u, 20)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ъществув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link (a, b). </a:t>
            </a: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476077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X, Z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) :- link (Z, X), way (Z, 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избягване на зацикляне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X, 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X, Z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 (X, Y, T) :- link (Z, X), not member (Z, T), way (Z, Y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525-D30D-446C-9D2E-2CDAB2476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граф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път между два вър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foundway (S, E, W) :- way1 (S, E, [], R), reverse (R, 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X, T, [X|T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X, Z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6077"/>
                </a:solidFill>
                <a:latin typeface="Arial"/>
              </a:rPr>
              <a:t>way1 (X, Y, T, R) :- link (Z, X), not member (Z, T), way1 (Z, Y, [X|T], 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956-AFD4-47B8-B019-F5F7617CB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Двойнствена семантика 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:- В,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екларативен аспект – свързан само с отношенията, описани от програмата и определящ какъв резултат се получава при всяка интересуваща ни комбинация от значения на променливите в програ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върдението А е вярно, ако са верни В и С, или от В и С следва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оцедурен аспект – освен резултата от програмата във всеки случай, определя също и начина, по който резултата се получава, като отчита не само логическите отношения между обектите, но и реда на тяхната обрабо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За да се реши проблемът А, трябва отначало да се решат подпроблемите В и С, или за да се удоволетвори целта А, трябва първо да се удоволетворят подцелите В и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7F0-40D4-487D-9FF8-FFA7747932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редимства на логическото програмиране 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еки параметър може да бъде и входен и изходен в зависимост от желанията на потреб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резултат може да се върне несвързана променлива (частично решение на пробл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Множество решения могат да се намерят чрез вградения механизъм на възвр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-кратки програми от процедур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яма проверка на типове, паралелна обработка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локови структ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68C-D1F4-4B64-A34D-9AA6458617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правете експертна система обслужваща транспорта на град Пловд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CA0-F96D-4108-AA1A-1ED816055E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A7A-27BB-4A36-9DBC-A76D62F6A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к се реализират повторенията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чрез рекурсия или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чрез ите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чрез рекур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я рекурсия е по-опасн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дя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и д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ля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от вградените предикати спира механизма на възв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отсичане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и дв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начин за намиране на всички възможни решен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използване на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натискане на символ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c. използване на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2CE-C16F-43C2-9A13-600722DD08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5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е не е списък в Пролог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А|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b. (1, 2,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d. [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1, 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и два списъка не се унифицират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a. [H] и [1,2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1, 2, 3]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[Z|X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K и [1, [2]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ой списък може да е празе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a. [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b. [X|D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c. [[], 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9788a"/>
                </a:solidFill>
                <a:latin typeface="Arial"/>
              </a:rPr>
              <a:t>d.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e. [P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f. [[]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371-ACB9-428D-B511-5D7DF7006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. Приложение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бота с Б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кспертни систе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двоично дър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г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войнствена семан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имства на логическото програм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779-51B8-4986-8B2F-C91FC6B94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 :-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:-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внук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Z, X), ‘,’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X, Y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родител (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Y, Z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ъдето 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-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‘,‘ са фун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r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всички клаузите от БД се записват в текущия изходен фай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listing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лаузите от БД с този функтор се записват в текущия изходен файл (напр. екр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claus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глава&gt;, &lt;тяло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удоволетворява се при намиране на клауза с тези глава и тя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assertz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клауза&gt;)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добавяне на нови клаузи към БД на мястото на последната изтрита (или в края), в началото, в края на клаузите със същия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584-8BE5-45E8-8EF8-8B38DEAD9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абота с БД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delete (&lt;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функтор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&gt;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всички клаузи с това име на фун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retract (</a:t>
            </a: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&lt;клауза&gt;</a:t>
            </a:r>
            <a:r>
              <a:rPr b="0" lang="en-US" sz="2400" spc="-1" strike="noStrike">
                <a:solidFill>
                  <a:srgbClr val="476077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– изтрива първата клауза, която се унифицира с зададения арг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p2, p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retract ((p :- A, B)), assert ((p :- B, A, p3)), listing (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=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B=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 :-  p1, p2, p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A87-4413-4A1C-81B8-21DF57F4BF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Експертни систем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76077"/>
                </a:solidFill>
                <a:latin typeface="Arial"/>
              </a:rPr>
              <a:t>Експертни систем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 компютърни програми, които решават задачи по начин, който може да се разглежда като интелигентен, ако се изпълнява от човек, т. е. наподобяват работата на експерт в дадена ПО. Структу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База от знания – съдържа експертни знания за конкретна П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Ядро 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Машина за извод – описва начините за използване на знанията от ПО, указва как, кога и в какъв ред трябва да се прилагат знанията, т. е. реализира общите знания за това, как се решават задачи от П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Интерфейс – осъществява диалога между потребителя и систем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ализация чрез Пролог – БЗ = факти + правила, машина за извод е вградения механизъм за дедуктивен изв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898-D7C2-4802-B9FC-C4CF3CE18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едставяне на двоично дърво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1 представяне – корена е главен функтор, а поддърветата са аргументи на структура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а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476077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, c (d)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2 представя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- bintree (L, X, R), nil – </a:t>
            </a: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азно дър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bintree (bintree (nil, b, nil), a, bintree (bintree (nil, d, nil), c, nil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Принадлежност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_, X, _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L, _, _)) :- mem_bin (X, L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mem_bin (X, bintree ( _, _, R)) :- mem_bin (X, R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ffffff"/>
                </a:solidFill>
                <a:latin typeface="Arial"/>
              </a:rPr>
              <a:t>Включване на елемен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nil, X, bintree (nil, X, nil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X, R), X, bintree (L, X, R)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1, K, R)) :- K&gt;X, input (L, X, L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6077"/>
                </a:solidFill>
                <a:latin typeface="Arial"/>
              </a:rPr>
              <a:t>input (bintree (L, K, R), X, bintree (L, K, R1)) :- K&lt;X, input (R, X, R1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CA7-E447-484C-8085-CF43A0EB7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presentation</cp:lastModifiedBy>
  <dcterms:modified xsi:type="dcterms:W3CDTF">2007-11-09T06:28:46Z</dcterms:modified>
  <cp:revision>134</cp:revision>
  <dc:subject/>
  <dc:title>Логическо програмиране</dc:title>
</cp:coreProperties>
</file>