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533E-F1A8-4E0A-8257-1C923B45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E837-AC18-4D35-9827-A6FEB361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E147-1483-437C-B68D-B249E4EA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A708-F696-4691-AA68-8959D9F8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12D0-D7E5-48A9-98E0-39618F9C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9BF6-F0DC-4AE1-867D-780BF7D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7869-9622-42A1-AEF0-D8288217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0EC4-74E4-498C-A86F-D682CD5C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153B-4726-416F-96D3-F586779A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93F4-E8D2-4EE3-B02A-5BBD52FB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7E8-5B17-4745-A258-31F5E55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ACBC-1B9F-41AF-96C0-8625DEE0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76CB-9C7F-4EE9-BFA9-EE2449FE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AF43-0E59-4895-965F-696A7EB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9B5C-5657-4075-BF71-F2212136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9F6D-B38A-45F5-AD40-DD2E0830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879A-3E9D-4437-A19E-9B2EA170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285F-ACB3-4324-B14B-6A16BD29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31A4-A533-40B2-BD6F-EF1905FC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23FB-BE7E-4DAB-9BC7-D6F4ACDB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02A8-81BC-4FFE-B66D-BFDA9882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F037-9892-474F-95A8-80EB0CA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F877-C3F3-4064-9469-34224529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7772-7541-4CBA-8E4A-6DE770B5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3AAB-AFC4-4F98-9BE5-44FE794E40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/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03CA-7D8F-4743-B096-C46871EAF3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500" spc="-1" strike="noStrike">
                <a:solidFill>
                  <a:srgbClr val="ffffff"/>
                </a:solidFill>
                <a:latin typeface="Arial"/>
              </a:rPr>
              <a:t>Функционално програмиране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nh McCarthy,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разработчик на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SP (1958-5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8861-FEBF-43BC-B9BB-6467EAE26C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S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cessing (LISP, Makkarti, 1950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ърво е описан като математически формализъ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обе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й-старият и най-разпространения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ного диалек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ървият</a:t>
            </a: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алект е з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BM 7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символна обработка и задачи от 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езтипов ез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фиксен запи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произволен брой аргумент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unname arg1 arg2 …arg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Механизъм на работ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Четене – оценка – отпечатв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me (1975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алек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укциите могат да бъдат стойности на изрази и елементи на списъци, могат да бъдат присвоявани на променливи и предавани като парамет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0688-8207-468E-B21C-7346086140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имитивни изрази (обекти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то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Числа – цели и реални (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7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-2.3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нстанти -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#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true), 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#f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false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Символи – последователност от малки и главни латински букви, цифри и специални знаци без интервали, кавички и скоби (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ав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дентификатори – символи, започващи с буква и означават имена на обек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Числата не са символи. Символите представляват данни, процедури и идентификато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Низове – последователност от знаци, заградена с кавички (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“а в”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ци – наредена последователност от обекти, разделени с интервал и заградена с 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Обикновен –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 () 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nil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1 (2 3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мбинаци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Специална форма – всички вградени и потребителски процедури (функции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562E-1483-4C0F-BA57-46F6A28876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ценяван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исла – като самите себе 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мволи – в зависимост дали със символа е свързана стойност или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(ако а е несъвърза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rror/n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(ако а=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изове – като самите себе 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“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c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бикновени списъци – като гре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 (1 2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ециални форми – различно за всяка 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8E1C-DCCA-4C7D-8EFF-A5F120CDD7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Комбина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комбинацият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редставлява списък, чийто първи елемент е процедура (първият елемент се нарича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оператор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а останалите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операнди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процедура&gt; &lt;арг1&gt; ... &lt;арг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Оценяване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 Оценява се операцият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цедурата), като нейната оценка е процедурен обект, който представлява последователност от машинни инструкции, които реализират операцията. Оценяват се операндите. Накрая процедурния обект се прилага върху оценените операнд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(+ 1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(+ 1 2 3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едимство на префиксния запис: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изволен брой аргумен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380880" y="4417920"/>
            <a:ext cx="2895480" cy="1145520"/>
            <a:chOff x="-380880" y="4417920"/>
            <a:chExt cx="2895480" cy="1145520"/>
          </a:xfrm>
        </p:grpSpPr>
        <p:sp>
          <p:nvSpPr>
            <p:cNvPr id="140" name=""/>
            <p:cNvSpPr/>
            <p:nvPr/>
          </p:nvSpPr>
          <p:spPr>
            <a:xfrm>
              <a:off x="1981080" y="4417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4417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4417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466056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0" y="46465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380880" y="4646520"/>
              <a:ext cx="251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ff"/>
                  </a:solidFill>
                  <a:latin typeface="Arial"/>
                </a:rPr>
                <a:t>маш. инструкции, реализиращи опер. “+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5390-7BD1-4136-856B-4DC94C37E0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имитивн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+, * - с 0 или повече параметъ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, / - с 2 или повече параметъ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rt –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дигане на 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500" spc="-1" strike="noStrike">
                <a:solidFill>
                  <a:srgbClr val="ffffff"/>
                </a:solidFill>
                <a:latin typeface="Arial"/>
              </a:rPr>
              <a:t>Примитивни предика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&lt;, =, 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, or,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d (&gt; x 5) (&lt; x 15)</a:t>
            </a:r>
            <a:r>
              <a:rPr b="0" lang="bg-BG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define (&gt;= x 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or (&gt; x y) (= x 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define (&gt;= x 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not (&lt; x 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AE60-20B3-4B2A-903B-AB9140F1A2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Запишете в префиксна форма изразите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5+2*3)* (7-5/4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3*х-1)/((х+1)*(х+5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Оценете изразите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* (+ 1 6 2) 2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1 6 9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а вс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&gt; 1 5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(&lt; 2 1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446F-3D05-4AEE-9C8B-B93CD1953F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Как се реализират базите от данни в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чрез релационни таблиц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чрез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чрез релационни таблици с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я съставна структура от данни не може да се реализира на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двоично дър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па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ножест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никоя от изброенит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не е част от експертните систем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операционна систем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база от зн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ашина за изв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требителски интерфейс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Ако променлива от целта не може да получи стойност в програмата, то: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роменливата остава свободна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грамата връща гре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менливата се свързва с произволна стойност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BF79-8B15-4172-A779-03A031EFA4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араметър на предикат може да бъд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входен или изходен в зависимост от желанието на потребител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входен или изходен в зависимост от програма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входен или изходен в зависимост от Пролог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или само входен или само изходен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В чистия логически език какво не може да им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обработка на списъц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рекурсия, присвояване и проверка за типов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намират множество от решения на дадена задач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чрез механизма на възвра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чрез метода на резолюция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чрез !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70A4-56A1-48C1-BA14-8BF94CAB35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Как се реализират базите от данни в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чрез релационни таблиц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чрез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чрез релационни таблици с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я съставна структура от данни не може да се реализира на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двоично дър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па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ножест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d. никоя от изброенит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не е част от експертните систем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операционна систем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база от зн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ашина за изв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требителски интерфейс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Ако променлива от целта не може да получи стойност в програмата, то: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променливата остава свободна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грамата връща гре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менливата се свързва с произволна стойност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CA74-F095-4D9C-A36F-BAF7FACB44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араметър на предикат може да бъд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a. входен или изходен в зависимост от желанието на потребител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входен или изходен в зависимост от програма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входен или изходен в зависимост от Пролог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или само входен или само изходен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В чистия логически език какво не може да им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обработка на списъц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b. рекурсия, присвояване и проверка за типов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намират множество от решения на дадена задач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b. чрез механизма на възвра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чрез метода на резолюция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чрез !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77A1-2DC1-4F90-8EA1-DFCEE842E9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500" spc="-1" strike="noStrike">
                <a:solidFill>
                  <a:srgbClr val="ffffff"/>
                </a:solidFill>
                <a:latin typeface="Arial"/>
              </a:rPr>
              <a:t>Въведение във функционалното програмиран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еоретичен мо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собености на функционалните ези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идове функционални ези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Лис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митивни обек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еханизъм на работа. Оценяв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мбин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митивни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D4D7-2217-4F92-9165-8E6736401E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оретичен модел на функционалните ези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математически функции и </a:t>
            </a:r>
            <a:r>
              <a:rPr b="0" lang="he-IL" sz="2600" spc="-1" strike="noStrike">
                <a:solidFill>
                  <a:srgbClr val="ffffff"/>
                </a:solidFill>
                <a:latin typeface="Arial"/>
                <a:cs typeface="Arial"/>
              </a:rPr>
              <a:t>ג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-смятането (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lonzo Church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за дефиниране на функции без име –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lambda 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функции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(Alonzo Church, 194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Бекус, 1978 поставя началото на функционалния стил за програмиране, използващ примитивни форми, дефиниции или функционални форм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1872-FBF3-49A1-A259-C12AA736F5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собености на функционалните ези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инственото действие е обръщението към функ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инствения начин за разделяне на програмата на части е въвеждането на име на функция и задаването на това име на израз, който пресмята стойността на функцията </a:t>
            </a:r>
            <a:r>
              <a:rPr b="0" lang="bg-BG" sz="19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 програмите представляват дефиниране на функ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инственото правило за композиция е суперпозицията на функции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Не използват променливи и оператори за присвояване </a:t>
            </a:r>
            <a:r>
              <a:rPr b="0" lang="bg-BG" sz="19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 итеративните конструкции не са възможн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овторенията се реализират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накво представяне на код (функции) и данн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Изпълнението на функция винаги дава същия резултат  при същите входни парамет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роста семантик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Задават множества от примитивни функции и функционални форми за конструиране на съставни функции, операции, и някои структури за представяне на данн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Използват се по-често интерпретато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1585-3CC5-4AA4-B229-8AA4CCA904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Видове функционални ези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Чист функционален ези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правляващите конструкции са функциите, функциите не допускат странични ефек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–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ЧИС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P,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kell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PE, Miranda, FP, 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чист функционален ези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правляващите конструкции са функции и императивни конструкции, функциите допускат странични ефек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me, Common Lisp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L(1980), Golden Lisp,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... (диалекти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P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Логически и функционални езиц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, F, R, HASL, FUNLOG, QUTE, LOGLISP, QLOG, PIL, W, Prolog-with-Equality, EQLOG, TABLOG, UNICORN, Pop-11, LEAF, APP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D353-F3EF-486D-BC01-0F8FC5DD05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1-09T08:01:40Z</dcterms:modified>
  <cp:revision>161</cp:revision>
  <dc:subject/>
  <dc:title>Функционално програмиране</dc:title>
</cp:coreProperties>
</file>