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64A2-5827-4608-AD4D-2F624057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C9A1-D2D1-45C8-9535-CFCD698F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DB28-3392-4614-ABCB-C3E317DA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5508-7A53-44E6-8D65-81F433DF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DF5E-DD18-4BC6-918B-BE179694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07A-3818-4325-AACE-29E4FA7C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FB0B-2CF2-4C70-8F9C-85A8F6AA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8959-64CA-4F9E-88B8-09A77D95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4C96-38A7-4360-88D5-C3C7715D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50F9-9DF6-432F-BA85-7DF3D172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3C60-87B5-4F62-9AD6-65A1344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B819-CC5B-43EB-8323-B1E612C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4AA6-C33D-42FB-A58D-CBE7DAD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A9E7-B73E-4A23-8FFD-7CE6BFB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4BB4-195C-472B-9D1E-ADABD58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268D-1824-41A2-A835-67C40BCD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5359-0D7C-4CD4-9ACD-682DD930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CE7A-71DB-457C-814E-BC0B852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BC83-89AE-4763-81F3-1E41280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9EA1-CB4A-46C3-8934-A232484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0F4F-A58A-4434-B398-D533A927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FBB2-24FC-49B8-A1FA-EDE0ADA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E1D5-F717-4C24-A6D5-9CCF562C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6016-843D-4478-A4B0-4B7AD92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168-E626-4676-8E0D-D3AF0E9DE2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7141-F215-4D53-A10B-0BAC5F00F7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ид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ат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разен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примитивна функ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няма тако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e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ярно за Лисп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може да се променя синтаксис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може да се променя семантикат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реализира се само чрез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9F4B-7532-4ABD-A155-F38C77B6D3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очкова двойка (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израз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ределение: всеки атом е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зраз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; ак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с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и, 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.Y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–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нструи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s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1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стъп до частите на точковата дво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r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очкова двой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r ‘(1.2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irst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cd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очкова двой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cdr ‘(1.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st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05AE-ECB0-431C-AB58-21CA17380E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ставен обект, вграден в Лис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a1 (cons a2 … (cons an nil) … 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1.(a2. … .(an.nil) … )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значаваме 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1 a2 … 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азен 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()=nil=#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нстру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ist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&lt;елемент_1&gt; &lt;елемент_2&gt; ...)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ist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1 2 3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list 1 ‘(2 3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1 (2 3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ns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s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‘(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cons ‘(1 2) ‘(3 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end  &lt;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1&gt; &lt;списък2&gt;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   (1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1 2) 3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остъп до частите на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r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писък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r ‘(1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r ‘((1 2) (3 4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rst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1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dr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cdr ‘(1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dr ‘((1 2) (3 4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st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3 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75F2-198C-482C-BD76-60C9F8956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исъц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(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(a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/ni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(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(a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/(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(cons ‘a ‘(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(cons’() ‘(a b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() a 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26F4-12E5-47C2-9E57-7FF59205F3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бработка </a:t>
            </a:r>
            <a:br>
              <a:rPr sz="3900"/>
            </a:b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на 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6483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роя на атомите в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br_a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atom? l)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+ (br_a (car l) (br_a (cdr l)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едение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дигане на квадрат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секи елемент на списъка да се увеличи с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простите числа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числата на Фибоначи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азен 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[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]=nil=#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 алгорит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роя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ength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1 (length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и елемент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_el n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 (car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 n_el (- n 1)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F7AB-59E4-4076-A720-28801B2B11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Конструирайте списъка (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(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чрез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Извлечете от списъка ((3 4) ((5)) 2)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(3 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4C61-AA27-435C-B769-67E192E41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кода представлява дефиниране на променливи и функ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итежават оператори за присвоя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вторенията се реализират чрез цикл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кода и данните имат еднакво представя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й е механизма на работа н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механизъм на възвра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етод на резолюция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четене-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e. функционален механизъм на Лисп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лко аргумента може да има умножението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не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точно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изволен брой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не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вид запис се използва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ре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ост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ин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3BC8-F4AB-4CCF-A535-501197161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ид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c. ат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разен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примитивна функ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d. няма тако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e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ярно за Лисп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може да се променя синтаксис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може да се променя семантикат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d. реализира се само чрез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0E2A-8EEF-45A1-832C-F49C845B13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кода представлява дефиниране на променливи и функ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итежават оператори за присвоя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вторенията се реализират чрез цикл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кода и данните имат еднакво представя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й е механизма на работа н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механизъм на възвра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етод на резолюция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четене-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e. функционален механизъм на Лисп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лко аргумента може да има умножението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не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точно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произволен брой</a:t>
            </a: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не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вид запис се използва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ре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ост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ин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E0C7-7F38-420C-9DD4-BAE1D0E28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очкова дво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бработка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7AB2-7F6F-4092-B254-DC7FD4459F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ределение – функции, връщащи логическа стой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q?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rg1 arg2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ите са еднакви атоми,иначе връща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q? ‘a ‘a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&gt;(eq? ‘a ‘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&gt;(eq? ‘a ‘(a b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q? ‘(a b) ‘(a 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list? ar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а е списъ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(x y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null? arg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а е празен списъ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x y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(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AEE02-1B09-4F4E-9088-E82564C7DD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&g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ven?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роверява дали аргумента е четн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dd?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– проверява дали аргумента е нечетн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zero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проверява дали аргумента е ну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che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q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квивалентност при символн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=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квивалентност при числов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qv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квивалентност при символни и числов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Функции за изх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ispla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израз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печатва на ек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ewlin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ов р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73CD-A33B-4171-A986-F5BEAA1D17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ote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ръща неоценения об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quot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quote (1 2 3)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‘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’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ръща като резултат оценения изра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Универсална функция, която може да оцени всяка друга функ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може да се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ползва като интерпретатор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arthy, 196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val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expr '(+ 3 4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y 1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3 4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x '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expr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7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(list + 3 4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x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7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2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''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D1AC-B46E-4910-9FC8-0DE1F8FB5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ява условен_израз_1, ако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оценява условен_израз_2 и т. н. докато се получи оценк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След това се оценява съответния списък от изрази и получената оценка се връща като оценк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израза. Оценката на списък от изрази е оценката на последния израз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никои условен израз не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връща оценката на списъка от изрази сле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se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(cond 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&lt;условен_израз_1&gt; &lt;списък_от_изрази_1&gt;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имер: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ond ((&gt; x 0) x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&lt;условен_израз_2&gt; &lt;списък_от_изрази_2&gt;)</a:t>
            </a: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(&lt; x 0) (- 0 x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else 0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else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 &lt;списък_от_изрази&gt;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оценява се условен_израз и ако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получава като оценк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раза оценката на израз_1, иначе се получава оценката на израз_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&lt;условен_израз&gt; &lt;израз_1&gt; &lt;израз_2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f (&gt; x 0) 1 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901E-EAE0-4558-A0BD-227981B6D0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16T07:44:46Z</dcterms:modified>
  <cp:revision>156</cp:revision>
  <dc:subject/>
  <dc:title>Функционално програмиране</dc:title>
</cp:coreProperties>
</file>