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4489-C694-4909-AE6A-FF1999FC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E583-2DC9-45EC-B95F-8DF8023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0DF0-C4BB-4AA9-B2E7-81EE0F43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1FBA-0033-4CFE-AD8C-DC92B014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F74-5CEC-427B-AA6A-82C559C4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76F5-B60F-4BCC-926C-1F98C63E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D38-FE4F-4DCC-A99A-713E36EE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1C96-1DE0-4DD5-8A71-CCCA455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FAD6-7601-4DDD-88F4-ED1F696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598-79CC-48C6-8269-717A18EC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31A0-264B-41E0-9CEE-3060D7E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A967-E40A-4834-B0FF-DAB1EB77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5244-EAC1-4E87-B032-74A3FA4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5EA-2BF3-4730-8D56-CC230C0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E230-003D-4B1A-8E55-2B4CBE5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C25-A6BC-4D95-B7B5-8571DFB6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A57-8B20-497B-88EA-BE42E60C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18B9-374B-46DF-B07D-C68F63F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BC02-45DC-4AF8-A2C2-8DEE038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D5A9-AC15-4538-842E-047AA8E3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1E89-96DD-4319-877E-A7ABA35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391C-4D94-42AA-A8A5-2E5A7B9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7031-C26D-41D7-9FA1-3424D6E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1892-F17A-4F11-A322-CA3EE07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6BB-CF9D-466C-A99F-C36AB2E76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70C-9B39-424A-8085-31E64B3E9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242C-9E9B-4E8B-8D5F-18E866C40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nullval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accumulate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(next i) (oper s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oduct a item b next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* 1 a item b n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7E7D-9CFE-4F73-ACAE-095C652C0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a b) null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i b)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(next i) (oper s (item i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iter (next i) s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) Сума на четните числа от а до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) Произведение на простите числа от а до в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1055-E617-456C-B1FA-B33FC4F3B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ърсене на елемент в р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a), …, f(b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релация 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found rel x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ond ((&gt; a b) #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(rel (item a) x) #t)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else (found rel x (next a) item b next)))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1D5A-2CDE-4057-9AEB-0B3EE8A5B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(car l) (sum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car l) (product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ccumulate oper nullval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null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car l) (accumulate oper nullval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 = {+, *, cons, append, …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+ 0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* 1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49B0-FD3B-4E43-BBC9-50E890220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square (car l)) (squar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1+ (car l)) (1+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p f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s (f (car l)) (map f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square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1+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96FC-E509-49B5-9320-D945C29B1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prime? (car l)) (cons (car l) (prime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prim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fib? (car l)) (cons (car l) (fib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fib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lter pred?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? (car l)) (cons (car l) (filter pred?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 pred?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prime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fib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334120"/>
            <a:ext cx="358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та от кубовете на четните числа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3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(map cube (filter even?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0423-B420-4D6B-B702-DEF82AD32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ефиниране на процедура “анонимно”, т. е. без да се свързва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такси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ка: същата е ка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ите, разликата е, че няма свързване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e) (car (cdr 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lambda (e) (car (cdr e))) ‘(a b c)) e –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вързана промен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term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(lambda (x) (* x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x x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ext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x) (+ x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x 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term a next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F1D4-53F5-40C6-BCC9-3CFA99BDE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место име на процедура им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формален параметър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Като оператор в комбин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63BB-0B2A-4B65-B0CA-55100169D5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ременно свързване на променливи с оценките на изр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вързването на променливите с изразите става е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а 5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 ((a 7)) (* 5 a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바탕"/>
                <a:ea typeface="바탕"/>
              </a:rPr>
              <a:t>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lambda (a) (* 5 a))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*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b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7130-8874-44CC-9273-75BBE2EC79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реализиране на влож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израз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не – оценява се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е свързва с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 Ако при оценяването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, в него се среща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то се използва вече свързаната с нея оценка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z (+ x y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z (+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x y z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(+ x y z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9BB5-2FAD-4717-82C1-BD587541D3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е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766A-68E2-4940-9A5E-45221C5BB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=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3*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(f(x+dx)-f(x))/dx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изволно достатъчно малко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се знае коя функция се получ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резулт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(derive f d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 намираща производн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((derive cube 0.001)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.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BB20-FAB5-4415-B4C1-96C0F6461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сумата на квадратите на четните числа от 1 до 10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на произведението на елементите на списъка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, които са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&lt;50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 &gt;1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0B67-2D66-4BCD-8580-711EF02DAE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AB8B-D33E-472C-92D4-6217F291B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3C3F-BC44-4B11-9326-6B1760DCD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28C3-04BA-4D24-B449-802F4D1062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пределение: Функция, чийто параметър е функци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ли връща като стойност функция или и двете (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unctional form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ид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позиция на функции – резултата е едната функцията, приложена върху резултата на другата функцията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 оригиналния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sp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+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3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h(x)=f(g(x))=(3*x)+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dr (cdr ‘(a b c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рукция – приема като параметър списък от функции, тези функции се прилагат към аргумента и резултатите се връщат като списък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2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/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[g, h, f] (4) -&gt; (16, 8, 2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лагане – приема като параметър една функция и се прилага към списък с аргументи, като резултата от прилагането се връща в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666699"/>
                </a:solidFill>
                <a:latin typeface="Arial"/>
                <a:ea typeface="Arial"/>
              </a:rPr>
              <a:t>α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(h, (2, 3, 4)) -&gt; (4, 9, 16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heme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define (mapcar fun li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null? Lis) ‘(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(cons (fun (car lis)) (mapcar fun (cdr lis)))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&gt;(mapcar (lambda (x) (* x x)) ‘(1 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4 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74BC-29BC-413C-A5EE-B7E83031D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(sum1 (+ a 1) b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+ (cube a) (sum2 (+ a 2) b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+ (item a) (sum (next a) item b next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дача: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*(а+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а+4)*(а+6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...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*(b+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3646-AF42-4FDE-8A1F-490D204B2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1 i s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2 i s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(+ i 1) (+ s i))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(+ i 2) (+ s (cube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a 0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a 0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-iter i s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(next i) (+ s (item i))))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a 0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1/(а*(а+2) + 1/(а+4)*(а+6) + ... + 1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*(b+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F618-BA23-4F69-9F92-DE471BC5D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*…*f(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* (item a) (product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-iter i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r (next i) (* p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m a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act n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d x)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oduct 1 id n 1+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1D91-DE11-4A91-97AC-1C34372902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30T08:21:34Z</dcterms:modified>
  <cp:revision>159</cp:revision>
  <dc:subject/>
  <dc:title>Функционално програмиране</dc:title>
</cp:coreProperties>
</file>