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BBD9-D2E2-4124-BADD-50ED6243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273D-FD64-4664-9026-924B189B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1C3E-B257-428F-A587-F87FA087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94E1-53F2-4C54-84ED-5FE1B422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EB4-1078-4FEB-8975-3D5C3264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697D-74F3-47DA-B88F-A520401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20F6-F752-40E3-A853-2F8A449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186-56CA-46E7-B8C8-81DA2E0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CBD-B7CC-4134-AFA6-291382B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20F-7B9A-46D8-BC4B-2924EAD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99D-F9CB-40F5-BB90-73A8B49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5CDA-C61B-4A9A-9F9C-3DCB7EB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B1C-E681-4F97-9C30-324B9AB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8B9-7F9E-4EE6-8625-83AFF6F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41F-646C-4B1C-93CF-71F08A5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C422-FF3C-4BEF-9A0B-D5382DA0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F08-A8F8-43C6-A101-7189E31B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9E3E-6823-4C53-82A9-08E5A64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B32D-EFD1-4180-9C89-867AC23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F26A-C07B-4001-843F-911A58F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249C-9E1D-48E2-AE74-1D6DDE9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F640-9630-462E-85BF-0571D94B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135A-31F2-4B2E-A390-E0C3317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124D-2D71-48E9-8AB5-8B0DD2F7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7702-3150-41D7-95C5-E041DA395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FA6-2030-4D70-A953-82F6E623F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CC8B-0189-46A4-9BBA-E8C0FEBA7B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ционални числа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точкова двойк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, q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rat n 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n d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umber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nom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d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+rat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make_rat (+ (* (numer x) (denom y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numer y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denom y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нстру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конструиране на съставна структура от примитивни структу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еле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извличане на компонентите на съставна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6E89-FDBC-4639-BFC5-8A1AD233FF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воично дърво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ot left righ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tree root left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 root left right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oo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f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igh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leaf?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nd (null? (left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ull? (right tre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03BD-CCF9-45BB-814B-07C2C692F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ашка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first-ptr last-pt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q (make-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)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lete-queue! 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FF76-C57D-46DA-B185-BE1DFA948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fir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la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d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fir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a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la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d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empty-queue?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null? (first-ptr queue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make-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ons nil nil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25B3-2926-47C1-A055-856C5D88DA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nsert-queue! queue it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et ((new-pair (cons item nil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first-ptr queue)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lete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deleting an element from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(cdr 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41C4-337C-4356-9D6B-DD7CA72BC6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(first queu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t-queue! (delete-queue! queue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irst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first is called for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(first-ptr 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4A83-AD3A-4EA3-9ADE-508571751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рез разрушаващите функции от списъка (1 2 3 4) получете списъка ((3 5) 7 8 9), а след това списъка ((3 5) (1 2) 8 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ставете по подходящ начин комплексното число в Лисп, заедно с операциите за конструиране, извличане на частите от числото, събиране и изважда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A973-F067-4780-8837-E19887965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7089-5B54-4B18-8CF6-AEAA7CA02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89CB-D72C-4C05-BBC4-CD2430CA2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D962-A7E6-429B-AB43-5D6FB5E76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4B81-E738-44F3-A190-3C88BFACE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D892-CF4E-4122-9089-81B3E29C95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КЛЮЧИТЕЛЕН ТЕ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пълниха ли се Вашите очаквания от дисциплина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о още бихте желали по отношение на материала и преподаване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руги комента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лекци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упражнения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 за Вашите знания до мо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15D6-09FB-4783-B822-2D2E454EA9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В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AB60-BFBC-4AB8-A58B-46F74BCA5C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 се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C68B-504E-4F38-AB1E-4BB5E7CA3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FA91-1F13-4391-91FF-18E83DAAC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.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9885-52CF-47A1-9F7D-338B0F0E9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м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се израза. Резултата от оценяването зависи от реализацията. По стандарт е неопределен. Като страничен ефект се разрушава съществуващата връзка на името с обект и се създава нова връзка с оценката на израза. Името трябва да е свързано преди обръщението къ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define x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x (+ x 5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a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зрушаващите процедури не могат да се оценяват чрез апликативния мо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CB40-A9CB-472E-9535-B80D68CCD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e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с оценка точкова двой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 произволен из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глав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ar! x 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 b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892C-0C88-4B55-ADA9-F85443AAA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опашк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y ‘(e 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dr! x y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a b) e 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3998-B5A2-4004-AF54-37F622E0B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38320" y="1371600"/>
            <a:ext cx="4038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Разрушаващи процеду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304560"/>
            <a:ext cx="7620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Реализация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то резултата се връща в първия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ppend!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last x)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ast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(cdr x))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st (cdr x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изключване 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я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delete! l 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! l (cdr l))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-cdr! (n_sub_list (- n 1) l) (cdr (n_sub_list n 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sub_list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_sub_list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55D6-8636-4612-A640-EBE5B7E32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2-07T08:01:19Z</dcterms:modified>
  <cp:revision>160</cp:revision>
  <dc:subject/>
  <dc:title>Функционално програмиране</dc:title>
</cp:coreProperties>
</file>