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166-DA24-4CF2-B7B0-BF3556EA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A32-0246-4DD8-8D4B-ACA6864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E88-0672-466C-9B86-97E5C19B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DE2-2F99-4E7D-A8C1-D0E6E3AA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E48D-69D6-4A55-ABF6-366BB953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94E-C0A3-47AE-B076-D829DDFE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8EC6-35EE-471C-ABF1-8489303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5F2-142F-4C46-907E-B1B0C45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D0D-A139-4D8A-9CCF-A20A7515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15A4-C7E6-4D1F-BA05-A34419AF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66B3-9E05-4092-874C-E06AEDC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681-F270-42AA-8A11-FAD7BDA4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29B-F04F-4080-95E1-13C5CC65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E7F3-FA8C-4DDE-AAB6-337349A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CAE0-2556-44D2-893E-AEF5183B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A2D-0B50-4744-A640-3933B196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E9C7-8317-4BEB-AC35-1C0606D4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3A7-4DA8-4549-9CC5-1C3F53FA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D74-E156-466E-8B5F-F2D2566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94-2CE5-4128-9A52-15876DDE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E63-0D73-44C9-97AF-C7BBD20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A65-A705-4248-83CB-A511A5F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EB0-F827-4402-9241-C5D7FAF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CCB-3226-47B7-9FB3-B248CD6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8AE5-377A-47D4-9394-A500B54E1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FBA-E51C-46B4-BE08-8F81B05D9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Логическо и функционално програмира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ц. д-р Елена Со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У “Паисий Хилендарск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. “Компютърна информатик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eledel@pu.acad.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D566-EF96-4287-825A-39C37E106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Констант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Променлив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e n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тна функци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, …, t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t1, …, tn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местен предикат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1, …, t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(t1, …, tn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атомар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ермите се конструират аргументи на предикати и функции, а чрез предикатите и функциите се изразяват твър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Атомарната формул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правилно построена формула (формула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формули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формул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а, 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Литера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атомарна формула или отрицание на атомарна форм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вободната променли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променлива без квантор отп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Затворе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формула без свободни променл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2B7-1CA6-480F-BDF5-FD39502B0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Ще разглеждаме затворени формули. Чрез еквивалентни преобразования формулите се привеждат в клаузна фор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Клауз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нарича дизюнкция на краен брой литер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кони за привеждане на дадена формула в клаузна форм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2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омутатив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истрибутив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6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де Морг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войното отриц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(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7E5-35E0-46DA-BB26-3163DD33C7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ла за привеждане на дадена формула в клаузна фор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еквивалентности и имплик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8 и 9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граничаване на отрицанието (чрез 5, 6, 7, 10 и 11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зделяне на променливите (чрез 11 и 12 закон) – всеки квантор с неизползвана променл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BCE-B3E6-4018-AB12-88D86CE98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лиминиране на квантора за съществу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a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дето а е съществуващия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образуване в префиксна фо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ждане в конюнктивна нормална форма (конюнкция от дизю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r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вантора за всеобщност – т. к. се разглеждат само затворени формули, всички променливи са свързани с този кван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239-6F84-4D71-91CF-8A90F7BFA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онюнкци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1 и 2 закон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. к. реда в конюнкцията е без значение можем да замени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C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D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ножеството с форму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A, B, C, D}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преобразува в клаузна форма формулат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7. 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8. 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998-689B-405E-8BA9-7C56F8D17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сяка клауза има ви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закон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заменим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;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: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; L; M; … :- P, Q, R,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прологообразен запис на клау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множеството от клаузи: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; s(X) :- p(X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 :- p(X), r(X,f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D62-0E3C-4B71-89EF-DDF1F46DDC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формулата: човек(петър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, майка(иванка, петър), 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Х) :- човек(У), майка(Х, 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E60-EFB6-454F-B53F-AA00E60DCE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ставете в термините на предикатното смятане от първи ред твърдения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 и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ли Мария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също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има кола и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формулата в клаузна форма и в прологообразен запи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(животно(Х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∀У(животно(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(У, Х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ъв(Х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5AA-BF4C-49E8-A14A-A1B9CD6E79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ВАРИТЕЛЕН ТЕС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са очакванията Ви от тази дисцип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домашни рабо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курсови проек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о мислите (нужен ли е) за семестриалния контр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задачи предпочитате да решавате на упражнения – стандартни или творчес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лекции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упражнения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0C2-BD08-4FFC-A78E-9BCC273DD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Логическо програмир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Kowalsk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изследовател в областта на изкуствения интелект. Заедно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in Colmerauer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pe Rousse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 разработили първия логически програмен език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3935" r="7253" b="2178"/>
          <a:stretch/>
        </p:blipFill>
        <p:spPr>
          <a:xfrm>
            <a:off x="6324480" y="762120"/>
            <a:ext cx="2273400" cy="27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780-99A9-4810-8EF9-67E370F60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09EC9193-EB56-403D-953E-97E391D58DC0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E57-721E-496B-B986-14F2DD9CEA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706210A5-3543-44CD-9679-51AEC5EB652D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BA2-3E97-44C4-AFD0-342210DB6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АТЕМАТИЧЕСКИ ОСНОВИ НА ЛОГИЧЕСКОТО ПРОГРАМИР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ждително смя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катно смятане от първи 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авила за привеждане в клауз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логообразен запис на 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06B-D8C1-417C-8D0C-B05F11942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 на формална система – азбука, множество от допустими изрази (формули), правила за образуване на нови формули (правила за извод), фиксирано множество от правилно построени изра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ъждително смя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й-малките различими обекти са съж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 за верни и грешни факти: истин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лъж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ждителни променливи – за произволни фа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те константи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те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съждение може да се образува от по-прости съждения, свързани с логически съюз: конюнция, дизюнкция, импликация, еквивалентност, отриц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561-054A-4CDC-9DFE-62AA5B019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ин съждителен символ се интерпретира като произвол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– съждителна променлива -&gt; факт “Пловдив се намира в България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Логическите константи се интерпретират като верен или греш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ждение състоящо се от 1 символ е вярно, ако факта, с който е свързан е вер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ставно съждение се интерпретира в зависимост от използваните логически съюз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таблица на истинностт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: всяко съставно съждение може да се представи като съставно съждение чрез логическите съюз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7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Закони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за еквивалентни преобразова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ут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соци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дистрибу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(на де Морг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= А (за двойното отриц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 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T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F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24320" y="4044960"/>
          <a:ext cx="3886200" cy="1365120"/>
        </p:xfrm>
        <a:graphic>
          <a:graphicData uri="http://schemas.openxmlformats.org/drawingml/2006/table">
            <a:tbl>
              <a:tblPr/>
              <a:tblGrid>
                <a:gridCol w="544680"/>
                <a:gridCol w="544320"/>
                <a:gridCol w="544680"/>
                <a:gridCol w="542880"/>
                <a:gridCol w="566640"/>
                <a:gridCol w="60948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∧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C11-7B39-4D72-BCFC-F629983F7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 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Предикатно смятане от </a:t>
            </a:r>
            <a:r>
              <a:rPr b="1" lang="en-US" sz="2400" spc="-1" strike="noStrike">
                <a:solidFill>
                  <a:srgbClr val="4f917e"/>
                </a:solidFill>
                <a:latin typeface="Arial"/>
              </a:rPr>
              <a:t>I</a:t>
            </a: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 ред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съжденията имат вътрешн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конкрет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извол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и (функционални символ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зависимост между обе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+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x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за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(x)=x*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приятел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_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на (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Предикати (предикатни символи)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за свойства и отношения между обекти 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p : D1 x D2 x … x Dn </a:t>
            </a:r>
            <a:r>
              <a:rPr b="0" lang="en-US" sz="2000" spc="-1" strike="noStrike">
                <a:solidFill>
                  <a:srgbClr val="5a84d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{T, F}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пр.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иван (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е (иван, 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мъж (и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 –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ван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общност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ществуване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арактеризират променли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. Всеки човек е смъртен -&gt;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 (човек(Х)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мъртен(Х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A65-60F1-43D6-87D5-F3857C245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51:30Z</dcterms:modified>
  <cp:revision>134</cp:revision>
  <dc:subject/>
  <dc:title>Логическо програмиране</dc:title>
</cp:coreProperties>
</file>