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8F9-FE09-40B8-B126-BECABBF7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09A-581D-44E4-97EF-0C2A7077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AF8-E902-420E-A9C0-045CC91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053-9618-420E-BD7F-3E14B7C5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20C0-0412-49D3-8632-621BEDAE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6A73-6F62-4EF7-A357-0F4C504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E126-6677-4C41-8FEC-A56DCDA0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456B-27CD-4189-876B-F1C48DB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A651-99B9-431D-A25E-BD38590A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CA5-267F-4682-9962-FAE676B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16DC-1529-4D30-9C4D-52D34B6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C52-484B-4C41-B23B-2D6EF57C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EE1-586C-423A-81ED-F5EE2EE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6834-7356-4301-B8E8-9A643A4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3750-FE24-422D-B187-4E50D02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D63D-2300-42F5-AD69-D94392AA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8292-29CA-430E-B15D-40497EC0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66D-F7AD-422D-8429-DEA30E40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D69-5DF0-4CBF-B9E5-72D853F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AD7-6BEF-428C-8C51-71FDEEB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E68-C412-42E1-BAAA-1C6F989B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299-5005-4C25-96D9-BDFB75A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39C-492D-4DC1-88AB-0926037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7A8-DC0A-46D6-9FC6-3DA2B62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F94-AD6C-4115-A753-B6B648BF21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2B57-3834-4E6B-BB5E-2F4E462732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узите не съдър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. диз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b. отриц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. кон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е може да е връщана стойност на предик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константата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числото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обекта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е не е тер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лит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фун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променл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й е символа за запис на дизюнкция в прологообразния запи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250-556F-41C4-BD38-E406B6DC60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 се докаже, че множеството е неудоволетвор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. родител(Х, У) :- баща(Х, 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. роднина(Х1, У1) :- родител(Х1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У1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баща(иван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. баща(мария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5. :- роднина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5 -&gt; 6. :- родител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6 -&gt; 7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- баща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, 7 -&gt; 8. :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петъ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, 8 -&gt; 9. :- баща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петъ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 9 -&gt; :-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зна клауза) -&gt; противоречие -&gt; множеството е неудоволетвори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40D-4243-46A4-984A-D6D920512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е дадено множеството от клаузи:</a:t>
            </a: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. животно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));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лъв(Х) :- животно(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. лъв(Х) :- животно(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), 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:- животн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. животн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 се докаже, че том е лъ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2, 3 -&gt; 5; 1, 5 -&gt; 6; 4, 6 -&gt; 7; 4, 7 -&gt; 8; 0, 8 -&gt; 9; 0, 9 -&gt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1C9-AE39-4CD1-A11F-072971D10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ди 22 века – Аристотел – традиционна логика, съждение (вярно, грешн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9 век –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и на машинно доказване на теоре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рбран 193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ърви компютърни реализации на идеите на Ербран – Гилмор, Дейвис и Патнъм началото на 60-те год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ката като език за програмиране – Ковалски и Колмерау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здатели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log (PROgramming in LOGic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ain Colmerauer, Philippe Roussel (Greupe d’Intelligence Artificielle – University of Marseil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770-107F-4157-A7B3-DB6E18B105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собености на 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обе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скриптивен характер: “как” -&gt; “какво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грама = правила + фа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кларативен ЕП – задаване на отношения между обекти от ПО и условия за тяхната валид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накво представяне на данни и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дуктивен изв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ълнение = доказателство (изво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едетерминираност – генериране на алтернативни решения върху едно описание на П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ойнствена роля на аргумен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ойнствена интерпретация – декларативно и процеду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97E-6F48-4869-88D1-AFD36D346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собености на 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и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По-естествени изразни средства – използване на термините на 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Вградени средства за автоматичен логически из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Лесно изграждане на релационни БД и удобно представяне на качествени характеристики и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Лесно формулиране на сложни въпроси от логически свързани подвъпро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1C3-46C2-4878-8569-D9C15FD6E0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Ограничения на клаузите в Пролог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интактични ограни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клаузи на Хорн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- клаузи, които съдържат най-много един положителен литер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p :- q1, q2, …, q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множество от клаузи, в което само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една клауза може да не съдържа положителен литер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- q1, q2, …, q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емантични ограни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входна линейна резолюция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започва се с целевата клауза, резолвира се с някоя от клаузите от БЗ, получената резолвента се резолвира пак с клаузите от БЗ и т.н. (не могат да се резолвират две от клаузите от БЗ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селективна линейна резолюция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редът на унификация на литералите от целта е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от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ляво на дясно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търсене в дълбочин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за селекция на клаузите – избира се винаги първата клауза от БЗ като към следващата се преминава само ако направения избор не води до успех т.е. търсенето е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от горе на долу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406-21E5-4A16-9D4F-E1ED48C4E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кажете неудоволетворимостта на множество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v~q, zv~pv~k, q, k, ~z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ко е дадено множеството от клауз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. студент (Х); студентка (Х) 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2. мъж (Х) :- студент 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ценка(иван, 6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4. :- студентка (и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5. добър_студент (Х) :- студент (Х), оценка (Х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се докаже, че иван е добър сту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4FD-5FB6-45B1-972A-A2E1B3D84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е правило не сеизползва за привеждане на формула в клаузен ви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премахване на еквивалентности и импл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ограничаване на отрицани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премахване на дизюнкци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ое не е конста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бан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Ис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Кой закон не се използва за привеждане на дадена формула в клаузна 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на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асоци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комут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8E9-893C-441C-A924-046B07828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узите не съдър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. диз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b. отриц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5050"/>
                </a:solidFill>
                <a:latin typeface="Arial"/>
              </a:rPr>
              <a:t>c. кон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е може да е връщана стойност на предик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a. константата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числото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обекта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е не е тер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a. лит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фун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променл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й е символа за запис на дизюнкция в прологообразния запи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c.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21F-E9CE-4977-981F-0521D1602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е правило не сеизползва за привеждане на формула в клаузен ви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премахване на еквивалентности и импл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ограничаване на отрицани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c. премахване на дизюнкци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ое не е конста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бан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c. Ис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Кой закон не се използва за привеждане на дадена формула в клаузна 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на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b. асоци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комут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844-98A4-417B-A642-5E66D3558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щност на метода на резолюц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метода на резолюц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лагане на метода на резолюцията за клаузи без променл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лагане на метода на резолюцията за клаузи с променл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н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собености на ЕП Пр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граничения на клаузите в Пр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7A0-C14D-4680-8437-58286AFDF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Метод на резолюцията – </a:t>
            </a:r>
            <a:br>
              <a:rPr sz="3800"/>
            </a:b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същност и използван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Цел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да се установи дали дадена формула е неудоволетворима (т.е. винаг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Използване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проверка за общовалидност на формула (т.е. винаг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лага се метода за отрицанието на формулата, ако отрицанието на формулата е неудоволетворимо, тогава формулата е общовали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проверка дали формула е логическо следствие на множество от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логическо следствие от множеството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1, …, An}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1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е общовали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логическо следствие от множеството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1, …, An}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1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е неудоволетвор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104-E834-41AA-AE54-C95FB8816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илагане на метода на резолюцията за клаузи без променлив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Базово правило на резолюция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клаузи без променли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м умозаключения между клаузите в Б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2V…V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2V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1; A2; …;L :- K1, K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2V…V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2V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1; B2; … :- L, M1, M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лучаваме резолв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2V…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2V…V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2V…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2V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1; A2; …; B1; B2; … :- K1, K2, … , M1, M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резолвентата е празната клауза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в процеса на умозаключения се достигне до празната клауза, то множеството от клаузи е неудоволетвор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20F-CD75-48C1-B342-090B96F0C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илагане на метода на резолюцията за клаузи с променливи. Унификаци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клаузи с променли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м умозаключения между клаузите в БЗ като унифицираме променливите чрез правил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е атомарни формули са унифицируеми ако има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о и също име за предикат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аква размерност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ргументите им могат да бъдат унифицир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а терма са унифицируеми а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иният от тях е променлива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а идентични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мат едно и също име за функция, аргументите на която могат да бъдат унифицир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25C-DDC7-48C3-8ABD-F825F701CF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Примери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за унифик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етъ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a, b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a,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(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,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Y, Z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4f917e"/>
                </a:solidFill>
                <a:latin typeface="Arial"/>
              </a:rPr>
              <a:t>съвместени променл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b, 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, q(a, b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Примери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за липса на унифик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етъ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a, 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b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, Y, Z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411-F3F2-4FC9-94FD-BE04B04D2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tu1</cp:lastModifiedBy>
  <dcterms:modified xsi:type="dcterms:W3CDTF">2008-10-10T07:49:58Z</dcterms:modified>
  <cp:revision>132</cp:revision>
  <dc:subject/>
  <dc:title>Логическо програмиране</dc:title>
</cp:coreProperties>
</file>