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0636-AA7E-43A6-88B9-E7FA7D660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4F5C-F448-4EDC-92CA-CC49CAF4B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D338-6905-478E-876D-D5EE6E611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BD7C-F8D6-4A6E-8CD4-36C930674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11E61-0753-4AAE-941F-06863ED49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10FA3-6322-4122-B21A-FD508FA1F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6F96A-1781-42D4-9580-FC63C57DE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47C59-92E1-4C55-8470-AF57A9A76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82472-D51A-44E5-86CD-D97652D62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BCD76-AA49-48CA-B8B2-01CDB3F60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8D558-0D9E-4600-AC2D-A7BDFBBDF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2CC8-DB43-4845-B692-7A241B832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DBFCE-F51A-490D-8469-7843EA767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B7FDC-8331-4615-8ED3-1607CD255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E9B07-AF3A-4A4C-A1CE-3F880F38F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62B9B-506F-4B4D-8362-B4E04F11E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990CF-CA56-400F-8B50-603079852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F62E-CDFA-4F7B-8354-9A65223FD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373D-29EB-4F51-8E05-BD4648FC8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E18B-D95C-44F7-B8FF-BB64B2ADB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C46A-FA12-4714-B880-AD6888914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8131-6BD3-4F2D-A57F-C98BF74AD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A2BE-7385-44FA-87CB-3879840AB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3A6E-6504-4FDB-8C7B-37AFFC8E9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4760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8cb0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7978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7607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cb0a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760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760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1585E-A620-453B-9F63-563486D2198A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/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7978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4760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7978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2120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7978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8cb0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7978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B7D4C-916B-4F3C-9521-549FF98020D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200" spc="-1" strike="noStrike">
                <a:solidFill>
                  <a:srgbClr val="ffffcc"/>
                </a:solidFill>
                <a:latin typeface="Times New Roman"/>
              </a:rPr>
              <a:t>ТЕСТ 4</a:t>
            </a: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 Кое не е правилен ред на Пролог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a. обича (Х, А) :- харесва (Х, шоколад), харесва (А, шоколад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b. обича (Х, А) :- харесва (Х, шоколад); харесва (А, шоколад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c. обича (Х, шоколад); обича (А, шоколад) :- харесва (Х, А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 На кой запис са еквивалентни тези клауз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q(X) :- t(X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q(X) :- s(X), n(X), m(X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q(X) :- k(X), h(X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a. Ако е изпълнено q(X) то следва t(X) или (s(X) и n(X) и m(X)) или (k(X) и h(X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b. на нито един от записит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c. Ако е изпълнено t(X) или (s(X) и n(X) и m(X)) или (k(X) и h(X)) то следва q(X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d. Ако е изпълнено t(X) и (s(X) и n(X) и m(X)) и (k(X) и h(X)) то следва q(X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 Кога не се задейства механизма на възврат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a. при унификация на цел с прави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b. при пропадане на дадена це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c. при търсене на алтернативно реш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03B0-4FB8-4E49-86EB-95BCBEB6569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800" spc="-1" strike="noStrike">
                <a:solidFill>
                  <a:srgbClr val="ffffcc"/>
                </a:solidFill>
                <a:latin typeface="Times New Roman"/>
              </a:rPr>
              <a:t>Основни предикати. Отсичане</a:t>
            </a:r>
            <a:r>
              <a:rPr b="0" lang="en-US" sz="3800" spc="-1" strike="noStrike">
                <a:solidFill>
                  <a:srgbClr val="ffffcc"/>
                </a:solidFill>
                <a:latin typeface="Times New Roman"/>
              </a:rPr>
              <a:t> (!)</a:t>
            </a:r>
            <a:endParaRPr b="0" lang="en-US" sz="3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476077"/>
                </a:solidFill>
                <a:latin typeface="Arial"/>
              </a:rPr>
              <a:t>Същност:</a:t>
            </a:r>
            <a:r>
              <a:rPr b="0" lang="bg-BG" sz="2200" spc="-1" strike="noStrike">
                <a:solidFill>
                  <a:srgbClr val="ffffff"/>
                </a:solidFill>
                <a:latin typeface="Arial"/>
              </a:rPr>
              <a:t> Предиката винаги успява (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rue) </a:t>
            </a:r>
            <a:r>
              <a:rPr b="0" lang="bg-BG" sz="2200" spc="-1" strike="noStrike">
                <a:solidFill>
                  <a:srgbClr val="ffffff"/>
                </a:solidFill>
                <a:latin typeface="Arial"/>
              </a:rPr>
              <a:t>и забранява връщането назад за преудоволетворяване (спира механизма на възврат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476077"/>
                </a:solidFill>
                <a:latin typeface="Arial"/>
              </a:rPr>
              <a:t>Приложения: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550"/>
              </a:spcBef>
              <a:buClr>
                <a:srgbClr val="47607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ffffff"/>
                </a:solidFill>
                <a:latin typeface="Arial"/>
              </a:rPr>
              <a:t>За указване, че е намерено необходимото правило за удоволетворяване на целт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cb0a2"/>
                </a:solidFill>
                <a:latin typeface="Arial"/>
              </a:rPr>
              <a:t>?- member (a, [a, b, a, c, a, g, a]).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–</a:t>
            </a:r>
            <a:r>
              <a:rPr b="0" lang="bg-BG" sz="2200" spc="-1" strike="noStrike">
                <a:solidFill>
                  <a:srgbClr val="ffffff"/>
                </a:solidFill>
                <a:latin typeface="Arial"/>
              </a:rPr>
              <a:t> ще се преудоволетвори 4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cb0a2"/>
                </a:solidFill>
                <a:latin typeface="Arial"/>
              </a:rPr>
              <a:t>member (X, [X|_])</a:t>
            </a:r>
            <a:r>
              <a:rPr b="0" lang="bg-BG" sz="2200" spc="-1" strike="noStrike">
                <a:solidFill>
                  <a:srgbClr val="8cb0a2"/>
                </a:solidFill>
                <a:latin typeface="Arial"/>
              </a:rPr>
              <a:t> :- !</a:t>
            </a:r>
            <a:r>
              <a:rPr b="0" lang="en-US" sz="2200" spc="-1" strike="noStrike">
                <a:solidFill>
                  <a:srgbClr val="8cb0a2"/>
                </a:solidFill>
                <a:latin typeface="Arial"/>
              </a:rPr>
              <a:t>. </a:t>
            </a:r>
            <a:r>
              <a:rPr b="0" lang="en-US" sz="2200" spc="-1" strike="noStrike">
                <a:solidFill>
                  <a:srgbClr val="8cb0a2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8cb0a2"/>
                </a:solidFill>
                <a:latin typeface="Arial"/>
              </a:rPr>
              <a:t>	</a:t>
            </a:r>
            <a:r>
              <a:rPr b="0" lang="bg-BG" sz="2200" spc="-1" strike="noStrike">
                <a:solidFill>
                  <a:srgbClr val="ffffff"/>
                </a:solidFill>
                <a:latin typeface="Arial"/>
              </a:rPr>
              <a:t>пъти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550"/>
              </a:spcBef>
              <a:buClr>
                <a:srgbClr val="47607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ffffff"/>
                </a:solidFill>
                <a:latin typeface="Arial"/>
              </a:rPr>
              <a:t>За прекратяване търсенето на алтернативни решения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cb0a2"/>
                </a:solidFill>
                <a:latin typeface="Arial"/>
              </a:rPr>
              <a:t>p :- p1, p2, p3, !, p4, p5, p6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550"/>
              </a:spcBef>
              <a:buClr>
                <a:srgbClr val="47607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ffffff"/>
                </a:solidFill>
                <a:latin typeface="Arial"/>
              </a:rPr>
              <a:t>За указване верността на само една от клаузите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cb0a2"/>
                </a:solidFill>
                <a:latin typeface="Arial"/>
              </a:rPr>
              <a:t>r :- !, a, b, 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cb0a2"/>
                </a:solidFill>
                <a:latin typeface="Arial"/>
              </a:rPr>
              <a:t>r :- !, 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cb0a2"/>
                </a:solidFill>
                <a:latin typeface="Arial"/>
              </a:rPr>
              <a:t>r :- f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550"/>
              </a:spcBef>
              <a:buClr>
                <a:srgbClr val="47607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ffffff"/>
                </a:solidFill>
                <a:latin typeface="Arial"/>
              </a:rPr>
              <a:t>За явно предизвикване на пропадане на дадена цел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cb0a2"/>
                </a:solidFill>
                <a:latin typeface="Arial"/>
              </a:rPr>
              <a:t>ne (X) :- X, !, fail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cb0a2"/>
                </a:solidFill>
                <a:latin typeface="Arial"/>
              </a:rPr>
              <a:t>ne (X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D701-7B36-46CC-B687-1F00632AAAF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200" spc="-1" strike="noStrike">
                <a:solidFill>
                  <a:srgbClr val="ffffcc"/>
                </a:solidFill>
                <a:latin typeface="Times New Roman"/>
              </a:rPr>
              <a:t>Списъци</a:t>
            </a: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476077"/>
                </a:solidFill>
                <a:latin typeface="Arial"/>
              </a:rPr>
              <a:t>Определение:</a:t>
            </a: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 Наредена последователност от произволен брой елементи с разделител запетая и заградени в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476077"/>
                </a:solidFill>
                <a:latin typeface="Arial"/>
              </a:rPr>
              <a:t>Примери</a:t>
            </a:r>
            <a:r>
              <a:rPr b="1" lang="en-US" sz="1800" spc="-1" strike="noStrike">
                <a:solidFill>
                  <a:srgbClr val="476077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cb0a2"/>
                </a:solidFill>
                <a:latin typeface="Arial"/>
              </a:rPr>
              <a:t>[1, 2, 3]</a:t>
            </a:r>
            <a:r>
              <a:rPr b="0" lang="bg-BG" sz="1800" spc="-1" strike="noStrike">
                <a:solidFill>
                  <a:srgbClr val="8cb0a2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8cb0a2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8cb0a2"/>
                </a:solidFill>
                <a:latin typeface="Arial"/>
              </a:rPr>
              <a:t>[]</a:t>
            </a:r>
            <a:r>
              <a:rPr b="0" lang="bg-BG" sz="1800" spc="-1" strike="noStrike">
                <a:solidFill>
                  <a:srgbClr val="8cb0a2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8cb0a2"/>
                </a:solidFill>
                <a:latin typeface="Arial"/>
              </a:rPr>
              <a:t>[1, [2, 3]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Части на списък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47607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Глава (е елемент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47607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Опашка (е списък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Означения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, [H|T], [X, Y|T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476077"/>
                </a:solidFill>
                <a:latin typeface="Arial"/>
              </a:rPr>
              <a:t>Примери</a:t>
            </a:r>
            <a:r>
              <a:rPr b="1" lang="en-US" sz="1800" spc="-1" strike="noStrike">
                <a:solidFill>
                  <a:srgbClr val="476077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8cb0a2"/>
                </a:solidFill>
                <a:latin typeface="Arial"/>
              </a:rPr>
              <a:t>Списък</a:t>
            </a:r>
            <a:r>
              <a:rPr b="0" lang="bg-BG" sz="1800" spc="-1" strike="noStrike">
                <a:solidFill>
                  <a:srgbClr val="8cb0a2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8cb0a2"/>
                </a:solidFill>
                <a:latin typeface="Arial"/>
              </a:rPr>
              <a:t>	</a:t>
            </a:r>
            <a:r>
              <a:rPr b="0" lang="bg-BG" sz="1800" spc="-1" strike="noStrike">
                <a:solidFill>
                  <a:srgbClr val="8cb0a2"/>
                </a:solidFill>
                <a:latin typeface="Arial"/>
              </a:rPr>
              <a:t>Глава</a:t>
            </a:r>
            <a:r>
              <a:rPr b="0" lang="bg-BG" sz="1800" spc="-1" strike="noStrike">
                <a:solidFill>
                  <a:srgbClr val="8cb0a2"/>
                </a:solidFill>
                <a:latin typeface="Arial"/>
              </a:rPr>
              <a:t>	</a:t>
            </a:r>
            <a:r>
              <a:rPr b="0" lang="bg-BG" sz="1800" spc="-1" strike="noStrike">
                <a:solidFill>
                  <a:srgbClr val="8cb0a2"/>
                </a:solidFill>
                <a:latin typeface="Arial"/>
              </a:rPr>
              <a:t>	</a:t>
            </a:r>
            <a:r>
              <a:rPr b="0" lang="bg-BG" sz="1800" spc="-1" strike="noStrike">
                <a:solidFill>
                  <a:srgbClr val="8cb0a2"/>
                </a:solidFill>
                <a:latin typeface="Arial"/>
              </a:rPr>
              <a:t>Опаш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1, 2, 3]</a:t>
            </a: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1800" spc="-1" strike="noStrike">
                <a:solidFill>
                  <a:srgbClr val="ffffff"/>
                </a:solidFill>
                <a:latin typeface="Arial"/>
                <a:ea typeface="Arial"/>
              </a:rPr>
              <a:t>►</a:t>
            </a: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 1</a:t>
            </a: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1800" spc="-1" strike="noStrike">
                <a:solidFill>
                  <a:srgbClr val="ffffff"/>
                </a:solidFill>
                <a:latin typeface="Arial"/>
                <a:ea typeface="Arial"/>
              </a:rPr>
              <a:t>►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, 3]</a:t>
            </a: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1]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1800" spc="-1" strike="noStrike">
                <a:solidFill>
                  <a:srgbClr val="ffffff"/>
                </a:solidFill>
                <a:latin typeface="Arial"/>
                <a:ea typeface="Arial"/>
              </a:rPr>
              <a:t>►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bg-BG" sz="1800" spc="-1" strike="noStrike">
                <a:solidFill>
                  <a:srgbClr val="ffffff"/>
                </a:solidFill>
                <a:latin typeface="Arial"/>
                <a:ea typeface="Arial"/>
              </a:rPr>
              <a:t>►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[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[1, 2, 3]]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1800" spc="-1" strike="noStrike">
                <a:solidFill>
                  <a:srgbClr val="ffffff"/>
                </a:solidFill>
                <a:latin typeface="Arial"/>
                <a:ea typeface="Arial"/>
              </a:rPr>
              <a:t>►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1, 2, 3]</a:t>
            </a: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1800" spc="-1" strike="noStrike">
                <a:solidFill>
                  <a:srgbClr val="ffffff"/>
                </a:solidFill>
                <a:latin typeface="Arial"/>
                <a:ea typeface="Arial"/>
              </a:rPr>
              <a:t>►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]</a:t>
            </a: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[1, 2], 3]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1800" spc="-1" strike="noStrike">
                <a:solidFill>
                  <a:srgbClr val="ffffff"/>
                </a:solidFill>
                <a:latin typeface="Arial"/>
                <a:ea typeface="Arial"/>
              </a:rPr>
              <a:t>►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[1, 2]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bg-BG" sz="1800" spc="-1" strike="noStrike">
                <a:solidFill>
                  <a:srgbClr val="ffffff"/>
                </a:solidFill>
                <a:latin typeface="Arial"/>
                <a:ea typeface="Arial"/>
              </a:rPr>
              <a:t>►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[3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1, [2, 3]]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1800" spc="-1" strike="noStrike">
                <a:solidFill>
                  <a:srgbClr val="ffffff"/>
                </a:solidFill>
                <a:latin typeface="Arial"/>
                <a:ea typeface="Arial"/>
              </a:rPr>
              <a:t>►</a:t>
            </a: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 1</a:t>
            </a: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1800" spc="-1" strike="noStrike">
                <a:solidFill>
                  <a:srgbClr val="ffffff"/>
                </a:solidFill>
                <a:latin typeface="Arial"/>
                <a:ea typeface="Arial"/>
              </a:rPr>
              <a:t>►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[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, 3]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] </a:t>
            </a: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1800" spc="-1" strike="noStrike">
                <a:solidFill>
                  <a:srgbClr val="ffffff"/>
                </a:solidFill>
                <a:latin typeface="Arial"/>
                <a:ea typeface="Arial"/>
              </a:rPr>
              <a:t>► няма</a:t>
            </a:r>
            <a:r>
              <a:rPr b="0" lang="bg-BG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bg-BG" sz="1800" spc="-1" strike="noStrike">
                <a:solidFill>
                  <a:srgbClr val="ffffff"/>
                </a:solidFill>
                <a:latin typeface="Arial"/>
                <a:ea typeface="Arial"/>
              </a:rPr>
              <a:t>► ням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476077"/>
                </a:solidFill>
                <a:latin typeface="Arial"/>
              </a:rPr>
              <a:t>Вътрешно представяне</a:t>
            </a: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: чрез служебен функтор “.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1, 2, 3]</a:t>
            </a: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ffffff"/>
                </a:solidFill>
                <a:latin typeface="Arial"/>
                <a:ea typeface="Arial"/>
              </a:rPr>
              <a:t>→</a:t>
            </a:r>
            <a:r>
              <a:rPr b="0" lang="en-US" sz="1800" spc="-1" strike="noStrike">
                <a:solidFill>
                  <a:srgbClr val="8cb0a2"/>
                </a:solidFill>
                <a:latin typeface="Arial"/>
                <a:ea typeface="Arial"/>
              </a:rPr>
              <a:t> </a:t>
            </a:r>
            <a:r>
              <a:rPr b="0" lang="bg-BG" sz="1800" spc="-1" strike="noStrike">
                <a:solidFill>
                  <a:srgbClr val="8cb0a2"/>
                </a:solidFill>
                <a:latin typeface="Arial"/>
                <a:ea typeface="Arial"/>
              </a:rPr>
              <a:t>.(1, .(2, .(3, </a:t>
            </a:r>
            <a:r>
              <a:rPr b="0" lang="en-US" sz="1800" spc="-1" strike="noStrike">
                <a:solidFill>
                  <a:srgbClr val="8cb0a2"/>
                </a:solidFill>
                <a:latin typeface="Arial"/>
                <a:ea typeface="Arial"/>
              </a:rPr>
              <a:t>[])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4C35-820C-4F7E-A5F0-BA1AC612CE8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200" spc="-1" strike="noStrike">
                <a:solidFill>
                  <a:srgbClr val="ffffcc"/>
                </a:solidFill>
                <a:latin typeface="Times New Roman"/>
              </a:rPr>
              <a:t>Списъци</a:t>
            </a: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700" spc="-1" strike="noStrike">
                <a:solidFill>
                  <a:srgbClr val="ffffff"/>
                </a:solidFill>
                <a:latin typeface="Arial"/>
              </a:rPr>
              <a:t>Предимства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7607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  <a:ea typeface="Arial"/>
              </a:rPr>
              <a:t>Елементите на списъка могат да бъдат атоми, структури или др. списъц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7607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  <a:ea typeface="Arial"/>
              </a:rPr>
              <a:t>за обработката не е необходимо предварително да се знаят типът и броят на елементит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7607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  <a:ea typeface="Arial"/>
              </a:rPr>
              <a:t>Чрез списъци могат да се обработват по еднообразен начин различна по обем и съдържание информа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7607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  <a:ea typeface="Arial"/>
              </a:rPr>
              <a:t>Елементите са подредени, но предварително могат да бъдат с неизвестен бро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700" spc="-1" strike="noStrike">
                <a:solidFill>
                  <a:srgbClr val="ffffff"/>
                </a:solidFill>
                <a:latin typeface="Arial"/>
                <a:ea typeface="Arial"/>
              </a:rPr>
              <a:t>Недостатъци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47607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500" spc="-1" strike="noStrike">
                <a:solidFill>
                  <a:srgbClr val="ffffff"/>
                </a:solidFill>
                <a:latin typeface="Arial"/>
                <a:ea typeface="Arial"/>
              </a:rPr>
              <a:t>Не е възможен пряк достъп до произволен елемент от списъка, което води до по-бавна обработка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F4C1-82F3-44AA-8547-888A748ED00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200" spc="-1" strike="noStrike">
                <a:solidFill>
                  <a:srgbClr val="ffffcc"/>
                </a:solidFill>
                <a:latin typeface="Times New Roman"/>
              </a:rPr>
              <a:t>Унификация на списъци</a:t>
            </a: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476077"/>
                </a:solidFill>
                <a:latin typeface="Arial"/>
              </a:rPr>
              <a:t>Свързване на променливи при унификация на два списъка</a:t>
            </a:r>
            <a:r>
              <a:rPr b="1" lang="en-US" sz="2400" spc="-1" strike="noStrike">
                <a:solidFill>
                  <a:srgbClr val="476077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8cb0a2"/>
                </a:solidFill>
                <a:latin typeface="Arial"/>
              </a:rPr>
              <a:t>Списък1</a:t>
            </a:r>
            <a:r>
              <a:rPr b="0" lang="bg-BG" sz="2400" spc="-1" strike="noStrike">
                <a:solidFill>
                  <a:srgbClr val="8cb0a2"/>
                </a:solidFill>
                <a:latin typeface="Arial"/>
              </a:rPr>
              <a:t>	</a:t>
            </a:r>
            <a:r>
              <a:rPr b="0" lang="bg-BG" sz="2400" spc="-1" strike="noStrike">
                <a:solidFill>
                  <a:srgbClr val="8cb0a2"/>
                </a:solidFill>
                <a:latin typeface="Arial"/>
              </a:rPr>
              <a:t>Списък2</a:t>
            </a:r>
            <a:r>
              <a:rPr b="0" lang="bg-BG" sz="2400" spc="-1" strike="noStrike">
                <a:solidFill>
                  <a:srgbClr val="8cb0a2"/>
                </a:solidFill>
                <a:latin typeface="Arial"/>
              </a:rPr>
              <a:t>	</a:t>
            </a:r>
            <a:r>
              <a:rPr b="0" lang="bg-BG" sz="2400" spc="-1" strike="noStrike">
                <a:solidFill>
                  <a:srgbClr val="8cb0a2"/>
                </a:solidFill>
                <a:latin typeface="Arial"/>
              </a:rPr>
              <a:t>Свързване на променлив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[1, 2, 3]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[X, Y, Z]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  <a:ea typeface="Arial"/>
              </a:rPr>
              <a:t>►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=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Y=2, Z=3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[X|Y]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[1, 2, 3]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  <a:ea typeface="Arial"/>
              </a:rPr>
              <a:t>►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=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Y=[2, 3]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[1, [2, 3]]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[X, Y|Z]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  <a:ea typeface="Arial"/>
              </a:rPr>
              <a:t>►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=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Y=[2, 3], Z=[]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[X, Y| Z, V]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[1, 2, 3, 4]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  <a:ea typeface="Arial"/>
              </a:rPr>
              <a:t>►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  <a:ea typeface="Arial"/>
              </a:rPr>
              <a:t>неверен синтакси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[1, 2]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[2, X]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  <a:ea typeface="Arial"/>
              </a:rPr>
              <a:t>►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  <a:ea typeface="Arial"/>
              </a:rPr>
              <a:t>пропа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[X]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[1, 2]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  <a:ea typeface="Arial"/>
              </a:rPr>
              <a:t>►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  <a:ea typeface="Arial"/>
              </a:rPr>
              <a:t>пропа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[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, Y] 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[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, 3]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  <a:ea typeface="Arial"/>
              </a:rPr>
              <a:t>►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X=2, Y=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[2, Y]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[X, Z]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  <a:ea typeface="Arial"/>
              </a:rPr>
              <a:t>►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X=2, Y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  <a:ea typeface="Arial"/>
              </a:rPr>
              <a:t> и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Z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  <a:ea typeface="Arial"/>
              </a:rPr>
              <a:t> се съвместява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[]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[X|Y]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  <a:ea typeface="Arial"/>
              </a:rPr>
              <a:t>►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  <a:ea typeface="Arial"/>
              </a:rPr>
              <a:t>пропа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C3DD-7ECC-43A5-8A5E-E1600028F41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200" spc="-1" strike="noStrike">
                <a:solidFill>
                  <a:srgbClr val="ffffcc"/>
                </a:solidFill>
                <a:latin typeface="Times New Roman"/>
              </a:rPr>
              <a:t>Основни задачи със списъци</a:t>
            </a: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17320" indent="-517320">
              <a:lnSpc>
                <a:spcPct val="80000"/>
              </a:lnSpc>
              <a:spcBef>
                <a:spcPts val="400"/>
              </a:spcBef>
              <a:buClr>
                <a:srgbClr val="8cb0a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Обединение на две множеств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17320" indent="-517320">
              <a:lnSpc>
                <a:spcPct val="80000"/>
              </a:lnSpc>
              <a:spcBef>
                <a:spcPts val="400"/>
              </a:spcBef>
              <a:buClr>
                <a:srgbClr val="8cb0a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Сечение на две множеств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17320" indent="-517320">
              <a:lnSpc>
                <a:spcPct val="80000"/>
              </a:lnSpc>
              <a:spcBef>
                <a:spcPts val="400"/>
              </a:spcBef>
              <a:buClr>
                <a:srgbClr val="8cb0a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Разлика на две множеств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17320" indent="-517320">
              <a:lnSpc>
                <a:spcPct val="80000"/>
              </a:lnSpc>
              <a:spcBef>
                <a:spcPts val="400"/>
              </a:spcBef>
              <a:buClr>
                <a:srgbClr val="8cb0a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Подмножество на дадено множество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17320" indent="-517320">
              <a:lnSpc>
                <a:spcPct val="80000"/>
              </a:lnSpc>
              <a:spcBef>
                <a:spcPts val="400"/>
              </a:spcBef>
              <a:buClr>
                <a:srgbClr val="8cb0a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Празно множество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17320" indent="-517320">
              <a:lnSpc>
                <a:spcPct val="80000"/>
              </a:lnSpc>
              <a:spcBef>
                <a:spcPts val="400"/>
              </a:spcBef>
              <a:buClr>
                <a:srgbClr val="8cb0a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Непразно множество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17320" indent="-517320">
              <a:lnSpc>
                <a:spcPct val="80000"/>
              </a:lnSpc>
              <a:spcBef>
                <a:spcPts val="400"/>
              </a:spcBef>
              <a:buClr>
                <a:srgbClr val="8cb0a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Равенство на множеств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17320" indent="-517320">
              <a:lnSpc>
                <a:spcPct val="80000"/>
              </a:lnSpc>
              <a:spcBef>
                <a:spcPts val="400"/>
              </a:spcBef>
              <a:buClr>
                <a:srgbClr val="8cb0a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Различност на множеств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17320" indent="-517320">
              <a:lnSpc>
                <a:spcPct val="80000"/>
              </a:lnSpc>
              <a:spcBef>
                <a:spcPts val="400"/>
              </a:spcBef>
              <a:buClr>
                <a:srgbClr val="8cb0a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Принадлежност на елемент към списъ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17320" indent="-517320">
              <a:lnSpc>
                <a:spcPct val="80000"/>
              </a:lnSpc>
              <a:spcBef>
                <a:spcPts val="400"/>
              </a:spcBef>
              <a:buClr>
                <a:srgbClr val="8cb0a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Подсписък на даден списъ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17320" indent="-517320">
              <a:lnSpc>
                <a:spcPct val="80000"/>
              </a:lnSpc>
              <a:spcBef>
                <a:spcPts val="400"/>
              </a:spcBef>
              <a:buClr>
                <a:srgbClr val="8cb0a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Сортиране на списъ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17320" indent="-517320">
              <a:lnSpc>
                <a:spcPct val="80000"/>
              </a:lnSpc>
              <a:spcBef>
                <a:spcPts val="400"/>
              </a:spcBef>
              <a:buClr>
                <a:srgbClr val="8cb0a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Намиране на минимум (максимум) на списъ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17320" indent="-517320">
              <a:lnSpc>
                <a:spcPct val="80000"/>
              </a:lnSpc>
              <a:spcBef>
                <a:spcPts val="400"/>
              </a:spcBef>
              <a:buClr>
                <a:srgbClr val="8cb0a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Обединение на два сортирани списък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17320" indent="-517320">
              <a:lnSpc>
                <a:spcPct val="80000"/>
              </a:lnSpc>
              <a:spcBef>
                <a:spcPts val="400"/>
              </a:spcBef>
              <a:buClr>
                <a:srgbClr val="8cb0a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Намиране на к-тия елемент на списък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17320" indent="-517320">
              <a:lnSpc>
                <a:spcPct val="80000"/>
              </a:lnSpc>
              <a:spcBef>
                <a:spcPts val="400"/>
              </a:spcBef>
              <a:buClr>
                <a:srgbClr val="8cb0a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Намиране на дължината на списъ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17320" indent="-517320">
              <a:lnSpc>
                <a:spcPct val="80000"/>
              </a:lnSpc>
              <a:spcBef>
                <a:spcPts val="400"/>
              </a:spcBef>
              <a:buClr>
                <a:srgbClr val="8cb0a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Изтриване на елемент от списък (всяко срещане, първо срещане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17320" indent="-517320">
              <a:lnSpc>
                <a:spcPct val="80000"/>
              </a:lnSpc>
              <a:spcBef>
                <a:spcPts val="400"/>
              </a:spcBef>
              <a:buClr>
                <a:srgbClr val="8cb0a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Добавяне на елемент преди (след) даден елемент в списък (всяко срещане, първо срещане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17320" indent="-517320">
              <a:lnSpc>
                <a:spcPct val="80000"/>
              </a:lnSpc>
              <a:spcBef>
                <a:spcPts val="400"/>
              </a:spcBef>
              <a:buClr>
                <a:srgbClr val="8cb0a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Промяна елементите на списъ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17320" indent="-517320">
              <a:lnSpc>
                <a:spcPct val="80000"/>
              </a:lnSpc>
              <a:spcBef>
                <a:spcPts val="400"/>
              </a:spcBef>
              <a:buClr>
                <a:srgbClr val="8cb0a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Намиране на сума (произведение) на елементите на списъ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17320" indent="-517320">
              <a:lnSpc>
                <a:spcPct val="80000"/>
              </a:lnSpc>
              <a:spcBef>
                <a:spcPts val="400"/>
              </a:spcBef>
              <a:buClr>
                <a:srgbClr val="8cb0a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Обръщане на списъ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17320" indent="-517320">
              <a:lnSpc>
                <a:spcPct val="80000"/>
              </a:lnSpc>
              <a:spcBef>
                <a:spcPts val="400"/>
              </a:spcBef>
              <a:buClr>
                <a:srgbClr val="8cb0a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Пермутация на елементите на списъ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0391-5434-44D7-AE6D-E7AEDCE0F58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800" spc="-1" strike="noStrike">
                <a:solidFill>
                  <a:srgbClr val="ffffcc"/>
                </a:solidFill>
                <a:latin typeface="Times New Roman"/>
              </a:rPr>
              <a:t>Множествени операции чрез списъци</a:t>
            </a:r>
            <a:endParaRPr b="0" lang="en-US" sz="3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Принадлежност на елемент към списък </a:t>
            </a:r>
            <a:r>
              <a:rPr b="0" lang="en-US" sz="2400" spc="-1" strike="noStrike">
                <a:solidFill>
                  <a:srgbClr val="8cb0a2"/>
                </a:solidFill>
                <a:latin typeface="Arial"/>
              </a:rPr>
              <a:t>member (X, 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cb0a2"/>
                </a:solidFill>
                <a:latin typeface="Arial"/>
              </a:rPr>
              <a:t>member (X, [X|_]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cb0a2"/>
                </a:solidFill>
                <a:latin typeface="Arial"/>
              </a:rPr>
              <a:t>member (X, [_|T]) :- member (X, T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cb0a2"/>
                </a:solidFill>
                <a:latin typeface="Arial"/>
              </a:rPr>
              <a:t>?- member (1, [1, 2, 3]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cb0a2"/>
                </a:solidFill>
                <a:latin typeface="Arial"/>
              </a:rPr>
              <a:t>?- member (X, [1, 2, 3]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Обединение на две множества </a:t>
            </a:r>
            <a:r>
              <a:rPr b="0" lang="en-US" sz="2400" spc="-1" strike="noStrike">
                <a:solidFill>
                  <a:srgbClr val="8cb0a2"/>
                </a:solidFill>
                <a:latin typeface="Arial"/>
              </a:rPr>
              <a:t>union (L1, L2, 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cb0a2"/>
                </a:solidFill>
                <a:latin typeface="Arial"/>
              </a:rPr>
              <a:t>union ([], L2, L2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cb0a2"/>
                </a:solidFill>
                <a:latin typeface="Arial"/>
              </a:rPr>
              <a:t>union ([X|T], L2, [X|T1]):- union (T, L2, T1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cb0a2"/>
                </a:solidFill>
                <a:latin typeface="Arial"/>
              </a:rPr>
              <a:t>?-union ([1, 2], [3, 4], [1, 2, 3, 4]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cb0a2"/>
                </a:solidFill>
                <a:latin typeface="Arial"/>
              </a:rPr>
              <a:t>?-union ([1, 2], [3, 4], L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cb0a2"/>
                </a:solidFill>
                <a:latin typeface="Arial"/>
              </a:rPr>
              <a:t>?-union ([1, 2], L, [1, 2, 3, 4]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cb0a2"/>
                </a:solidFill>
                <a:latin typeface="Arial"/>
              </a:rPr>
              <a:t>?-union (L, [3, 4], [1, 2, 3, 4]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cb0a2"/>
                </a:solidFill>
                <a:latin typeface="Arial"/>
              </a:rPr>
              <a:t>?-union (L1, L2, [1, 2, 3, 4]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67A2-7C97-4A37-88CE-AF26A782F54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800" spc="-1" strike="noStrike">
                <a:solidFill>
                  <a:srgbClr val="ffffcc"/>
                </a:solidFill>
                <a:latin typeface="Times New Roman"/>
              </a:rPr>
              <a:t>Поелементни операции на списък</a:t>
            </a:r>
            <a:endParaRPr b="0" lang="en-US" sz="3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Изтриване на всяко срещане на елемент А в списък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1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8cb0a2"/>
                </a:solidFill>
                <a:latin typeface="Arial"/>
              </a:rPr>
              <a:t>del (A, L1, L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cb0a2"/>
                </a:solidFill>
                <a:latin typeface="Arial"/>
              </a:rPr>
              <a:t>del (A, [A|T], L) :- !</a:t>
            </a:r>
            <a:r>
              <a:rPr b="0" lang="bg-BG" sz="2400" spc="-1" strike="noStrike">
                <a:solidFill>
                  <a:srgbClr val="8cb0a2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8cb0a2"/>
                </a:solidFill>
                <a:latin typeface="Arial"/>
              </a:rPr>
              <a:t>del(A, T, L)</a:t>
            </a:r>
            <a:fld id="{BC9CF99D-0BB8-4F03-B101-A2EE7A31D4E6}" type="slidenum">
              <a:rPr b="0" lang="en-US" sz="2400" spc="-1" strike="noStrike">
                <a:solidFill>
                  <a:srgbClr val="8cb0a2"/>
                </a:solidFill>
                <a:latin typeface="Arial"/>
              </a:rPr>
              <a:t>&lt;number&gt;</a:t>
            </a:fld>
            <a:fld id="{BC7E5A9E-B7C4-44F6-8F79-FDBC480AFD04}" type="slidenum">
              <a:rPr b="0" lang="en-US" sz="2400" spc="-1" strike="noStrike">
                <a:solidFill>
                  <a:srgbClr val="8cb0a2"/>
                </a:solidFill>
                <a:latin typeface="Arial"/>
              </a:rPr>
              <a:t>&lt;number&gt;</a:t>
            </a:fld>
            <a:r>
              <a:rPr b="0" lang="en-US" sz="2400" spc="-1" strike="noStrike">
                <a:solidFill>
                  <a:srgbClr val="8cb0a2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cb0a2"/>
                </a:solidFill>
                <a:latin typeface="Arial"/>
              </a:rPr>
              <a:t>del (A, [B|T], [B|T1]) :- del(A, T, T1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Изтриване на първо срещане на елемент А в списък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1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8cb0a2"/>
                </a:solidFill>
                <a:latin typeface="Arial"/>
              </a:rPr>
              <a:t>del (A, L1, L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cb0a2"/>
                </a:solidFill>
                <a:latin typeface="Arial"/>
              </a:rPr>
              <a:t>del (A, [A|T], T) :- !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cb0a2"/>
                </a:solidFill>
                <a:latin typeface="Arial"/>
              </a:rPr>
              <a:t>del (A, [B|T], [B|T1]) :- del(A, T, T1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49DD-45B6-4088-AB2F-5B831B993A5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200" spc="-1" strike="noStrike">
                <a:solidFill>
                  <a:srgbClr val="ffffcc"/>
                </a:solidFill>
                <a:latin typeface="Times New Roman"/>
              </a:rPr>
              <a:t>Помощни предикати</a:t>
            </a: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Подсписък </a:t>
            </a:r>
            <a:r>
              <a:rPr b="0" lang="en-US" sz="2400" spc="-1" strike="noStrike">
                <a:solidFill>
                  <a:srgbClr val="8cb0a2"/>
                </a:solidFill>
                <a:latin typeface="Arial"/>
              </a:rPr>
              <a:t>sublist (L, L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cb0a2"/>
                </a:solidFill>
                <a:latin typeface="Arial"/>
              </a:rPr>
              <a:t>sublist (L, L1) :- union (X, L, Z), union (Z, Y, L1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Обръщане на елементите на списък </a:t>
            </a:r>
            <a:r>
              <a:rPr b="0" lang="en-US" sz="2400" spc="-1" strike="noStrike">
                <a:solidFill>
                  <a:srgbClr val="8cb0a2"/>
                </a:solidFill>
                <a:latin typeface="Arial"/>
              </a:rPr>
              <a:t>reverse (L, 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cb0a2"/>
                </a:solidFill>
                <a:latin typeface="Arial"/>
              </a:rPr>
              <a:t>reverse([], []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cb0a2"/>
                </a:solidFill>
                <a:latin typeface="Arial"/>
              </a:rPr>
              <a:t>reverse([X|T], Y) :- reverse (T, Z), union (Z, [X], Y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Послед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н елемент на списък </a:t>
            </a:r>
            <a:r>
              <a:rPr b="0" lang="en-US" sz="2400" spc="-1" strike="noStrike">
                <a:solidFill>
                  <a:srgbClr val="8cb0a2"/>
                </a:solidFill>
                <a:latin typeface="Arial"/>
              </a:rPr>
              <a:t>last_el (Z, 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cb0a2"/>
                </a:solidFill>
                <a:latin typeface="Arial"/>
              </a:rPr>
              <a:t>last_el (Z, L) :- union (_, [Z], L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Пермутация на елементите на списък </a:t>
            </a:r>
            <a:r>
              <a:rPr b="0" lang="en-US" sz="2400" spc="-1" strike="noStrike">
                <a:solidFill>
                  <a:srgbClr val="8cb0a2"/>
                </a:solidFill>
                <a:latin typeface="Arial"/>
              </a:rPr>
              <a:t>perm (Z, 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cb0a2"/>
                </a:solidFill>
                <a:latin typeface="Arial"/>
              </a:rPr>
              <a:t>perm ([], []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cb0a2"/>
                </a:solidFill>
                <a:latin typeface="Arial"/>
              </a:rPr>
              <a:t>perm (L, [X|T]) :- union (A, [X|B], L), union (A, B, C), perm (C, T)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4E0D-C757-4094-A484-8E28C88C97D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800" spc="-1" strike="noStrike">
                <a:solidFill>
                  <a:srgbClr val="ffffcc"/>
                </a:solidFill>
                <a:latin typeface="Times New Roman"/>
              </a:rPr>
              <a:t>Намиране на сума (произведение)</a:t>
            </a:r>
            <a:endParaRPr b="0" lang="en-US" sz="3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Намиране на сума (произведение) на елементите на списък </a:t>
            </a:r>
            <a:r>
              <a:rPr b="0" lang="en-US" sz="2800" spc="-1" strike="noStrike">
                <a:solidFill>
                  <a:srgbClr val="8cb0a2"/>
                </a:solidFill>
                <a:latin typeface="Arial"/>
              </a:rPr>
              <a:t>sum (L, 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. </a:t>
            </a: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С лява рекурс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b0a2"/>
                </a:solidFill>
                <a:latin typeface="Arial"/>
              </a:rPr>
              <a:t>sum ([], 0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b0a2"/>
                </a:solidFill>
                <a:latin typeface="Arial"/>
              </a:rPr>
              <a:t>sum ([X|T], S) :- sum (T, S1), S=S1+X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I. </a:t>
            </a: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С дясна рекурс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b0a2"/>
                </a:solidFill>
                <a:latin typeface="Arial"/>
              </a:rPr>
              <a:t>sum (L, S) :- sum1(L, S, 0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b0a2"/>
                </a:solidFill>
                <a:latin typeface="Arial"/>
              </a:rPr>
              <a:t>sum1 ([], R, R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b0a2"/>
                </a:solidFill>
                <a:latin typeface="Arial"/>
              </a:rPr>
              <a:t>sum1 ([X|T], S, R) :- R1=R+X, sum1 (T, S, R1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7AA7-8C9D-4542-8EFD-2C5F5C34F5F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200" spc="-1" strike="noStrike">
                <a:solidFill>
                  <a:srgbClr val="ffffcc"/>
                </a:solidFill>
                <a:latin typeface="Times New Roman"/>
              </a:rPr>
              <a:t>Сортиране на списък</a:t>
            </a: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Метод на мехурчето </a:t>
            </a:r>
            <a:r>
              <a:rPr b="0" lang="en-US" sz="2800" spc="-1" strike="noStrike">
                <a:solidFill>
                  <a:srgbClr val="8cb0a2"/>
                </a:solidFill>
                <a:latin typeface="Arial"/>
              </a:rPr>
              <a:t>sum (L, 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b0a2"/>
                </a:solidFill>
                <a:latin typeface="Arial"/>
              </a:rPr>
              <a:t>I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b0a2"/>
                </a:solidFill>
                <a:latin typeface="Arial"/>
              </a:rPr>
              <a:t>bubsort (L, L1) :- shift (L, T), !, bubsort (T, L1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b0a2"/>
                </a:solidFill>
                <a:latin typeface="Arial"/>
              </a:rPr>
              <a:t>bubsort (L, L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b0a2"/>
                </a:solidFill>
                <a:latin typeface="Arial"/>
              </a:rPr>
              <a:t>shift ([X, Y|T], [Y|T1]) :- X&gt;Y, !, shift ([X|T], T1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b0a2"/>
                </a:solidFill>
                <a:latin typeface="Arial"/>
              </a:rPr>
              <a:t>shift ([X|T], [X|T1]) :- shift (T, T1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b0a2"/>
                </a:solidFill>
                <a:latin typeface="Arial"/>
              </a:rPr>
              <a:t>shift ([], []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b0a2"/>
                </a:solidFill>
                <a:latin typeface="Arial"/>
              </a:rPr>
              <a:t>II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b0a2"/>
                </a:solidFill>
                <a:latin typeface="Arial"/>
              </a:rPr>
              <a:t>sort (L, R) :- union (X, [A, B|Y], L), A&gt;B, union (X, [B, A|Y], L1), sort (L1, R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b0a2"/>
                </a:solidFill>
                <a:latin typeface="Arial"/>
              </a:rPr>
              <a:t>sort (L, L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CBB8-086B-45FB-8D37-11B7601C736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200" spc="-1" strike="noStrike">
                <a:solidFill>
                  <a:srgbClr val="ffffcc"/>
                </a:solidFill>
                <a:latin typeface="Times New Roman"/>
              </a:rPr>
              <a:t>ТЕСТ 4</a:t>
            </a: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 Механизма на възврат предизвиква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a. връщане към подцелта, стояща от дясно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b. връщане към предходна клауза в БЗ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c. връщане към клаузата в БЗ, маркирана при последното удоволетворяван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d. връщане към подцелта, стояща от ляво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 За какво се използват функторите?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a. за записване на съставни цел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b. за записване на съставни обект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c. за представяне на дизюнкции в правилат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 Кои не са клаузи в Пролог? 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a. правила и предикат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b. факти, правила и цел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c. факти и въпрос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d. факти и правил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 Това какво е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обича (иван, бира) :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a. правило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b. це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c. ?-обича (иван, бира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d. обича (иван, бира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97FB-EC66-43EE-B1DD-FB2779C078B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200" spc="-1" strike="noStrike">
                <a:solidFill>
                  <a:srgbClr val="ffffcc"/>
                </a:solidFill>
                <a:latin typeface="Times New Roman"/>
              </a:rPr>
              <a:t>Сортиране на списък</a:t>
            </a: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Сортиране чрез вмъкван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cb0a2"/>
                </a:solidFill>
                <a:latin typeface="Arial"/>
              </a:rPr>
              <a:t>sort ([], []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cb0a2"/>
                </a:solidFill>
                <a:latin typeface="Arial"/>
              </a:rPr>
              <a:t>sort ([X|</a:t>
            </a:r>
            <a:r>
              <a:rPr b="0" lang="bg-BG" sz="2400" spc="-1" strike="noStrike">
                <a:solidFill>
                  <a:srgbClr val="8cb0a2"/>
                </a:solidFill>
                <a:latin typeface="Arial"/>
              </a:rPr>
              <a:t>Т</a:t>
            </a:r>
            <a:r>
              <a:rPr b="0" lang="en-US" sz="2400" spc="-1" strike="noStrike">
                <a:solidFill>
                  <a:srgbClr val="8cb0a2"/>
                </a:solidFill>
                <a:latin typeface="Arial"/>
              </a:rPr>
              <a:t>], L) :-</a:t>
            </a:r>
            <a:r>
              <a:rPr b="0" lang="bg-BG" sz="2400" spc="-1" strike="noStrike">
                <a:solidFill>
                  <a:srgbClr val="8cb0a2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8cb0a2"/>
                </a:solidFill>
                <a:latin typeface="Arial"/>
              </a:rPr>
              <a:t>sort (T, T1), insert (X, T1, L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cb0a2"/>
                </a:solidFill>
                <a:latin typeface="Arial"/>
              </a:rPr>
              <a:t>insert (X, [H|T], [H|T1]) :- X&gt;H, !, insert (X, T, T1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cb0a2"/>
                </a:solidFill>
                <a:latin typeface="Arial"/>
              </a:rPr>
              <a:t>insert (X, L, [X|L]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Сортиране чрез пряка селекция 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–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начален ми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cb0a2"/>
                </a:solidFill>
                <a:latin typeface="Arial"/>
              </a:rPr>
              <a:t>sort ([], []).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М – мин елемент на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X|L], S – 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списъка бе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cb0a2"/>
                </a:solidFill>
                <a:latin typeface="Arial"/>
              </a:rPr>
              <a:t>sort ([X|L], [M|L1]) :- min (L, X, M, S), sort (S, L1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cb0a2"/>
                </a:solidFill>
                <a:latin typeface="Arial"/>
              </a:rPr>
              <a:t>min ([H|T], X, M, [X|T1]) :- X&gt;H, !, min (T, H, M, T1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cb0a2"/>
                </a:solidFill>
                <a:latin typeface="Arial"/>
              </a:rPr>
              <a:t>min ([H|T], X, M, [H|T1]) :- min (T, X, M, T1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cb0a2"/>
                </a:solidFill>
                <a:latin typeface="Arial"/>
              </a:rPr>
              <a:t>min ([], M, M, []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1638-DD5C-49C2-BE4B-851B24FF043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200" spc="-1" strike="noStrike">
                <a:solidFill>
                  <a:srgbClr val="ffffcc"/>
                </a:solidFill>
                <a:latin typeface="Times New Roman"/>
              </a:rPr>
              <a:t>ЗАДАЧИ</a:t>
            </a: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Задача 1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Напишете предикат, определящ равенство на две множеств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Задача 2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Напишете предикат, намиращ дължината на списък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Задача 3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Напишете предикат, добавящ елемент А преди елемент В в списък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Задача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Напишете предикат, намиращ числата на Фибонач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B2C7-A9DC-46BC-B734-925CF0C4F94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200" spc="-1" strike="noStrike">
                <a:solidFill>
                  <a:srgbClr val="ffffcc"/>
                </a:solidFill>
                <a:latin typeface="Times New Roman"/>
              </a:rPr>
              <a:t>Отговори на Тест 4</a:t>
            </a: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 Кое не е правилен ред на Пролог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a. обича (Х, А) :- харесва (Х, шоколад), харесва (А, шоколад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b. обича (Х, А) :- харесва (Х, шоколад); харесва (А, шоколад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5050"/>
                </a:solidFill>
                <a:latin typeface="Arial"/>
              </a:rPr>
              <a:t>c. обича (Х, шоколад); обича (А, шоколад) :- харесва (Х, А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 На кой запис са еквивалентни тези клауз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q(X) :- t(X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q(X) :- s(X), n(X), m(X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q(X) :- k(X), h(X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a. Ако е изпълнено q(X) то следва t(X) или (s(X) и n(X) и m(X)) или (k(X) и h(X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b. на нито един от записит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5050"/>
                </a:solidFill>
                <a:latin typeface="Arial"/>
              </a:rPr>
              <a:t>c. Ако е изпълнено t(X) или (s(X) и n(X) и m(X)) или (k(X) и h(X)) то следва q(X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d. Ако е изпълнено t(X) и (s(X) и n(X) и m(X)) и (k(X) и h(X)) то следва q(X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 Кога не се задейства механизма на възврат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5050"/>
                </a:solidFill>
                <a:latin typeface="Arial"/>
              </a:rPr>
              <a:t>a. при унификация на цел с прави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b. при пропадане на дадена це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c. при търсене на алтернативно реш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6483-7D6D-42E1-A2A8-7833492619B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200" spc="-1" strike="noStrike">
                <a:solidFill>
                  <a:srgbClr val="ffffcc"/>
                </a:solidFill>
                <a:latin typeface="Times New Roman"/>
              </a:rPr>
              <a:t>Отговори на Тест 4</a:t>
            </a: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 Механизма на възврат предизвиква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a. връщане към подцелта, стояща от дясно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b. връщане към предходна клауза в БЗ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c. връщане към клаузата в БЗ, маркирана при последното удоволетворяван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5050"/>
                </a:solidFill>
                <a:latin typeface="Arial"/>
              </a:rPr>
              <a:t>d. връщане към подцелта, стояща от ляво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 За какво се използват функторите?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a. за записване на съставни цел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5050"/>
                </a:solidFill>
                <a:latin typeface="Arial"/>
              </a:rPr>
              <a:t>b. за записване на съставни обект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c. за представяне на дизюнкции в правилат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 Кои не са клаузи в Пролог? 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5050"/>
                </a:solidFill>
                <a:latin typeface="Arial"/>
              </a:rPr>
              <a:t>a. правила и предикат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b. факти, правила и цел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c. факти и въпрос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d. факти и правил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 Това какво е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обича (иван, бира) :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a. правило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b. це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c. ?-обича (иван, бира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5050"/>
                </a:solidFill>
                <a:latin typeface="Arial"/>
              </a:rPr>
              <a:t>d. обича (иван, бира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17CB-4F36-40E3-956D-236BC39E55E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200" spc="-1" strike="noStrike">
                <a:solidFill>
                  <a:srgbClr val="ffffcc"/>
                </a:solidFill>
                <a:latin typeface="Times New Roman"/>
              </a:rPr>
              <a:t>Рекурсия. Списъци</a:t>
            </a: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Рекурс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Видове рекурс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Основни вградени предика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Списъц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Унификация на списъц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Множествени операции чрез списъц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Поелементни операции на списъ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Намиране на сум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Сортиране на списъц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6875-9FC9-4004-B242-EC14B66121E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200" spc="-1" strike="noStrike">
                <a:solidFill>
                  <a:srgbClr val="ffffcc"/>
                </a:solidFill>
                <a:latin typeface="Times New Roman"/>
              </a:rPr>
              <a:t>Рекурсия</a:t>
            </a: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924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476077"/>
                </a:solidFill>
                <a:latin typeface="Arial"/>
              </a:rPr>
              <a:t>Определение</a:t>
            </a:r>
            <a:r>
              <a:rPr b="1" lang="en-US" sz="2200" spc="-1" strike="noStrike">
                <a:solidFill>
                  <a:srgbClr val="476077"/>
                </a:solidFill>
                <a:latin typeface="Arial"/>
              </a:rPr>
              <a:t>:</a:t>
            </a:r>
            <a:r>
              <a:rPr b="1" lang="bg-BG" sz="2200" spc="-1" strike="noStrike">
                <a:solidFill>
                  <a:srgbClr val="476077"/>
                </a:solidFill>
                <a:latin typeface="Arial"/>
              </a:rPr>
              <a:t> </a:t>
            </a:r>
            <a:r>
              <a:rPr b="0" lang="bg-BG" sz="2200" spc="-1" strike="noStrike">
                <a:solidFill>
                  <a:srgbClr val="ffffff"/>
                </a:solidFill>
                <a:latin typeface="Arial"/>
              </a:rPr>
              <a:t>Правила, които изразяват </a:t>
            </a:r>
            <a:r>
              <a:rPr b="1" lang="bg-BG" sz="2200" spc="-1" strike="noStrike">
                <a:solidFill>
                  <a:srgbClr val="476077"/>
                </a:solidFill>
                <a:latin typeface="Arial"/>
              </a:rPr>
              <a:t> </a:t>
            </a:r>
            <a:r>
              <a:rPr b="0" lang="bg-BG" sz="2200" spc="-1" strike="noStrike">
                <a:solidFill>
                  <a:srgbClr val="ffffff"/>
                </a:solidFill>
                <a:latin typeface="Arial"/>
              </a:rPr>
              <a:t>отношения чрез същите отношения се наричат</a:t>
            </a:r>
            <a:r>
              <a:rPr b="1" lang="bg-BG" sz="2200" spc="-1" strike="noStrike">
                <a:solidFill>
                  <a:srgbClr val="476077"/>
                </a:solidFill>
                <a:latin typeface="Arial"/>
              </a:rPr>
              <a:t> рекурсивни правил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476077"/>
                </a:solidFill>
                <a:latin typeface="Arial"/>
              </a:rPr>
              <a:t>Реализация:</a:t>
            </a:r>
            <a:r>
              <a:rPr b="0" lang="bg-BG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47607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ffffff"/>
                </a:solidFill>
                <a:latin typeface="Arial"/>
              </a:rPr>
              <a:t>гранично условие за край на рекурсията - нерекурсивно правило, което задава тривиалния случай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47607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ffffff"/>
                </a:solidFill>
                <a:latin typeface="Arial"/>
              </a:rPr>
              <a:t>рекурсивн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bg-BG" sz="2200" spc="-1" strike="noStrike">
                <a:solidFill>
                  <a:srgbClr val="ffffff"/>
                </a:solidFill>
                <a:latin typeface="Arial"/>
              </a:rPr>
              <a:t> правило, декомпозиращо определяното отношение на тривиален случай и същото отношение, но в по-тесен смисъл. Неколкократното му прилагане свежда задачата към тривиален случай, описан в граничното условие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0C02-D050-4CF1-9158-075CBA0DAD9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200" spc="-1" strike="noStrike">
                <a:solidFill>
                  <a:srgbClr val="ffffcc"/>
                </a:solidFill>
                <a:latin typeface="Times New Roman"/>
              </a:rPr>
              <a:t>Видове рекурсия</a:t>
            </a: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924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476077"/>
                </a:solidFill>
                <a:latin typeface="Arial"/>
              </a:rPr>
              <a:t>Видове:</a:t>
            </a:r>
            <a:r>
              <a:rPr b="0" lang="bg-BG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47607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ffffff"/>
                </a:solidFill>
                <a:latin typeface="Arial"/>
              </a:rPr>
              <a:t>ляв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99"/>
                </a:solidFill>
                <a:latin typeface="Arial"/>
              </a:rPr>
              <a:t>q(…)</a:t>
            </a:r>
            <a:r>
              <a:rPr b="0" lang="bg-BG" sz="2200" spc="-1" strike="noStrike">
                <a:solidFill>
                  <a:srgbClr val="666699"/>
                </a:solidFill>
                <a:latin typeface="Arial"/>
              </a:rPr>
              <a:t>:- </a:t>
            </a:r>
            <a:r>
              <a:rPr b="0" lang="en-US" sz="2200" spc="-1" strike="noStrike">
                <a:solidFill>
                  <a:srgbClr val="666699"/>
                </a:solidFill>
                <a:latin typeface="Arial"/>
              </a:rPr>
              <a:t>q(…), p</a:t>
            </a:r>
            <a:r>
              <a:rPr b="0" lang="bg-BG" sz="2200" spc="-1" strike="noStrike" baseline="-25000">
                <a:solidFill>
                  <a:srgbClr val="666699"/>
                </a:solidFill>
                <a:latin typeface="Arial"/>
              </a:rPr>
              <a:t>1</a:t>
            </a:r>
            <a:r>
              <a:rPr b="0" lang="en-US" sz="2200" spc="-1" strike="noStrike">
                <a:solidFill>
                  <a:srgbClr val="666699"/>
                </a:solidFill>
                <a:latin typeface="Arial"/>
              </a:rPr>
              <a:t>(…), p</a:t>
            </a:r>
            <a:r>
              <a:rPr b="0" lang="en-US" sz="2200" spc="-1" strike="noStrike" baseline="-25000">
                <a:solidFill>
                  <a:srgbClr val="666699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666699"/>
                </a:solidFill>
                <a:latin typeface="Arial"/>
              </a:rPr>
              <a:t>(…), …, p</a:t>
            </a:r>
            <a:r>
              <a:rPr b="0" lang="en-US" sz="2200" spc="-1" strike="noStrike" baseline="-25000">
                <a:solidFill>
                  <a:srgbClr val="666699"/>
                </a:solidFill>
                <a:latin typeface="Arial"/>
              </a:rPr>
              <a:t>k</a:t>
            </a:r>
            <a:r>
              <a:rPr b="0" lang="en-US" sz="2200" spc="-1" strike="noStrike">
                <a:solidFill>
                  <a:srgbClr val="666699"/>
                </a:solidFill>
                <a:latin typeface="Arial"/>
              </a:rPr>
              <a:t>(…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666699"/>
                </a:solidFill>
                <a:latin typeface="Arial"/>
              </a:rPr>
              <a:t>Недостатък</a:t>
            </a:r>
            <a:r>
              <a:rPr b="0" lang="bg-BG" sz="2200" spc="-1" strike="noStrike">
                <a:solidFill>
                  <a:srgbClr val="ffffff"/>
                </a:solidFill>
                <a:latin typeface="Arial"/>
              </a:rPr>
              <a:t>: правилото може да се зацикли, ако преди рекурсивния ред не е записан реда за изход от рекурсият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47607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ffffff"/>
                </a:solidFill>
                <a:latin typeface="Arial"/>
              </a:rPr>
              <a:t>дясн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99"/>
                </a:solidFill>
                <a:latin typeface="Arial"/>
              </a:rPr>
              <a:t>q(…)</a:t>
            </a:r>
            <a:r>
              <a:rPr b="0" lang="bg-BG" sz="2200" spc="-1" strike="noStrike">
                <a:solidFill>
                  <a:srgbClr val="666699"/>
                </a:solidFill>
                <a:latin typeface="Arial"/>
              </a:rPr>
              <a:t>:- </a:t>
            </a:r>
            <a:r>
              <a:rPr b="0" lang="en-US" sz="2200" spc="-1" strike="noStrike">
                <a:solidFill>
                  <a:srgbClr val="666699"/>
                </a:solidFill>
                <a:latin typeface="Arial"/>
              </a:rPr>
              <a:t>p</a:t>
            </a:r>
            <a:r>
              <a:rPr b="0" lang="bg-BG" sz="2200" spc="-1" strike="noStrike" baseline="-25000">
                <a:solidFill>
                  <a:srgbClr val="666699"/>
                </a:solidFill>
                <a:latin typeface="Arial"/>
              </a:rPr>
              <a:t>1</a:t>
            </a:r>
            <a:r>
              <a:rPr b="0" lang="en-US" sz="2200" spc="-1" strike="noStrike">
                <a:solidFill>
                  <a:srgbClr val="666699"/>
                </a:solidFill>
                <a:latin typeface="Arial"/>
              </a:rPr>
              <a:t>(…), p</a:t>
            </a:r>
            <a:r>
              <a:rPr b="0" lang="en-US" sz="2200" spc="-1" strike="noStrike" baseline="-25000">
                <a:solidFill>
                  <a:srgbClr val="666699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666699"/>
                </a:solidFill>
                <a:latin typeface="Arial"/>
              </a:rPr>
              <a:t>(…), …, p</a:t>
            </a:r>
            <a:r>
              <a:rPr b="0" lang="en-US" sz="2200" spc="-1" strike="noStrike" baseline="-25000">
                <a:solidFill>
                  <a:srgbClr val="666699"/>
                </a:solidFill>
                <a:latin typeface="Arial"/>
              </a:rPr>
              <a:t>k</a:t>
            </a:r>
            <a:r>
              <a:rPr b="0" lang="en-US" sz="2200" spc="-1" strike="noStrike">
                <a:solidFill>
                  <a:srgbClr val="666699"/>
                </a:solidFill>
                <a:latin typeface="Arial"/>
              </a:rPr>
              <a:t>(…), q(…)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AA17-C72F-4DB2-94E5-3A61D91895F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200" spc="-1" strike="noStrike">
                <a:solidFill>
                  <a:srgbClr val="ffffcc"/>
                </a:solidFill>
                <a:latin typeface="Times New Roman"/>
              </a:rPr>
              <a:t>Примери за рекурсия</a:t>
            </a: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476077"/>
                </a:solidFill>
                <a:latin typeface="Arial"/>
              </a:rPr>
              <a:t>Пример:</a:t>
            </a:r>
            <a:r>
              <a:rPr b="1" lang="en-US" sz="2200" spc="-1" strike="noStrike">
                <a:solidFill>
                  <a:srgbClr val="476077"/>
                </a:solidFill>
                <a:latin typeface="Arial"/>
              </a:rPr>
              <a:t> </a:t>
            </a:r>
            <a:r>
              <a:rPr b="0" lang="bg-BG" sz="2200" spc="-1" strike="noStrike">
                <a:solidFill>
                  <a:srgbClr val="ffffff"/>
                </a:solidFill>
                <a:latin typeface="Arial"/>
              </a:rPr>
              <a:t>Да се опише отношението “потомък”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ffffff"/>
                </a:solidFill>
                <a:latin typeface="Arial"/>
              </a:rPr>
              <a:t>потомък (Х, У) :- син (Х, У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ffffff"/>
                </a:solidFill>
                <a:latin typeface="Arial"/>
              </a:rPr>
              <a:t>потомък (Х, У) :- дъщеря (Х, У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ffffff"/>
                </a:solidFill>
                <a:latin typeface="Arial"/>
              </a:rPr>
              <a:t>потомък (Х, У) :- син (Х,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Z</a:t>
            </a:r>
            <a:r>
              <a:rPr b="0" lang="bg-BG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bg-BG" sz="2200" spc="-1" strike="noStrike">
                <a:solidFill>
                  <a:srgbClr val="ffffff"/>
                </a:solidFill>
                <a:latin typeface="Arial"/>
              </a:rPr>
              <a:t>потомък (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Z</a:t>
            </a:r>
            <a:r>
              <a:rPr b="0" lang="bg-BG" sz="2200" spc="-1" strike="noStrike">
                <a:solidFill>
                  <a:srgbClr val="ffffff"/>
                </a:solidFill>
                <a:latin typeface="Arial"/>
              </a:rPr>
              <a:t>, У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ffffff"/>
                </a:solidFill>
                <a:latin typeface="Arial"/>
              </a:rPr>
              <a:t>потомък (Х, У) :- дъщеря (Х,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Z</a:t>
            </a:r>
            <a:r>
              <a:rPr b="0" lang="bg-BG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bg-BG" sz="2200" spc="-1" strike="noStrike">
                <a:solidFill>
                  <a:srgbClr val="ffffff"/>
                </a:solidFill>
                <a:latin typeface="Arial"/>
              </a:rPr>
              <a:t>потомък (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Z</a:t>
            </a:r>
            <a:r>
              <a:rPr b="0" lang="bg-BG" sz="2200" spc="-1" strike="noStrike">
                <a:solidFill>
                  <a:srgbClr val="ffffff"/>
                </a:solidFill>
                <a:latin typeface="Arial"/>
              </a:rPr>
              <a:t>, У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476077"/>
                </a:solidFill>
                <a:latin typeface="Arial"/>
              </a:rPr>
              <a:t>Пример:</a:t>
            </a:r>
            <a:r>
              <a:rPr b="1" lang="en-US" sz="2200" spc="-1" strike="noStrike">
                <a:solidFill>
                  <a:srgbClr val="476077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Намиране на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47607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Проектиран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!=1, n=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!=n*(n-1)!, n&gt;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47607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Програмиран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cb0a2"/>
                </a:solidFill>
                <a:latin typeface="Arial"/>
              </a:rPr>
              <a:t>fact (1, 1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cb0a2"/>
                </a:solidFill>
                <a:latin typeface="Arial"/>
              </a:rPr>
              <a:t>fact (N, R):- N</a:t>
            </a:r>
            <a:r>
              <a:rPr b="0" lang="bg-BG" sz="2000" spc="-1" strike="noStrike">
                <a:solidFill>
                  <a:srgbClr val="8cb0a2"/>
                </a:solidFill>
                <a:latin typeface="Arial"/>
              </a:rPr>
              <a:t>1=</a:t>
            </a:r>
            <a:r>
              <a:rPr b="0" lang="en-US" sz="2000" spc="-1" strike="noStrike">
                <a:solidFill>
                  <a:srgbClr val="8cb0a2"/>
                </a:solidFill>
                <a:latin typeface="Arial"/>
              </a:rPr>
              <a:t>N</a:t>
            </a:r>
            <a:r>
              <a:rPr b="0" lang="bg-BG" sz="2000" spc="-1" strike="noStrike">
                <a:solidFill>
                  <a:srgbClr val="8cb0a2"/>
                </a:solidFill>
                <a:latin typeface="Arial"/>
              </a:rPr>
              <a:t>-1</a:t>
            </a:r>
            <a:r>
              <a:rPr b="0" lang="en-US" sz="2000" spc="-1" strike="noStrike">
                <a:solidFill>
                  <a:srgbClr val="8cb0a2"/>
                </a:solidFill>
                <a:latin typeface="Arial"/>
              </a:rPr>
              <a:t>, fact (N1, R1), R=N*R1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8FF4-FDC6-4451-B5B7-BD19E0CF4DF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200" spc="-1" strike="noStrike">
                <a:solidFill>
                  <a:srgbClr val="ffffcc"/>
                </a:solidFill>
                <a:latin typeface="Times New Roman"/>
              </a:rPr>
              <a:t>Основни предикати. </a:t>
            </a:r>
            <a:r>
              <a:rPr b="0" lang="en-US" sz="4200" spc="-1" strike="noStrike">
                <a:solidFill>
                  <a:srgbClr val="ffffcc"/>
                </a:solidFill>
                <a:latin typeface="Times New Roman"/>
              </a:rPr>
              <a:t>Fail</a:t>
            </a: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476077"/>
                </a:solidFill>
                <a:latin typeface="Arial"/>
              </a:rPr>
              <a:t>Същност: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 Предиката винаги пропада (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lse), 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при което предизвиква връщане назад (механизъм на възврат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476077"/>
                </a:solidFill>
                <a:latin typeface="Arial"/>
              </a:rPr>
              <a:t>Приложение: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 За намиране на всички възможни реш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476077"/>
                </a:solidFill>
                <a:latin typeface="Arial"/>
              </a:rPr>
              <a:t>Пример: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cb0a2"/>
                </a:solidFill>
                <a:latin typeface="Arial"/>
              </a:rPr>
              <a:t>father (ivan, maria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cb0a2"/>
                </a:solidFill>
                <a:latin typeface="Arial"/>
              </a:rPr>
              <a:t>father (peter, milen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cb0a2"/>
                </a:solidFill>
                <a:latin typeface="Arial"/>
              </a:rPr>
              <a:t>all_fathers (X, Y):- father (X, Y), write (X), write (Y), fai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cb0a2"/>
                </a:solidFill>
                <a:latin typeface="Arial"/>
              </a:rPr>
              <a:t>?- all_fathers (X, Y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cb0a2"/>
                </a:solidFill>
                <a:latin typeface="Arial"/>
              </a:rPr>
              <a:t>X=ivan, Y=ma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cb0a2"/>
                </a:solidFill>
                <a:latin typeface="Arial"/>
              </a:rPr>
              <a:t>X=peter, Y=mi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F8B4-737A-4AFD-B6E7-AF4AF17745E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3T12:38:45Z</dcterms:created>
  <dc:creator>Elena Somova</dc:creator>
  <dc:description/>
  <dc:language>en-US</dc:language>
  <cp:lastModifiedBy>Svetoslav</cp:lastModifiedBy>
  <dcterms:modified xsi:type="dcterms:W3CDTF">2008-10-24T06:59:59Z</dcterms:modified>
  <cp:revision>133</cp:revision>
  <dc:subject/>
  <dc:title>Логическо програмиране</dc:title>
</cp:coreProperties>
</file>