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FF1-38FC-43CD-813D-BA616632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405-B1C6-4499-BF4A-EDC0BE60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3B7-5B53-4B8F-BE4C-CFB99705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4CF-31F2-491C-9295-D8CFB553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7774-2F5A-46ED-A894-FBD378D2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89FF-C858-457B-8434-D3A905D8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4506-274C-4C22-BEA3-38F19697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88D1-B338-4253-A01C-63482E1E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96CF-9382-4960-B34F-762C5D94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6655-8A1A-4B5B-AD50-94F1B423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7459-88A8-4C40-88D4-7180ACAC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7BB-68C5-4693-82B7-BADF2AE8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60C5-1F18-4502-909D-8355E1FE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7A80-B55F-478F-A009-A7160234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9EE6-F1AE-497E-9700-7F611E4F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01D6-86EE-4F8D-88C7-36F65A28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A414-0EE6-495A-B48B-F02CFDCB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941-E441-4379-83FD-EB926746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EE4-640C-41A0-B45A-E74293D7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0C0-7E16-4844-B162-870B70DF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2D7E-824B-455A-985B-2E4DC34C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018-90CD-4AAB-B970-BAE65541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527-C0CD-4876-A157-A5D2575D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F7B-F46E-4CD2-98A5-52A5F0CE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cb0a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760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760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0059-2AD8-4743-BB87-D5D83D33EF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bg-BG" sz="1000" spc="-1" strike="noStrike">
                <a:solidFill>
                  <a:srgbClr val="ffffff"/>
                </a:solidFill>
                <a:latin typeface="Arial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797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797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23EA-13CC-40B7-AC84-6CD195C8B8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ТЕСТ 5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ак се реализират повторенията в Пролог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чрез рекурсия или итер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чрез итер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чрез рекурс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я рекурсия е по-опасн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дяс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и две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ля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й от вградените предикати спира механизма на възврат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отсича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и дв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начин за намиране на всички възможни решени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използване на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натискане на символа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използване на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AE2-2FB4-4919-9520-7D5D162FD5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редставяне на двоично дърво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ключване на еле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ete (bintree (nil, X, R), X, 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ete (bintree (L, X, nil), X, 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ete (bintree (L, X, R), X, bintree (L, Y, R1)) :- delmin (R, Y, R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ete (bintree (L, K, R), X, bintree (L1, K, R)) :- K&gt;X, delete (L, X, L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ete (bintree (L, K, R), X, bintree (L, K, R1)) :- K&lt;X, delete (R, X, R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min (bintree (nil, Y, R), Y, 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min (bintree (L, K, R), Y, bintree (L1, K, R)) :- delmin (L, Y, L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к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е празно, то за дясно поддърво се избира непразнот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к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а непразни, то най-малкия елемент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е премества от текущото си положение и заема мястото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0D56-A2D4-4CD2-A45A-B068774FD4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редставяне на граф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едставя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link (a, b). 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arc (s, t, 3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link (b, c). 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arc (t, u, 5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link (a, c). 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arc (s, u, 20). 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 представя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graph ([a, b, c], [p (a, b), p (b, c), p (a, c)]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graph ([s, t, u], [d (s, t, 30), d (t, u, 50), d (s, u, 20)]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ъществуване на път между два вър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link (a, b). 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476077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X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Y) :- link (X, Z), way (Z, 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Y) :- link (Z, X), way (Z, 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избягване на зацикляне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X, 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Y, T) :- link (X, Z), not member (Z, T), way (Z, Y, [X|T]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Y, T) :- link (Z, X), not member (Z, T), way (Z, Y, [X|T]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B56E-BFBD-4A18-A5E0-7919DCA298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редставяне на граф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миране на път между два вър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foundway (S, E, W) :- way1 (S, E, [], R), reverse (R, W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1 (X, X, T, [X|T]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1 (X, Y, T, R) :- link (X, Z), not member (Z, T), way1 (Z, Y, [X|T], 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1 (X, Y, T, R) :- link (Z, X), not member (Z, T), way1 (Z, Y, [X|T], 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7C4-7F76-4F62-BFE3-A6EC2F379D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Двойнствена семантика 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А:- В,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кларативен аспект – свързан само с отношенията, описани от програмата и определящ какъв резултат се получава при всяка интересуваща ни комбинация от значения на променливите в програм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върдението А е вярно, ако са верни В и С, или от В и С следва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оцедурен аспект – освен резултата от програмата във всеки случай, определя също и начина, по който резултата се получава, като отчита не само логическите отношения между обектите, но и реда на тяхната обрабо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За да се реши проблемът А, трябва отначало да се решат подпроблемите В и С, или за да се удоволетвори целта А, трябва първо да се удоволетворят подцелите В и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1A3-BE85-40D7-BA6B-96311E5D15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imes New Roman"/>
              </a:rPr>
              <a:t>Предимства на логическото програмиране 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секи параметър може да бъде и входен и изходен в зависимост от желанията на потреб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ато резултат може да се върне несвързана променлива (частично решение на пробле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Множество решения могат да се намерят чрез вградения механизъм на възвр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-кратки програми от процедурн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яма проверка на типове, паралелна обработка 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блокови структу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EBF-21CA-4F06-A540-822869E0B2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Направете експертна система обслужваща транспорта на град Пловди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0180-147B-4904-94C2-B2FD4C918E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ТЕСТ 5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списък в Пролог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[А|S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(1, 2,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[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d. [D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e. [1, 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и два списъка не се унифицират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[H] и [1,2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[1, 2, 3] [Z|X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K и [1, [2]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й списък може да е празен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[ 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[X|D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[[], 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d.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e. [P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f. [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9D6-7BB5-4D19-B4CD-C428F528E7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тговори на Тест 5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ак се реализират повторенията в Пролог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чрез рекурсия или итер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чрез итер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c. чрез рекурс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я рекурсия е по-опасн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дяс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и две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c. ля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й от вградените предикати спира механизма на възврат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b. отсичане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и дв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начин за намиране на всички възможни решени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използване на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натискане на символа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c. използване на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C8B-E63B-41AC-99ED-BB6C475688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тговори на Тест 5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списък в Пролог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[А|S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b. (1, 2,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[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d. [D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e. [1, 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и два списъка не се унифицират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a. [H] и [1,2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[1, 2, 3] 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[Z|X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K и [1, [2]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й списък може да е празен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[ 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[X|D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[[], 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d.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e. [P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f. [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D3D-2B0E-4A2A-8930-77EDBF0DE4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Работа с БД. Приложение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Работа с Б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Експертни систе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едставяне на двоично дър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едставяне на гра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войнствена семан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едимства на логическото програмир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F56-0CCD-4A9C-8BB0-B598FA257E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Работа с БД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внук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Z, X) :-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родител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X, Y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родител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Y, Z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:-’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внук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Z, X), ‘,’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родител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X, Y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родител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Y, Z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ъдето 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-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 ‘,‘ са функто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lisr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сички клаузите от БД се записват в текущия изходен фай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listing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функтор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&g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)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клаузите от БД с този функтор се записват в текущия изходен файл (напр. екра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clause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глава&gt;, &lt;тяло&gt;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удоволетворява се при намиране на клауза с тези глава и тя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assert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клауза&gt;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assert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клауза&gt;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assertz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клауза&gt;)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обавяне на нови клаузи към БД на мястото на последната изтрита (или в края), в началото, в края на клаузите със същия фун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A34-96DA-4584-9131-53490F23C9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Работа с БД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delete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функтор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&gt;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изтрива всички клаузи с това име на фун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retract (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&lt;клауза&gt;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изтрива първата клауза, която се унифицира с зададения аргу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p :- p2, p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 retract ((p :- A, B)), assert ((p :- B, A, p3)), listing (p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A=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B=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p :-  p1, p2, p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58E-5E82-4085-AC6D-399173F04F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Експертни систем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Експертни системи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компютърни програми, които решават задачи по начин, който може да се разглежда като интелигентен, ако се изпълнява от човек, т. е. наподобяват работата на експерт в дадена ПО. Структу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База от знания – съдържа експертни знания за конкретна П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Ядро 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8cb0a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Машина за извод – описва начините за използване на знанията от ПО, указва как, кога и в какъв ред трябва да се прилагат знанията, т. е. реализира общите знания за това, как се решават задачи от П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8cb0a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Интерфейс – осъществява диалога между потребителя и система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Реализация чрез Пролог – БЗ = факти + правила, машина за извод е вградения механизъм за дедуктивен изв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7C6-B925-4F4E-9479-53C40A4F3A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редставяне на двоично дърво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1 представяне – корена е главен функтор, а поддърветата са аргументи на структура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476077"/>
                </a:solidFill>
                <a:latin typeface="Arial"/>
              </a:rPr>
              <a:t>а</a:t>
            </a: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476077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b, c (d)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2 представян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- bintree (L, X, R), nil – 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празно дърв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bintree (bintree (nil, b, nil), a, bintree (bintree (nil, d, nil), c, nil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Принадлежност на елемен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mem_bin (X, bintree (_, X, _)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mem_bin (X, bintree (L, _, _)) :- mem_bin (X, L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mem_bin (X, bintree ( _, _, R)) :- mem_bin (X, R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Включване на елемен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input (nil, X, bintree (nil, X, nil)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input (bintree (L, X, R), X, bintree (L, X, R)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input (bintree (L, K, R), X, bintree (L1, K, R)) :- K&gt;X, input (L, X, L1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input (bintree (L, K, R), X, bintree (L, K, R1)) :- K&lt;X, input (R, X, R1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51E-35B2-43E5-B8D7-9360170D13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2:38:45Z</dcterms:created>
  <dc:creator>Elena Somova</dc:creator>
  <dc:description/>
  <dc:language>en-US</dc:language>
  <cp:lastModifiedBy>presentation</cp:lastModifiedBy>
  <dcterms:modified xsi:type="dcterms:W3CDTF">2007-11-09T06:28:46Z</dcterms:modified>
  <cp:revision>134</cp:revision>
  <dc:subject/>
  <dc:title>Логическо програмиране</dc:title>
</cp:coreProperties>
</file>