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ACCD-109A-4F4B-8004-6E70432C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FE9D-F513-4E88-8685-B049647C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2DCE-8BD0-4646-9697-228D2463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A0A7-0394-4F40-A637-CB5CCFEC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84C45-7C74-4FE0-8989-896488DD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8856B-CF8A-464F-956A-48D3FD54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8063C-4F37-4DA6-A73E-00E119F2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17803-C0BB-456C-B62D-334A4D49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5E798-8FCC-4801-B3AB-85B6D851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E0B5-9BD0-4A2A-9ECF-BC189E04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46FC8-8BED-4323-8C61-01FC37F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39F1-9A0E-4BC0-B9A7-E11CCC1B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901920" y="6121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95D7-D567-4B75-B1BA-4215F7DA74B9}" type="slidenum">
              <a:rPr b="0" lang="bg-B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Arial"/>
              </a:rPr>
              <a:t>16.10.04 </a:t>
            </a:r>
            <a:r>
              <a:rPr b="0" lang="bg-BG" sz="1400" spc="-1" strike="noStrike">
                <a:solidFill>
                  <a:srgbClr val="a50021"/>
                </a:solidFill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243720" indent="-243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6840" indent="-182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еки обек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а уникален брой методи- отговарящи на специфичните функции, които той изпълняв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eClip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аст от тях са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ay(), nextFrame(), startDrag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), substr(), toLowerCase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GB(), getRGB(), setTransform()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Volume(), getPan(), start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6840" indent="-182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 методите на обектите тук можем да изпълняваме различни видове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6D9DB-E4A2-4ACB-858F-3654A87822E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3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</a:t>
            </a:r>
            <a:br>
              <a:rPr sz="3000"/>
            </a:b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251640" indent="-25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взимане (извличане) на стойност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задаване на стойно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конвертиране на резултат или вход от един тип в друг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стартиране или деактивиране на даден обект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обработка на текст, друг обек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72320" indent="-18864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2200" spc="-1" strike="noStrike">
                <a:solidFill>
                  <a:srgbClr val="990000"/>
                </a:solidFill>
                <a:latin typeface="Arial"/>
              </a:rPr>
              <a:t>Забележка: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По принцип не е задължително даден обект да съдържа някакви свойства или функции, но без тях става неизползваем и по-скоро даже ненужен.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FD93F-16F7-4966-95A0-9CDC772CAD1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31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Типове обекти</a:t>
            </a:r>
            <a:br>
              <a:rPr sz="32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268200" indent="-2682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ите се организират в класове, представляващи съвкупност от обекти с общи свойства и методи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пример всички хора на Земята могат да се разгледат като инстанции на класа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ers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.e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ъпреки нашата уникалност, 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ние имаме някакви общи характеристики. Свойства като цвят на коса, очи, височина; и методи (ходене, гледане, пипане). Така всяка нова инстанция, която създаваме, 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MovieClip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и наследява всички свойства и методи, достъпни за този клас от обект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02560" indent="-200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сновните класове обекти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а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ieClip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tring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Col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Soun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3065B-7149-4D9E-A83C-896D4520EE0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0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о в повечето проекти ни се налага да използваме множество инстанции и то на разнотипни класове обекти. Например, ако трябва да имаме различни низове, то всеки от тях се счита за инстанция н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а 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т своя страна други обекти са универсални или глобални, което означава, че в приложението, което разработваме може да съдържа само една инстанция от тя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 за това е обектът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Mous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един от методите, на който е да управлява видимостта на курсора. Тъй като курсорът е само един, не можете да създадете негови инстанции, а използвате методите, достъпни за него, за да манипулирате мишк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9729-40CF-4FFC-ABBD-E869465A5F1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1" marL="443880" indent="-27000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я на обект се създава по </a:t>
            </a:r>
            <a:r>
              <a:rPr b="0" lang="bg-BG" sz="2100" spc="-1" strike="noStrike">
                <a:solidFill>
                  <a:srgbClr val="990000"/>
                </a:solidFill>
                <a:latin typeface="Arial"/>
              </a:rPr>
              <a:t>два основни на-</a:t>
            </a:r>
            <a:br>
              <a:rPr sz="2100"/>
            </a:br>
            <a:r>
              <a:rPr b="0" lang="bg-BG" sz="2100" spc="-1" strike="noStrike">
                <a:solidFill>
                  <a:srgbClr val="990000"/>
                </a:solidFill>
                <a:latin typeface="Arial"/>
              </a:rPr>
              <a:t>чина.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Като първият е достъпен само за основните класове обекти и се изразява в просто издърпване на обекта на сцената (това е валидно например за 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MovieClip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а създадем инстанции за останалите обекти е необходимо да използваме така наречените конструктори. Те указват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а създаде съответната инстанция. Синтаксисът им е следният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OfInstance = nameOfObject();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524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пример, ако искате да създадет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un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с конструктор, той би изглеждал така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nameOfSoundInstance = new Sound(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E68F-09A5-4FA8-9CCA-928BDF12DF2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537480" indent="-326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ената на обекти спазват същите конвенции з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ена като променливите, т.е. те не могат да съдържат интервали, специални знаци или цифри като първи зна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cript MX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маме възможност да присъединя-ваме суфикси към имена на обекти, за да улесним разпознаването на кода в панел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Така вместо да именуваме дадена инстанция на филмов клип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yMovieCli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можем да я запишем по следния начин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myMovieClip_mc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Така тази конвенция ни позволява панелъ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да определи кога обектът от определен тип има скрипт и по този начин бързо да ни осигури падащия списък от съответните свойства и метод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C5026-C398-4ED8-BCB2-D899F833FB9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1" marL="408960" indent="-24876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s Inspector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анел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нигат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можете да осъществите достъп до обектите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всеки от които се съдържа в една от следните подкатегории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Основн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д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М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Фил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ent/Server (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лиент/Сървъ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- 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horing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(Авторск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248760">
              <a:spcBef>
                <a:spcPts val="524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В следващите слайдове ще разгледаме различните класове обекти, достъпни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onScript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и кои от тях са глобални или трябва да създаваме индивидуална инстан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88000" y="2421000"/>
            <a:ext cx="1611360" cy="20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F1F2-6C5C-477B-A38B-B8BB66A1BE0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26828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lvl="1" marL="338760" indent="-2062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ssibily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глобален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cessibilyty</a:t>
            </a:r>
            <a:r>
              <a:rPr b="0" lang="bg-BG" sz="14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sActive();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този обект се съдържа информация (само за четене) относно възможността на компютъра на потребителя да използва четец на екран 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reen reader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 положителен резултат връща истина, иначе лъж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38760" indent="-206280">
              <a:spcBef>
                <a:spcPts val="550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Масивът е място за съхранение на множество от еднотипни данни. Към тях може да се обръщаме с помощта на поредния номер на съответната данна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var cake:Array = new Array(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0] = “Karamelen”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1] = “Shokoladov”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cakeType[2] = “S kaysiev krem”;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В този обект имаме полезни методи като: добавяне на нов елемент, премахване, сортиране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B8E1-AA49-489C-A078-96D9BC9FDA4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 lvl="1" marL="315360" indent="-19188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й съхранява две стойности: истина или лъжа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я създаваме с помощта на конструктора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ли с оператора за присвояване 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“=”.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var toggle:Boolean = new Boole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или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var toggle:Boolean</a:t>
            </a:r>
            <a:r>
              <a:rPr b="0" lang="bg-BG" sz="21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alse;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действието на двете е еднак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191880">
              <a:spcBef>
                <a:spcPts val="550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При поставяне на бутон на сцената, ние създаваме инстанция на обект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ton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. (Само още два обекта създават своите инстанции така- чрез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op-down,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това с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vieClip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extField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4EFB9-4F68-4F15-A7B0-DD58A58C3D4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lvl="1" marL="326880" indent="-19908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лобал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к се съдържат характеристики за компютъра на потребителя на нашите програмки-филмчета. Като разделителна способност на екрана или способността да възпроизвежда зву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то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Variable:Number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= System.capabilities.screenResolutionY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съхраняваме вертикалната разделителна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// способност на потребителския компютъ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6880" indent="-199080">
              <a:spcBef>
                <a:spcPts val="451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обект може да използваме за динамична промяна на цвета на филмов клип. Когато създаваме обект, трябва да го определим към конкретен клип. След това с помощта на методит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може да променяме цветовете. Такъв обект създаваме като използваме конструктор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myColor:Color = new Color (pathTo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74047-92E0-45DB-BCAA-E7826CFA589D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4760" y="32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Значение и използване на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обекти в 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ActionScript </a:t>
            </a: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 MX</a:t>
            </a:r>
            <a:r>
              <a:rPr b="1" lang="en-US" sz="3400" spc="-1" strike="noStrike">
                <a:solidFill>
                  <a:srgbClr val="a50021"/>
                </a:solidFill>
                <a:latin typeface="Arial"/>
              </a:rPr>
              <a:t>.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Работа с функции. Създаване и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обработка на данни. </a:t>
            </a:r>
            <a:br>
              <a:rPr sz="3400"/>
            </a:br>
            <a:r>
              <a:rPr b="1" lang="bg-BG" sz="3400" spc="-1" strike="noStrike">
                <a:solidFill>
                  <a:srgbClr val="a50021"/>
                </a:solidFill>
                <a:latin typeface="Arial"/>
              </a:rPr>
              <a:t>Практика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700" spc="-1" strike="noStrike">
                <a:solidFill>
                  <a:srgbClr val="808080"/>
                </a:solidFill>
                <a:latin typeface="Arial"/>
              </a:rPr>
              <a:t>ЛЕКЦИЯ № </a:t>
            </a:r>
            <a:r>
              <a:rPr b="1" lang="en-US" sz="37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DF523-80E3-4F9B-9ADA-FFA6209552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lvl="1" marL="373680" indent="-22752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extMen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онтекстното меню е това, което може да видите, когато натиснете десния бутон на мишката (или натисн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кликнет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леъра. Използва се за създаване на потребителски контекстни менюта, появя-ващи се при щракване с мишката върху визуален елемент от прозорец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леъра. С този клас може да забраняваме или позволяваме всяка от вградените коман-ди ка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, Stop, Print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:ContextMenu = new ContextMenu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.hideBuiltInItems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ustomMenu.showBuiltInItems.print = tru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Clip_mc.menu = myCustomMen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Button_btn.menu = myCustomMenu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extField_txt.menu = myCustomMen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F762-46AD-4918-9BE0-827B16154AA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lvl="1" marL="560880" indent="-34128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extMenuIte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зи клас се използва заедно с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extMenu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създаване на елементите от потребителските контекстни меню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341280">
              <a:spcBef>
                <a:spcPts val="524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този клас е представен въ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ash 2004,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за да ни помогне при обработката на грешките в проектите ни. Грешка е всичко, което ние определим като такава (например, число, което огромно или твърде малко). Когато тя се появи се създава нова инстанция на клас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ror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, известно като “хвърляне” (</a:t>
            </a:r>
            <a:r>
              <a:rPr b="0" lang="en-US" sz="2100" spc="-1" strike="noStrike">
                <a:solidFill>
                  <a:srgbClr val="000000"/>
                </a:solidFill>
                <a:latin typeface="CourierCyr"/>
              </a:rPr>
              <a:t>throwing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на грешка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а може да улавяме грешки и да пишем код за тяхната обработка. Така приложенията ни ще функционират по-добре, вместо да действат непредсказуемо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F64B-A73E-41E6-8466-ED5C2D5E413C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lvl="1" marL="233640" indent="-14220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този обект имаме възможност да  вземем текущата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дата, месец, година, час като локално или глобално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реме, по Гринуич и т.н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now:Date = new Date 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var LargeNumber:Number = now.getTime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оменливата присвоява определен брой милисекунди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след 00.00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 1-ви Януари 1970 г. от текущата дат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33640" indent="-14220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пределя състоянието на клавишите от клавиату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33640" indent="-14220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adVar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този обект и с помощта на неговите методи може да за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ждаме данни от външни източници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myObj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LoadVars = new LoadVars 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Obj.load(“http://www.fmi-plovdiv.org”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EA2C-09C8-4883-9A5C-F57376CAD267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lvl="1" marL="280440" indent="-17064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негова помощ осъществаваме различни математичес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и изчисления.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positiveNumbe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Number = Math.abs(-6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нвертира абсолютната стойност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t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положително числ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0440" indent="-17064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Управлява видимостта на курсора, позволява ни да задваме слушатели за проследяване активността на мишката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ouse.hide()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крива курсора на мишката от потребителя, но сама-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// та мишка си е активна..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0440" indent="-17064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Cli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е един от най-популярните обекти. Можем да създаваме негови инстанции по два основни начина: (1) като ги поставяме на сцената или (2) чрез методите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reateEmptyMovieClip() 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uplicateMovieClip(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1B4E-2AA6-4EA1-B438-9B4B51AE980B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lvl="1" marL="549000" indent="-33408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М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ieClipLoad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зи клас ни осигурява лесен начин да зареждаме и получаваме достъп до информация по време на зареждането 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WF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в целеви клип или ниво. С негова помощ ще научим големината на зареждащия се външен архив и каква част от него се е зареди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etConnec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а да се възпроизвеждат външни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идео файлове (с разширение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V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-адрес или от хард диск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etStrea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 – o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игурява свойства и методи за управление н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идео файлове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LV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7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Number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49000" indent="-334080">
              <a:spcBef>
                <a:spcPts val="476"/>
              </a:spcBef>
              <a:buSzPct val="10298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3E87-13DE-4945-BB79-6ED0FDB578C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1" marL="362160" indent="-22032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ва е коренният обект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tionScript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интаксисът за 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говото създаване е: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na:Object = new Object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ena.kotka = “Lyki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ози обект се използва основно за извличане на информация или задаване характеристики за селектирани елементи във филмите. По-често се използва за текст в текстови полета. Когато курсора се намира в дадено текстово поле се казва, че е на фокус. Това е полезно, когато искаме примерно да укажем кое поле е на фокус в момента или за да селектираме конкретни парчета текст в поле, така, че то да се управлява по някакъв начин. 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ion.setFocus(“Sobstveno ime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B86B-D235-4CFB-A551-F3F29CDC91D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5732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499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Jo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eShe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99"/>
              </a:spcBef>
              <a:buSzPct val="10275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For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TextFormat(), setNewTextForma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4730A-7DD5-4D72-B596-54335ED6555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30400" y="549000"/>
            <a:ext cx="4270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1" marL="362160" indent="-22032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u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й се използва за управление на звука, повече за него ще кажем в следващите лек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76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g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зползваме го за обработка на характеристиките на сцената.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ge.height;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ръща височината на сцената в пиксели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2160" indent="-220320">
              <a:spcBef>
                <a:spcPts val="476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т най-високо нив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С него можете да получите данни за компютъра на потребителя като операционна система, използван естествен език плюс всички свойства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pabilities.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Едно от неговите свойства е низ, наречен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rverString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който съдържа списък от възможностите на системата. Този списък може в последствие да се изпрати на сървър и да се съхрани или използва получената информация. За достъп до този низ може да използвате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capabilities.St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6CB1-FCAF-4F70-928F-2AC008D377FA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30400" y="620640"/>
            <a:ext cx="42703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Типове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обек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55592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lvl="1" marL="373680" indent="-227520">
              <a:spcBef>
                <a:spcPts val="476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extFiel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Обектите от този клас използваме за форматиране на 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екста. След като сте създали текстово поле, може да използвате метод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TextFormat(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ли метод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NewFormat(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 обекта Т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tFiel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73680" indent="-227520">
              <a:spcBef>
                <a:spcPts val="499"/>
              </a:spcBef>
              <a:buSzPct val="1027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XML:XML = new XML(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XML.load (“myFile.xm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3680" indent="-227520">
              <a:spcBef>
                <a:spcPts val="400"/>
              </a:spcBef>
              <a:buSzPct val="10275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Клас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Socke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инстанции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Socket:XMLSocket = new XMLSocket();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ySocket.connect (http://www.fmi-plovdiv.org, 8080)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3746-A7E0-4E30-8B5C-5864645736DD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872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lor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lvl="1" marL="455400" indent="-277200"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 предните слайдове поясних, че за да използвате този обект,</a:t>
            </a:r>
            <a:br>
              <a:rPr sz="1900"/>
            </a:b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рябва да го създадете със съответния конструктор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myColo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 = Color (bluza)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ака създадохме инстанция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Color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и я свързахме с инстанция на филмов клип с име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bluz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277200">
              <a:spcBef>
                <a:spcPts val="476"/>
              </a:spcBef>
              <a:buSzPct val="102985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ази инстанция можем да създадем навсякъде, а за параметър на конструктора обикновено се задава пътя до филмчето, на което ще въздействаме. В случай, че искате да създадете инстанция от вътрешността на филмов клип, който ще се обръща към себе си трябва да използвате ключовата дума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9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olor:Color = new Color (this);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това създава нова инстанция на обект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or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в инстанцията // на филмов клип, който съдържа този скрип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277200">
              <a:spcBef>
                <a:spcPts val="476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Най-често използвания метод на този обект е: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RGB(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CD646-174B-4564-BCF5-B01710B5B7EB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Значение и използване на обекти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 M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щност, свойства и употреба на обектите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cript M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Типове обе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класа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 добавяне на интер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Работа с класовете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Selection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7278-779B-4753-885E-6E171C51FBF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6408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olor</a:t>
            </a:r>
            <a:r>
              <a:rPr b="1" lang="bg-BG" sz="36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3413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1" marL="432360" indent="-2631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Color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= new Color (bluza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yColor.setRGB (0x000066);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зи скрипт след като създаде инстанцията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променя цвета на инстанцията на филмче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za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ъмносин. Методът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etRGB()</a:t>
            </a:r>
            <a:r>
              <a:rPr b="0" lang="bg-BG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ема за параметър 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ледван от шестнадесетична стойност на цвят. Параметърът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е запазена знакова комбинация, която указва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е това което го следва е 16-но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263160">
              <a:spcBef>
                <a:spcPts val="499"/>
              </a:spcBef>
              <a:buSzPct val="10298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900" spc="-1" strike="noStrike">
                <a:solidFill>
                  <a:srgbClr val="000000"/>
                </a:solidFill>
                <a:latin typeface="Arial"/>
              </a:rPr>
              <a:t>Разбира се не е задължително да знаете подробно цветовете като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шестнадесетични стойности. Имате възможност динамично да конвертирате цвят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ъм шестнадесет-ичното му съответствие, ако разбира се знае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омбинацията;(). Това става с помощта на метод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: parseInt(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2631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о примери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928E2-B990-453C-8665-3B79E03C4AF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900000" y="485640"/>
            <a:ext cx="87120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ey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з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обавяне на интер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8432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lvl="1" marL="432360" indent="-263160">
              <a:spcBef>
                <a:spcPts val="524"/>
              </a:spcBef>
              <a:buSzPct val="1027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Обектът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се използва за прихващане на събития на натискане на клавиш от потребителя (т.е. взаимо-действие на потребителя със клавиатурата). 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И по-точно: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определите дали даден клавиш е натиснат в момента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определите кой е бил последния натиснат клавиш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а вземете стойността на кода на последния натиснат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  клавиш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добавите слушател за събитие...</a:t>
            </a:r>
            <a:br>
              <a:rPr sz="2100"/>
            </a:b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- определите дали е включен или не определен клавиш (например </a:t>
            </a:r>
            <a:r>
              <a:rPr b="0" lang="en-US" sz="2100" spc="-1" strike="noStrike">
                <a:solidFill>
                  <a:srgbClr val="000000"/>
                </a:solidFill>
                <a:latin typeface="Courier New Cyr"/>
              </a:rPr>
              <a:t>Caps Lock</a:t>
            </a:r>
            <a:r>
              <a:rPr b="0" lang="bg-BG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DD91A-1168-4D94-8A11-EA9EFF639A9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116360" y="485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Използване на класа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Key </a:t>
            </a: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за</a:t>
            </a:r>
            <a:br>
              <a:rPr sz="3200"/>
            </a:br>
            <a:r>
              <a:rPr b="1" lang="bg-BG" sz="3200" spc="-1" strike="noStrike">
                <a:solidFill>
                  <a:srgbClr val="a50021"/>
                </a:solidFill>
                <a:latin typeface="Arial"/>
              </a:rPr>
              <a:t>добавяне на интерактив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1771560"/>
            <a:ext cx="842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lvl="1" marL="572400" indent="-34848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ъй като този обект е глобален, то за него не можете да създадете инстанция. Най-честата му употреба е за проверка състояние на клавиш. За да направите това се използва например следния код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.isDown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Key.TAB);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// тук правим проверка за клавиш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, като можем да зададем и неговия цифров еквивалент (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I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кода му):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.isDown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bg-BG" sz="2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2400" indent="-34848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ново упражнение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9AAA-3AE3-4B90-A384-F07E48BAC8E1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541800" y="404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класове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303480" indent="-184680">
              <a:spcBef>
                <a:spcPts val="499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Един от най-често използваните обекти 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ing. 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Той използва методи, които са полезни за модифи-</a:t>
            </a:r>
            <a:br>
              <a:rPr sz="2200"/>
            </a:b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кацията и създаването на низове.</a:t>
            </a:r>
            <a:br>
              <a:rPr sz="22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String = “Tova e niz v ActionScript”;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ъщност така горе създадохме променлива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essage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като инстанция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т.е. вече може да използваме неговите методи за обработка на нейната стойност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създадем инстанция още с конструктор и чрез създаване на текстово поле (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имеНаТекстовоПоле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x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84680">
              <a:spcBef>
                <a:spcPts val="499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По-важни методи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UpperCas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букви стават главни..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LowerCase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сички букви став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алки..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крива първо срещане на знак или група от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 знаци в низ. Връща число, съответстващо на номера на индекса на буквата в низа (започва да брои от 0)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37AE-2D83-4291-919F-D70BDE71A72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468720" y="404640"/>
            <a:ext cx="87123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класове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303480" indent="-184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xt = “Tova e niz v ActionScript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yrvoSr = message.text.indexOf(“n”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T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ва ще върне за резултат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480" indent="-184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Ако искате да проверите дължина на низ, може да използвате свойство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ngth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stCode.text = “4000”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postLength:Number = postCode.text.length;</a:t>
            </a:r>
            <a:br>
              <a:rPr sz="18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postLength == 4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авилна дължина на кода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еправилен пощенски ко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2197-C1E3-4271-8109-8D9C2F3D12F2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541800" y="414000"/>
            <a:ext cx="87123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Работа с обектите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String </a:t>
            </a: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lvl="1" marL="478800" indent="-2916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 своя страна обектъ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и позволява да управлява-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е текущо фокусираното текстово поле, включително оцветяване на текст, задаване текуща позиция на текстов курсор и ред други.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Едновременно на фокус може да бъде само едно текстово поле, никога не може да има повече от един обек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Фокусирането на поле от потребител става като той щракне върху полето, но може и да използваме метода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Courier New"/>
              </a:rPr>
              <a:t>setFoc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ин от последните методи на този обект ни дава възможност за динамично осветяване на части от текста – без помощта на потребителя, включващ два параметъра (индекса- знака, от който започва селекцията, и индекса, където завършва)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ion.setSelection (7, 1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8800" indent="-2916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следващото упражнение ще направим прост текстов редактор, за да приложим казаното до тук...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C4BD-FD80-49DF-87F8-3FC20B936D43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2637000"/>
            <a:ext cx="8712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Работа с функ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5589-6F0B-48B1-BF9A-A47EAC405971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random/>
  </p:transition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 lvl="1" marL="408960" indent="-2487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роектите ни често се налага да пишем едни и същи парчета код повече от веднъж. За да направим използването им по-лесно, можем да използваме функции, а действие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 помощ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на което изпълняваме функцията се нарича извикване на функ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8960" indent="-2487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реди да използваме функция, логично трябва да я създадем или дефинираме. Това може да го направим като използваме два възможни синтаксиса:</a:t>
            </a:r>
            <a:br>
              <a:rPr sz="1800"/>
            </a:br>
            <a:r>
              <a:rPr b="0" lang="bg-BG" sz="1800" spc="-1" strike="noStrike">
                <a:solidFill>
                  <a:srgbClr val="a50021"/>
                </a:solidFill>
                <a:latin typeface="Arial"/>
              </a:rPr>
              <a:t>Синтаксис 1:</a:t>
            </a:r>
            <a:br>
              <a:rPr sz="1800"/>
            </a:b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той е и най-често използвания начин за създаване на функция, съответно именно него ще използвам по-нататък в лекцията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myFunkcia 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 и т.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действия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кларацията на всяка функция започва с ключовата ду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a50021"/>
                </a:solidFill>
                <a:latin typeface="Courier New"/>
              </a:rPr>
              <a:t>function</a:t>
            </a:r>
            <a:r>
              <a:rPr b="0" lang="bg-BG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B37E-1010-4DBC-86DA-FFF007C92BFB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lvl="1" marL="537480" indent="-3268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ключовата дума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unction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веднага следва името на функцията, то може да е всичко, което преценим, стига да след-ва конвенциите за имен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лед името на функцията в кръглите скоби можем да сложим желани параметри или да оставим тази област празна. Ако сте избрали последния вариант, ще създадете функция, която се изпълнява по един и същи начин при всяко извикване. Съдържа ли параметри, изпълнението и ще е уникално за всяка различна стойност на параметъра. Може да предавате произволен брой параметри по принци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ъв фигурните скоби слагате тялото на функцията, тоест там се поставят действията, които искаме да изпълнява нашата функ-ц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480" indent="-3268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създадем скелет на функция (т.е. Такава, която не съдържа още действия) като изберем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s -&gt; User-Defined F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пане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.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65092-6DE7-48D6-8E8B-E304E578AC8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8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4000"/>
          </a:bodyPr>
          <a:p>
            <a:pPr lvl="1" marL="397080" indent="-24156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a50021"/>
                </a:solidFill>
                <a:latin typeface="Arial"/>
              </a:rPr>
              <a:t>Синтаксис 1:</a:t>
            </a:r>
            <a:br>
              <a:rPr sz="1800"/>
            </a:br>
            <a:r>
              <a:rPr b="0" i="1" lang="bg-BG" sz="1800" spc="-1" strike="noStrike">
                <a:solidFill>
                  <a:srgbClr val="000000"/>
                </a:solidFill>
                <a:latin typeface="Arial"/>
              </a:rPr>
              <a:t>Вторият начин за създаване на функции е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kcia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 и т.н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 /* 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действия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ози втори синтаксис се използва най-често, за да създадем функция динамично или за да дефинираме наш</a:t>
            </a:r>
            <a:r>
              <a:rPr b="0" lang="bg-BG" sz="18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обствен метод на потребителски клас. Тук разликата с първия синтаксис е, че първо записваме името на функцията, а стойността се присвоява с оператора за тази цел: “=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м да зададем по такъв начин функция само като го въведем ръчно в експерт режим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пан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7080" indent="-2415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Ако нашата функция не съдържа параметри можем да я зададем с помощта на следния синтаксис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cia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70A7-7342-4119-B162-29A5B82A366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89" dur="indefinite" restart="never" nodeType="tmRoot">
          <p:childTnLst>
            <p:seq>
              <p:cTn id="1390" dur="indefinite" nodeType="mainSeq">
                <p:childTnLst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9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912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8080"/>
                </a:solidFill>
                <a:latin typeface="Arial"/>
              </a:rPr>
              <a:t>СЪДЪРЖ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5920" y="1599840"/>
            <a:ext cx="80024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Работа с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функции и добавяне на параметри към 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локални променливи и създаване на функции връщащи резулт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3716280"/>
            <a:ext cx="80024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715320" indent="-71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Практика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модул за предварително зарежд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даване на потребителска клавишна комбинация за задействане на кли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ействието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fscommand</a:t>
            </a:r>
            <a:r>
              <a:rPr b="0" lang="bg-BG" sz="2400" spc="-1" strike="noStrike">
                <a:solidFill>
                  <a:srgbClr val="000000"/>
                </a:solidFill>
                <a:latin typeface="CourierCyr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BBCC-D043-4F9D-A46C-4BD0B33908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zoom dir="ou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lvl="1" marL="525600" indent="-3200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о в случай, че сме я дефинирали да приема параметрична информация, то синтаксиса за извикване е следния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Funcia(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параметър1, параметър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3200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В горните примери се приема, че функцията и нейното извикване се намират в една и съща времедиаграма. Но в случай, че това не е така и искаме да извикаме функция на конкретна времедиаграма, трябва да поставим целевия път до тази времедиаграма пред извикването на функцията по следния начин: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root.MyClip1.MyClip2. myFuncia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3200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Може да извикаме една функция и динамично, на базата някаква стойност (например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root[aVariableName]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e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ст, в случай ч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VariableName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ма стойност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ySomething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извикването и реално ще изглежда така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root. saySomething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D5658-6C2B-4CB9-81BD-774D462A03AB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5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0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413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lvl="1" marL="338760" indent="-206280">
              <a:spcBef>
                <a:spcPts val="425"/>
              </a:spcBef>
              <a:buSzPct val="102857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Примерен синтаксис на функция, която приема параметри: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unction AverageStoiinost (ObstaStoinost,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bshtBroii) {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srednoaritmetichno =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ObstaStoinost/ObshtBroii;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}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// A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о искаме да я извикаме:</a:t>
            </a:r>
            <a:r>
              <a:rPr b="0" lang="bg-BG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verageStoiinost</a:t>
            </a:r>
            <a:r>
              <a:rPr b="0" lang="bg-BG" sz="1700" spc="-1" strike="noStrike">
                <a:solidFill>
                  <a:srgbClr val="000000"/>
                </a:solidFill>
                <a:latin typeface="Courier New"/>
              </a:rPr>
              <a:t>(24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38760" indent="-206280">
              <a:spcBef>
                <a:spcPts val="451"/>
              </a:spcBef>
              <a:buSzPct val="102857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гато извикваме функция в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се създава временен масив, наричан от системата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argument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1700" spc="-1" strike="noStrike">
                <a:solidFill>
                  <a:srgbClr val="000000"/>
                </a:solidFill>
                <a:latin typeface="Arial"/>
              </a:rPr>
              <a:t>Той съдържа всички предадени във функцията параметри- дори ако не сме задали такива при дефинирането на функцията. Ако искаме да осъществим достъп до този масив, може да го направим по следния начин:</a:t>
            </a:r>
            <a:br>
              <a:rPr sz="17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unction traceNames (){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Tazi funkciq e priela” + arguments.length + “argumenta”);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Stoiinostta na 1-viq argument e:” + arguments[0])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(“Stoiinostta na 2-riq argument e:”+ arguments[1]);}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ceNames(“Vanya”, “Mitko”);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BCFA-80D4-48B3-9565-5F8C23854A60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3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8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485640"/>
            <a:ext cx="70930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Създаване на функции и добавяне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 на параметри към тя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lvl="1" marL="595800" indent="-3625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резултат от функцията, в прозорец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ще получим следното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zi funkciq e priela 2 argumenta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iinostta na 1-viq argument e: Vany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oiinostta na 2-riq argument e: Mit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5800" indent="-3625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ъществаването на достъп до горния масив ни дава възможност да създаваме функции, които могат да адаптират функционалността си според броя на предаваните в тях параме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A90DD-5F45-4DB3-9630-669B0208923F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Използване на локалнипроменливи и създава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не на функции, връщащи резулта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155592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lvl="1" marL="502200" indent="-305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ъп до променливите, които създавахме до сега, можехме да осъществим от всяко място и по всяко време, във всеки скрипт от нашия филм. Но използваме ли локални променливи, то те имат обхват само в границата на функцията, за която са дефинирани. И се унищожават при приключване на действието на функци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305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ните променливи не са абсолютно задължителни при създаването на скриптове, но стават добра практика в случай, че имаме по-голямо приложение и броя на променливите нарасне. С тях можем да спестим па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2200" indent="-3056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калните променливи в дефиницията на една функция могат да имат едни и същи имена с други от друга функция дори и да са в една и съща времедиаг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2968-13B2-47CA-AABD-2AC06CA9C11B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1700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lvl="1" marL="443880" indent="-27000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декларацията на локални променливи става ръчно с ключовата дум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r myVar = “promenliva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едновременно да декларираме множество променливи по следния начин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ime = “Maria”, familia = “Dimitrova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te = “www.maria.net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създаваме и функции, връщащи резултати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.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880" indent="-27000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използваме действие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, за да връщаме произволни типове данни, например стойности на променливи, масиви или други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0" y="2602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Използване на локалнипроменливи и създава-</a:t>
            </a:r>
            <a:br>
              <a:rPr sz="2800"/>
            </a:br>
            <a:r>
              <a:rPr b="1" lang="bg-BG" sz="2800" spc="-1" strike="noStrike">
                <a:solidFill>
                  <a:srgbClr val="a50021"/>
                </a:solidFill>
                <a:latin typeface="Arial"/>
              </a:rPr>
              <a:t>не на функции, връщащи резултат</a:t>
            </a:r>
            <a:r>
              <a:rPr b="0" lang="bg-BG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bg-BG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A13E-1319-465D-964A-FA15A503A157}" type="slidenum">
              <a:t>4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8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196920"/>
            <a:ext cx="871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15920" indent="-10159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50021"/>
                </a:solidFill>
                <a:latin typeface="Arial"/>
              </a:rPr>
              <a:t>Практика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197000"/>
            <a:ext cx="85327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lvl="2" marL="898920" indent="-359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Създаване на модул за предварително зарежд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8920" indent="-359280"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Задаване на потребителска клавишна</a:t>
            </a:r>
            <a:br>
              <a:rPr sz="2400"/>
            </a:b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     комбинация за задействане на клип.</a:t>
            </a:r>
            <a:br>
              <a:rPr sz="24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f (Key.isDown(Key.CONTROL)and Key.isDown(77) Key.isDown(83))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действие()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} e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i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(Key.isDown(Key.CONTROL) and Key.isDown(69)) {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действие();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                }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8920" indent="-359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Arial"/>
              </a:rPr>
              <a:t>Използване на действието </a:t>
            </a:r>
            <a:r>
              <a:rPr b="0" lang="en-US" sz="2400" spc="-1" strike="noStrike">
                <a:solidFill>
                  <a:srgbClr val="000000"/>
                </a:solidFill>
                <a:latin typeface="CourierCyr"/>
              </a:rPr>
              <a:t>fscommand</a:t>
            </a:r>
            <a:r>
              <a:rPr b="0" lang="bg-BG" sz="2400" spc="-1" strike="noStrike">
                <a:solidFill>
                  <a:srgbClr val="000000"/>
                </a:solidFill>
                <a:latin typeface="CourierCyr"/>
              </a:rPr>
              <a:t>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7241-9D29-44F1-BEE7-68E98D923E2D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777777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777777"/>
                </a:solidFill>
                <a:latin typeface="Arial"/>
              </a:rPr>
              <a:t>ActionScript MX</a:t>
            </a:r>
            <a:r>
              <a:rPr b="1" lang="en-US" sz="3000" spc="-1" strike="noStrike">
                <a:solidFill>
                  <a:srgbClr val="777777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739440" indent="-7394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бектите във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ash 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а елементи, които наподобя-ват обектите от реалния свят. Те са обособени в отделни типове. Можем да ги използваме даже, да изпълним задачи със самите тях. Например филм-че, което записва или стартира друго </a:t>
            </a:r>
            <a:r>
              <a:rPr b="1" lang="en-US" sz="2200" spc="-1" strike="noStrike">
                <a:solidFill>
                  <a:srgbClr val="000000"/>
                </a:solidFill>
                <a:latin typeface="Courier New Cyr"/>
              </a:rPr>
              <a:t>movi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амият език ни осигурява множество предвари-телно създадени обекти за различни нужди. Но в случай, че не може да ни послужат за някоя спе-циална задача, имаме възможност сами да си създадем наш (потребителски) обект.</a:t>
            </a:r>
            <a:br>
              <a:rPr sz="2200"/>
            </a:b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Обектите се дефинират с помощта на две основни характеристи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720" indent="-554400"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свойства (полет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86720" indent="-554400"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000000"/>
                </a:solidFill>
                <a:latin typeface="Arial"/>
              </a:rPr>
              <a:t>методи (функ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7A179-43FC-4837-944B-A1762B618F4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26828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755640" indent="-755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16960" indent="-5666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овечето, но не всички вградени типове обекти имат свойства (т.е. стойности, представящи характерис-тиките на даден обект). Например, ако имаме един мотор, то той има свойства като модел, марка, мощност, цвят. Ако означим мотора като обект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го дефинираме по следния нач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mot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.color = “blue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.mark = “Honda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tor.konskisili = 2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16960" indent="-5666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Един от обектите, които притежават предварително зададени свойства е </a:t>
            </a:r>
            <a:r>
              <a:rPr b="0" lang="en-US" sz="2000" spc="-1" strike="noStrike">
                <a:solidFill>
                  <a:srgbClr val="000000"/>
                </a:solidFill>
                <a:latin typeface="CourierCyr"/>
              </a:rPr>
              <a:t>MovieC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Чрез тях можем да настройваме прозрачността му, видимост, хориз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ална и вертикална позиция, да осъществим въртене (ротация), пренасяне на ново място (транслация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7800" indent="-4723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A6A4-4D6A-4AC6-B863-CC352085F6A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063800"/>
            <a:ext cx="8424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715320" indent="-715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личните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тойности на свойствата на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различни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обекти може да използвате за задаване стойности на нещо друго. Например дължината на низа е свойство на обект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. To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а ни помага по много лек начин да получим тази стойност за дадена поредица от симв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niz:String = “MyString123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r lengthOfNiz:Number = niz.length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на 1-вия ред създаваме променлива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iz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на която присвояваме низ. А на втория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дължината на горния низ става стойност </a:t>
            </a:r>
            <a:br>
              <a:rPr sz="1800"/>
            </a:b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// за променливата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ngthOfNiz</a:t>
            </a:r>
            <a:r>
              <a:rPr b="0" lang="bg-BG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bg-BG" sz="1800" spc="-1" strike="noStrike">
                <a:solidFill>
                  <a:srgbClr val="000000"/>
                </a:solidFill>
                <a:latin typeface="Arial"/>
              </a:rPr>
              <a:t>т.е.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41000" indent="-5360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оред конвенцията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MX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мената на свойствата на филми трябва да започват със символа: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”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_alpha, _rotation…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о поради нуждата от съвместимост с по-старите версии на езика</a:t>
            </a:r>
            <a:r>
              <a:rPr b="0" lang="bg-BG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това правило невинаги се спазва</a:t>
            </a:r>
            <a:r>
              <a:rPr b="0" lang="bg-BG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3840" indent="-4467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55B6-23D1-49D2-A107-A96E6B34CE4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свойства на обектите могат да се използват масиви, променливи, както и други обек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79560" indent="-5079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276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етодите представляват функци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условно действия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, които може да изпълнява даден обект. Ако вземем предвид един филм, то методите са: запис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recor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ъзпроизвежд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lay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Courier New Cyr"/>
              </a:rPr>
              <a:t>пауза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p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спир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stop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превъртане (</a:t>
            </a:r>
            <a:r>
              <a:rPr b="0" lang="en-US" sz="2000" spc="-1" strike="noStrike">
                <a:solidFill>
                  <a:srgbClr val="000000"/>
                </a:solidFill>
                <a:latin typeface="Courier New Cyr"/>
              </a:rPr>
              <a:t>rewind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и др. Като записваме първо името на метода, последвано от кръгли скоби “()”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55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За да извикаме конкретен метод на обект, трябва да напишем първо името на обект (или негова инстанция), след това “.” и после името на метода.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play();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pause();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89120" indent="-213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B15F1-0412-49CA-87EA-6D5B686E1A9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159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a50021"/>
                </a:solidFill>
                <a:latin typeface="Arial"/>
              </a:rPr>
              <a:t>Същност, свойства и употреба на обектите в </a:t>
            </a: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ActionScript M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26828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879560" indent="-507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341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300600" indent="-300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bg-BG" sz="2000" spc="-1" strike="noStrike">
                <a:solidFill>
                  <a:srgbClr val="000000"/>
                </a:solidFill>
                <a:latin typeface="Arial"/>
              </a:rPr>
              <a:t>Метод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Като за почти всеки метод, в скобите можем да включим определен брой параметри, с които да манипулираме филмчето по уникален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Например към филмчето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можем да прикрепим следния скрипт: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Movie.record (“9”, “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bg-BG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m”,“12.45 pm”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October 16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тук за разделител между отделните параметри се</a:t>
            </a:r>
            <a:br>
              <a:rPr sz="2000"/>
            </a:b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// използва “,”-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3760" indent="-2253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Script </a:t>
            </a:r>
            <a:r>
              <a:rPr b="0" lang="bg-BG" sz="2000" spc="-1" strike="noStrike">
                <a:solidFill>
                  <a:srgbClr val="000000"/>
                </a:solidFill>
                <a:latin typeface="Arial"/>
              </a:rPr>
              <a:t>отделните параметри можем да зададем по два основни начина: твърдо (както в примера по-горе) и чрез динамични стойности (с променливи). Също за параметър можем да използваме и други методи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695160" indent="-18792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848A-E0FC-47BD-A025-FE10ABEFA23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31.01.2004 г.</a:t>
            </a:r>
          </a:p>
        </p:txBody>
      </p:sp>
    </p:spTree>
  </p:cSld>
  <p:transition>
    <p:blinds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8:44:31Z</dcterms:created>
  <dc:creator>May</dc:creator>
  <dc:description/>
  <dc:language>en-US</dc:language>
  <cp:lastModifiedBy>lyubo</cp:lastModifiedBy>
  <dcterms:modified xsi:type="dcterms:W3CDTF">2004-10-16T09:54:06Z</dcterms:modified>
  <cp:revision>427</cp:revision>
  <dc:subject/>
  <dc:title>Slide 1</dc:title>
</cp:coreProperties>
</file>