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6964-2196-41A3-B278-B6C805B1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E03CF-3B3B-4890-98A2-0C1F379E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59A35-640D-4886-AFD2-7831522C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F6D5-A314-471D-BCEF-79557BCD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77C4-836F-4CA1-BC77-C40968F2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4005-BA1F-4A1E-8F5A-18E813B6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65D2-4071-44B9-BC61-D7B761FC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12B9-C505-4282-A296-7B9E68BD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420C-4F70-47FD-ABF5-47F361AC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DFDB-4009-4034-9860-1867ADA1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6A08-C3E3-4A57-B7D5-3DC6C097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5B30-9058-4309-87DA-81A09587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0192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49E0-F116-4E7A-819D-71286CEE855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16.10.04 </a:t>
            </a:r>
            <a:r>
              <a:rPr b="0" lang="bg-BG" sz="1400" spc="-1" strike="noStrike">
                <a:solidFill>
                  <a:srgbClr val="a50021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243720" indent="-243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6840" indent="-1825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еки обект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уникален брой методи- отговарящи на специфичните функции, които той изпълняв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eClip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аст от тях са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ay(), nextFrame(), startDrag()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), substr(), toLowerCase()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GB(), getRGB(), setTransform()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Volume(), getPan(), start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6840" indent="-1825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методите на обектите тук можем да изпълняваме различни видов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9A54-1B5D-401D-A25C-5A32A5C9452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34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251640" indent="-25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2320" indent="-188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взимане (извличане) на стойност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задаване на стойн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конвертиране на резултат или вход от един тип в друг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стартиране или деактивиране на даден обект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обработка на текст, друг об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72320" indent="-188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200" spc="-1" strike="noStrike">
                <a:solidFill>
                  <a:srgbClr val="990000"/>
                </a:solidFill>
                <a:latin typeface="Arial"/>
              </a:rPr>
              <a:t>Забележка: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По принцип не е задължително даден обект да съдържа някакви свойства или функции, но без тях става неизползваем и по-скоро даже ненужен.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0384-EDD8-4D55-A0FB-180BB96D1F3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31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Типове обекти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268200" indent="-2682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бектите се организират в класове, представляващи съвкупност от обекти с общи свойства и методи.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пример всички хора на Земята могат да се разгледат като инстанции на класа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.e.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ъпреки нашата уникалност, 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ние имаме някакви общи характеристики. Свойства като цвят на коса, очи, височина; и методи (ходене, гледане, пипане). Така всяка нова инстанция, която създаваме, е инстанция на обекта </a:t>
            </a:r>
            <a:r>
              <a:rPr b="0" lang="en-US" sz="2100" spc="-1" strike="noStrike">
                <a:solidFill>
                  <a:srgbClr val="000000"/>
                </a:solidFill>
                <a:latin typeface="Courier New Cyr"/>
              </a:rPr>
              <a:t>MovieClip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и наследява всички свойства и методи, достъпни за този клас от обекти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02560" indent="-2008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сновните класове обекти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а: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vieClip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String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Col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Sound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535D4-69A7-4C1A-9E28-697F0654CED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8604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478800" indent="-29160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о в повечето проекти ни се налага да използваме множество инстанции и то на разнотипни класове обекти. Например, ако трябва да имаме различни низове, то всеки от тях се счита за инстанция на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бекта </a:t>
            </a:r>
            <a:r>
              <a:rPr b="0" lang="en-US" sz="2100" spc="-1" strike="noStrike">
                <a:solidFill>
                  <a:srgbClr val="000000"/>
                </a:solidFill>
                <a:latin typeface="CourierCyr"/>
              </a:rPr>
              <a:t>Str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т своя страна други обекти са универсални или глобални, което означава, че в приложението, което разработваме може да съдържа само една инстанция от тя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мер за това е обектът </a:t>
            </a:r>
            <a:r>
              <a:rPr b="0" lang="en-US" sz="2100" spc="-1" strike="noStrike">
                <a:solidFill>
                  <a:srgbClr val="000000"/>
                </a:solidFill>
                <a:latin typeface="Courier New Cyr"/>
              </a:rPr>
              <a:t>Mouse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, един от методите, на който е да управлява видимостта на курсора. Тъй като курсорът е само един, не можете да създадете негови инстанции, а използвате методите, достъпни за него, за да манипулирате мишка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E31B-6A91-4C51-8BA8-C94A0E4B740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lvl="1" marL="443880" indent="-27000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я на обект се създава по </a:t>
            </a:r>
            <a:r>
              <a:rPr b="0" lang="bg-BG" sz="2100" spc="-1" strike="noStrike">
                <a:solidFill>
                  <a:srgbClr val="990000"/>
                </a:solidFill>
                <a:latin typeface="Arial"/>
              </a:rPr>
              <a:t>два основни на-</a:t>
            </a:r>
            <a:br>
              <a:rPr sz="2100"/>
            </a:br>
            <a:r>
              <a:rPr b="0" lang="bg-BG" sz="2100" spc="-1" strike="noStrike">
                <a:solidFill>
                  <a:srgbClr val="990000"/>
                </a:solidFill>
                <a:latin typeface="Arial"/>
              </a:rPr>
              <a:t>чина.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Като първият е достъпен само за основните класове обекти и се изразява в просто издърпване на обекта на сцената (това е валидно например за </a:t>
            </a:r>
            <a:r>
              <a:rPr b="0" lang="en-US" sz="2100" spc="-1" strike="noStrike">
                <a:solidFill>
                  <a:srgbClr val="000000"/>
                </a:solidFill>
                <a:latin typeface="CourierCyr"/>
              </a:rPr>
              <a:t>MovieClip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 да създадем инстанции за останалите обекти е необходимо да използваме така наречените конструктори. Те указват н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да създаде съответната инстанция. Синтаксисът им е следният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ameOfInstance = nameOfObject();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пример, ако искате да създадете инстанция на обект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с конструктор, той би изглеждал така: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ameOfSoundInstance = new Sound(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FF2A-8CE7-4407-8B05-3C3614968D9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1" marL="537480" indent="-3268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мената на обекти спазват същите конвенции за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мена като променливите, т.е. те не могат да съдържат интервали, специални знаци или цифри като първи зна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7480" indent="-3268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onScript MX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маме възможност да присъединя-ваме суфикси към имена на обекти, за да улесним разпознаването на кода в панел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. Така вместо да именуваме дадена инстанция на филмов клип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myMovieCli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можем да я запишем по следния начин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myMovieClip_mc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. Така тази конвенция ни позволява панелъ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да определи кога обектът от определен тип има скрипт и по този начин бързо да ни осигури падащия списък от съответните свойства и метод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EC78-596D-45B0-959C-68D2B3348A0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lvl="1" marL="408960" indent="-2487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s Inspector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анел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нига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можете да осъществите достъп до обектите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всеки от които се съдържа в една от следните подкатегории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снов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ед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М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ил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/Server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лиент/Сървъ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horing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Авторск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248760">
              <a:spcBef>
                <a:spcPts val="524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следващите слайдове ще разгледаме различните класове обекти, достъпни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и кои от тях са глобални или трябва да създаваме индивидуална инстан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588000" y="2421000"/>
            <a:ext cx="161136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3D73-C988-408D-BB66-4135791883C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26828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lvl="1" marL="338760" indent="-2062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ssibily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глобале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cessibilyty</a:t>
            </a:r>
            <a:r>
              <a:rPr b="0" lang="bg-BG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Active();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 този обект се съдържа информация (само за четене) относно възможността на компютъра на потребителя да използва четец на екран 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reen reader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 положителен резултат връща истина, иначе лъж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38760" indent="-206280">
              <a:spcBef>
                <a:spcPts val="550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Масивът е място за съхранение на множество от еднотипни данни. Към тях може да се обръщаме с помощта на поредния номер на съответната данна.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var cake:Array = new Array()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cakeType[0] = “Karamelen”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cakeType[1] = “Shokoladov”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cakeType[2] = “S kaysiev krem”;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 този обект имаме полезни методи като: добавяне на нов елемент, премахване, сортиране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988A-7FC6-45CB-B49D-320B8A92628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lvl="1" marL="315360" indent="-1918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й съхранява две стойности: истина или лъжа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я създаваме с помощта на конструктора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ли с оператора за присвояване </a:t>
            </a: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“=”.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var toggle:Boolean = new Boole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или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var toggle:Boolean</a:t>
            </a: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alse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действието на двете е еднак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191880">
              <a:spcBef>
                <a:spcPts val="550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 поставяне на бутон на сцената, ние създаваме инстанция на обект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. (Само още два обекта създават своите инстанции така- чрез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op-down,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това с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vieClip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xtField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2CE6-5197-4F23-8197-FB914AF8449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lvl="1" marL="326880" indent="-19908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лобал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к се съдържат характеристики за компютъра на потребителя на нашите програмки-филмчета. Като разделителна способност на екрана или способността да възпроизвежда зву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то.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Variable:Number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= System.capabilities.screenResolutionY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съхраняваме вертикалната разделителна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// способност на потребителския компютъ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99080">
              <a:spcBef>
                <a:spcPts val="451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зи обект може да използваме за динамична промяна на цвета на филмов клип. Когато създаваме обект, трябва да го определим към конкретен клип. След това с помощта на методит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оже да променяме цветовете. Такъв обект създаваме като използваме конструктор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myColor:Color = new Color (pathToTime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205D-558F-4E3C-82A8-BC357AFB869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4760" y="32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Значение и използване на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обекти в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ActionScript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MX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.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Работа с функции. Създаване и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обработка на данни.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Практика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483E7-0509-4404-B02C-12852FB6F6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lvl="1" marL="373680" indent="-22752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extMe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нтекстното меню е това, което може да видите, когато натиснете десния бутон на мишката (или натисне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кликнет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into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леъра. Използва се за създаване на потребителски контекстни менюта, появя-ващи се при щракване с мишката върху визуален елемент от прозорец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леъра. С този клас може да забраняваме или позволяваме всяка от вградените коман-ди ка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, Stop, Print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ustomMenu:ContextMenu = new ContextMenu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ustomMenu.hideBuiltInItems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ustomMenu.showBuiltInItems.print = tru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Clip_mc.menu = myCustomMenu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Button_btn.menu = myCustomMenu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TextField_txt.menu = myCustomMe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8E69-2A06-430C-9150-2309A6504C0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lvl="1" marL="560880" indent="-34128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extMenu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зи клас се използва заедно с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extMenu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създаване на елементите от потребителските контекстни меню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3412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този клас е представен въ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ash 2004,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 да ни помогне при обработката на грешките в проектите ни. Грешка е всичко, което ние определим като такава (например, число, което огромно или твърде малко). Когато тя се появи се създава нова инстанция на клас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, известно като “хвърляне” (</a:t>
            </a:r>
            <a:r>
              <a:rPr b="0" lang="en-US" sz="2100" spc="-1" strike="noStrike">
                <a:solidFill>
                  <a:srgbClr val="000000"/>
                </a:solidFill>
                <a:latin typeface="CourierCyr"/>
              </a:rPr>
              <a:t>throwing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 грешка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а може да улавяме грешки и да пишем код за тяхната обработка. Така приложенията ни ще функционират по-добре, вместо да действат непредсказуем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80FD-C0D1-44E2-8A60-D264E69F55A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lvl="1" marL="233640" indent="-14220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този обект имаме възможност да  вземем текущата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дата, месец, година, час като локално или глобално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реме, по Гринуич и т.н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now:Date = new Date 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var LargeNumber:Number = now.getTime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оменливата присвоява определен брой милисекунди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// след 00.00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на 1-ви Януари 1970 г. от текущата дат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33640" indent="-142200">
              <a:spcBef>
                <a:spcPts val="476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пределя състоянието на клавишите от клавиатура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33640" indent="-142200">
              <a:spcBef>
                <a:spcPts val="476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adVar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този обект и с помощта на неговите методи може да за-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аждаме данни от външни източници.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myObj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LoadVars = new LoadVars 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yObj.load(“http://www.fmi-plovdiv.org”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91F7-9E4C-4F80-B30A-3818F70730E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lvl="1" marL="280440" indent="-17064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негова помощ осъществаваме различни математичес-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и изчисления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positiveNumber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umber = Math.abs(-6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онвертира абсолютната стойност на обект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th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// положително числ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0440" indent="-170640">
              <a:spcBef>
                <a:spcPts val="476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Управлява видимостта на курсора, позволява ни да задваме слушатели за проследяване активността на мишката.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ouse.hide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ва скрива курсора на мишката от потребителя, но сама-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// та мишка си е активна..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0440" indent="-170640">
              <a:spcBef>
                <a:spcPts val="476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Cli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ва е един от най-популярните обекти. Можем да създаваме негови инстанции по два основни начина: (1) като ги поставяме на сцената или (2) чрез методите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reateEmptyMovieClip() 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uplicateMovieClip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13286-2F50-4BAF-A009-C138E429662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1" marL="549000" indent="-33408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ClipLoad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зи клас ни осигурява лесен начин да зареждаме и получаваме достъп до информация по време на зареждането н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WF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PG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в целеви клип или ниво. С негова помощ ще научим големината на зареждащия се външен архив и каква част от него се е зареди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334080">
              <a:spcBef>
                <a:spcPts val="476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NetConnec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да се възпроизвеждат външни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идео файлове (с разширение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V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-адрес или от хард дис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334080">
              <a:spcBef>
                <a:spcPts val="476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NetStrea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o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игурява свойства и методи за управление н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идео файлове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V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334080">
              <a:spcBef>
                <a:spcPts val="476"/>
              </a:spcBef>
              <a:buSzPct val="10275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Numb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334080"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3877-16A6-4C59-BF40-E6CAC2B655CC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lvl="1" marL="362160" indent="-22032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ва е коренният обект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ionScript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интаксисът за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овото създаване е: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na:Object = new Objec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na.kotka = “Lyki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2160" indent="-220320">
              <a:spcBef>
                <a:spcPts val="499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зи обект се използва основно за извличане на информация или задаване характеристики за селектирани елементи във филмите. По-често се използва за текст в текстови полета. Когато курсора се намира в дадено текстово поле се казва, че е на фокус. Това е полезно, когато искаме примерно да укажем кое поле е на фокус в момента или за да селектираме конкретни парчета текст в поле, така, че то да се управлява по някакъв начин.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ion.setFocus(“Sobstveno ime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FB73-BA6E-461C-8784-E3F773E35376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478800" indent="-29160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J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99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99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e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99"/>
              </a:spcBef>
              <a:buSzPct val="10275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TextFormat(), setNewTextForma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E577B-1BDB-4500-8278-658B6A8C88A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lvl="1" marL="362160" indent="-22032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un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й се използва за управление на звука, повече за него ще кажем в следващите лекц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2160" indent="-220320">
              <a:spcBef>
                <a:spcPts val="476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зползваме го за обработка на характеристиките на сцената.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ge.height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ръща височината на сцената в пиксели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2160" indent="-220320">
              <a:spcBef>
                <a:spcPts val="476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него можете да получите данни за компютъра на потребителя като операционна система, използван естествен език плюс всички свойства на обект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pabilities.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Едно от неговите свойства е низ, наречен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rverStrin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ойто съдържа списък от възможностите на системата. Този списък може в последствие да се изпрати на сървър и да се съхрани или използва получената информация. За достъп до този низ може да използвате: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capabilities.St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2F0E-1935-4E27-8A77-1BF1875EFCA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30400" y="620640"/>
            <a:ext cx="42703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55592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lvl="1" marL="373680" indent="-22752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Fiel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бектите от този клас използваме за форматиране на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екста. След като сте създали текстово поле, може да използвате метод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TextFormat(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ли метод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NewFormat(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на обекта 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tFiel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73680" indent="-227520">
              <a:spcBef>
                <a:spcPts val="499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XML:XML = new XML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XML.load (“myFile.xml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3680" indent="-227520">
              <a:spcBef>
                <a:spcPts val="400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Socke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Socket:XMLSocket = new XMLSocket();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Socket.connect (http://www.fmi-plovdiv.org, 8080)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0392-C6C0-4C3E-9682-841086F8C008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8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лас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olor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lvl="1" marL="455400" indent="-27720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 предните слайдове поясних, че за да използвате този обект,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рябва да го създадете със съответния конструктор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myColor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 = Color (bluza)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ака създадохме инстанция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yColor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и я свързахме с инстанция на филмов клип с име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bluz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27720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ази инстанция можем да създадем навсякъде, а за параметър на конструктора обикновено се задава пътя до филмчето, на което ще въздействаме. В случай, че искате да създадете инстанция от вътрешността на филмов клип, който ще се обръща към себе си трябва да използвате ключовата дум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9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olor:Color = new Color (this);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ва създава нова инстанция на обект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lor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 инстанцията // на филмов клип, който съдържа този скрип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27720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Най-често използвания метод на този обект е: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RGB(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E9C3-EC22-4237-A7BB-E5F27408D76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Значение и използване на обекти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M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щност, свойства и употреба на обектите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cript M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ипове обе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класа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класа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 добавяне на интерактив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бота с класовете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Selection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075D-DAC9-46B5-9CE6-65959AF81A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6408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лас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olor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lvl="1" marL="432360" indent="-2631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olor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= new Color (bluza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yColor.setRGB (0x000066);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и скрипт след като създаде инстанцията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оменя цвета на инстанцията на филмче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uza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тъмносин. Методът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RGB()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ема за параметър (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ван от шестнадесетична стойност на цвят. Параметърът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запазена знакова комбинация, която указв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е това което го следва е 16-но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263160">
              <a:spcBef>
                <a:spcPts val="499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азбира се не е задължително да знаете подробно цветовете кат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шестнадесетични стойности. Имате възможност динамично да конвертирате цвят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ъм шестнадесет-ичното му съответствие, ако разбира се знае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омбинацията;(). Това става с помощта на метод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: parseInt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2631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алко примери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49898-B7C4-430F-8754-4CAE8F80B81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900000" y="485640"/>
            <a:ext cx="8712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лас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Key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за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добавяне на интер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843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lvl="1" marL="432360" indent="-26316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бектъ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y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е използва за прихващане на събития на натискане на клавиш от потребителя (т.е. взаимо-действие на потребителя със клавиатурата).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 по-точно: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да определите дали даден клавиш е натиснат в момента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да определите кой е бил последния натиснат клавиш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да вземете стойността на кода на последния натиснат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 клавиш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добавите слушател за събитие...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определите дали е включен или не определен клавиш (например </a:t>
            </a:r>
            <a:r>
              <a:rPr b="0" lang="en-US" sz="2100" spc="-1" strike="noStrike">
                <a:solidFill>
                  <a:srgbClr val="000000"/>
                </a:solidFill>
                <a:latin typeface="Courier New Cyr"/>
              </a:rPr>
              <a:t>Caps Lock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5E0C-AF73-40CB-A14A-456C6F10E291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116360" y="485640"/>
            <a:ext cx="8712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лас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Key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за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добавяне на интер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17715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lvl="1" marL="572400" indent="-34848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ъй като този обект е глобален, то за него не можете да създадете инстанция. Най-честата му употреба е за проверка състояние на клавиш. За да направите това се използва например следния код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.isDown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Key.TAB);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// тук правим проверка за клави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като можем да зададем и неговия цифров еквивалент (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I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кода му)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.isDown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2400" indent="-3484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ново упражнение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A48D-AE05-4B3D-9EB0-6948C935B6F3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541800" y="404640"/>
            <a:ext cx="8712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Работа с класове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tring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lvl="1" marL="303480" indent="-184680"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дин от най-често използваните обекти 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ng.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ой използва методи, които са полезни за модифи-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ацията и създаването на низове.</a:t>
            </a:r>
            <a:br>
              <a:rPr sz="22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String = “Tova e niz v ActionScript”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ъщност така горе създадохме променлива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messag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то инстанция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т.е. вече може да използваме неговите методи за обработка на нейната стойност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създадем инстанция още с конструктор и чрез създаване на текстово поле (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имеНаТекстовоПоле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84680">
              <a:spcBef>
                <a:spcPts val="499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-важни методи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UpperCas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ички букви стават главни..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LowerCas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ички букви став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алки..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крива първо срещане на знак или група от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знаци в низ. Връща число, съответстващо на номера на индекса на буквата в низа (започва да брои от 0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B1EB-9C7C-472B-B153-991591A66D6E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468720" y="404640"/>
            <a:ext cx="8712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Работа с класове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tring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lvl="1" marL="303480" indent="-184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xt = “Tova e niz v ActionScript”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yrvoSr = message.text.indexOf(“n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ва ще върне за резулта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84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искате да проверите дължина на низ, може да използвате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tCode.text = “4000”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postLength:Number = postCode.text.length;</a:t>
            </a:r>
            <a:br>
              <a:rPr sz="1800"/>
            </a:b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postLength == 4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авилна дължина на код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правилен пощенски код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BA69-99EE-40A9-904D-353B1AD87217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541800" y="414000"/>
            <a:ext cx="87123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Работа с обекти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tring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478800" indent="-29160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 своя страна обектъ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и позволява да управлява-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 текущо фокусираното текстово поле, включително оцветяване на текст, задаване текуща позиция на текстов курсор и ред други.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дновременно на фокус може да бъде само едно текстово поле, никога не може да има повече от един обек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окусирането на поле от потребител става като той щракне върху полето, но може и да използваме метод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Courier New"/>
              </a:rPr>
              <a:t>setFoc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ин от последните методи на този обект ни дава възможност за динамично осветяване на части от текста – без помощта на потребителя, включващ два параметъра (индекса- знака, от който започва селекцията, и индекса, където завършва)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ion.setSelection (7, 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едващото упражнение ще направим прост текстов редактор, за да приложим казаното до тук...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239E-655B-4D2A-BDB4-0410ECB6B6C5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2637000"/>
            <a:ext cx="8712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Работа с функ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4832-6E5E-422C-AC45-D45B3B9F2D89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random/>
  </p:transition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lvl="1" marL="408960" indent="-2487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проектите ни често се налага да пишем едни и същи парчета код повече от веднъж. За да направим използването им по-лесно, можем да използваме функции, а действие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помощ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на което изпълняваме функцията се нарича извикване на функ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2487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и да използваме функция, логично трябва да я създадем или дефинираме. Това може да го направим като използваме два възможни синтаксиса:</a:t>
            </a:r>
            <a:br>
              <a:rPr sz="1800"/>
            </a:br>
            <a:r>
              <a:rPr b="0" lang="bg-BG" sz="1800" spc="-1" strike="noStrike">
                <a:solidFill>
                  <a:srgbClr val="a50021"/>
                </a:solidFill>
                <a:latin typeface="Arial"/>
              </a:rPr>
              <a:t>Синтаксис 1:</a:t>
            </a:r>
            <a:br>
              <a:rPr sz="1800"/>
            </a:b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той е и най-често използвания начин за създаване на функция, съответно именно него ще използвам по-нататък в лекцията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myFunkcia (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параметър1, параметър2 и т.н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действия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кларацията на всяка функция започва с ключовата ду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function</a:t>
            </a:r>
            <a:r>
              <a:rPr b="0" lang="bg-BG" sz="18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2FE9-5C98-4DD1-AC4B-4CB578ADAF9C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0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1" marL="537480" indent="-3268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 ключовата дума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function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еднага следва името на функцията, то може да е всичко, което преценим, стига да след-ва конвенциите за имен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480" indent="-3268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 името на функцията в кръглите скоби можем да сложим желани параметри или да оставим тази област празна. Ако сте избрали последния вариант, ще създадете функция, която се изпълнява по един и същи начин при всяко извикване. Съдържа ли параметри, изпълнението и ще е уникално за всяка различна стойност на параметъра. Може да предавате произволен брой параметри по принци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480" indent="-3268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в фигурните скоби слагате тялото на функцията, тоест там се поставят действията, които искаме да изпълнява нашата функ-ц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480" indent="-3268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м да създадем скелет на функция (т.е. Такава, която не съдържа още действия) като изберем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s -&gt; User-Defined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пане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780F-1758-43C3-9CA0-199E62DF0629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lvl="1" marL="397080" indent="-2415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Arial"/>
              </a:rPr>
              <a:t>Синтаксис 1:</a:t>
            </a:r>
            <a:br>
              <a:rPr sz="1800"/>
            </a:b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Вторият начин за създаване на функции е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Funkcia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(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параметър1, параметър2 и т.н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/*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действия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/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7080" indent="-2415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зи втори синтаксис се използва най-често, за да създадем функция динамично или за да дефинираме наш</a:t>
            </a:r>
            <a:r>
              <a:rPr b="0" lang="bg-BG" sz="18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обствен метод на потребителски клас. Тук разликата с първия синтаксис е, че първо записваме името на функцията, а стойността се присвоява с оператора за тази цел: “=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7080" indent="-24156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м да зададем по такъв начин функция само като го въведем ръчно в експерт режим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ан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7080" indent="-2415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нашата функция не съдържа параметри можем да я зададем с помощта на следния синтаксис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Funcia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2F71-51D8-455F-82D4-E12A46E19505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91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5920" y="1599840"/>
            <a:ext cx="80024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Работа с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функции и добавяне на параметри към 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локални променливи и създаване на функции връщащи резулт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280" y="3716280"/>
            <a:ext cx="80024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715320" indent="-71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актик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модул за предварително зарежд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даване на потребителска клавишна комбинация за задействане на кли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действието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fscommand</a:t>
            </a:r>
            <a:r>
              <a:rPr b="0" lang="bg-BG" sz="2400" spc="-1" strike="noStrike">
                <a:solidFill>
                  <a:srgbClr val="000000"/>
                </a:solidFill>
                <a:latin typeface="CourierCyr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74986-11FF-4C07-9027-6C25BF9CB3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lvl="1" marL="525600" indent="-32004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 в случай, че сме я дефинирали да приема параметрична информация, то синтаксиса за извикване е следния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Funcia(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параметър1, параметър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3200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горните примери се приема, че функцията и нейното извикване се намират в една и съща времедиаграма. Но в случай, че това не е така и искаме да извикаме функция на конкретна времедиаграма, трябва да поставим целевия път до тази времедиаграма пред извикването на функцията по следния начин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root.MyClip1.MyClip2. myFuncia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3200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 да извикаме една функция и динамично, на базата някаква стойност (например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root[aVariableName]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o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, в случай ч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ariableName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ма стойност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Something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викването и реално ще изглежда так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root. saySometh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3ED2-BCB7-422D-9B61-385FC536F183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lvl="1" marL="338760" indent="-206280">
              <a:spcBef>
                <a:spcPts val="425"/>
              </a:spcBef>
              <a:buSzPct val="1028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имерен синтаксис на функция, която приема параметри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unction AverageStoiinost (ObstaStoinost,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bshtBroii) {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rednoaritmetichno =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bstaStoinost/ObshtBroii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}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/ A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ко искаме да я извикаме:</a:t>
            </a:r>
            <a:r>
              <a:rPr b="0" lang="bg-BG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verageStoiinost</a:t>
            </a:r>
            <a:r>
              <a:rPr b="0" lang="bg-BG" sz="1700" spc="-1" strike="noStrike">
                <a:solidFill>
                  <a:srgbClr val="000000"/>
                </a:solidFill>
                <a:latin typeface="Courier New"/>
              </a:rPr>
              <a:t>(24,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38760" indent="-206280">
              <a:spcBef>
                <a:spcPts val="451"/>
              </a:spcBef>
              <a:buSzPct val="1028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гато извикваме функция в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се създава временен масив, наричан от системата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rgument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Той съдържа всички предадени във функцията параметри- дори ако не сме задали такива при дефинирането на функцията. Ако искаме да осъществим достъп до този масив, може да го направим по следния начин:</a:t>
            </a:r>
            <a:br>
              <a:rPr sz="17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unction traceNames ()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(“Tazi funkciq e priela” + arguments.length + “argumenta”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(“Stoiinostta na 1-viq argument e:” + arguments[0]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(“Stoiinostta na 2-riq argument e:”+ arguments[1]);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Names(“Vanya”, “Mitko”)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4C343-6D7B-4BD4-BAAB-CAB94D8A6644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lvl="1" marL="595800" indent="-3625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резултат от функцията, в прозорец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ще получим следното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zi funkciq e priela 2 argumenta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iinostta na 1-viq argument e: Vany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iinostta na 2-riq argument e: Mit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5800" indent="-3625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ществаването на достъп до горния масив ни дава възможност да създаваме функции, които могат да адаптират функционалността си според броя на предаваните в тях парамет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7E71-2B22-4697-A93A-FFF030EB8D71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Използване на локалнипроменливи и създава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не на функции, връщащи резултат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1" marL="502200" indent="-305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ъп до променливите, които създавахме до сега, можехме да осъществим от всяко място и по всяко време, във всеки скрипт от нашия филм. Но използваме ли локални променливи, то те имат обхват само в границата на функцията, за която са дефинирани. И се унищожават при приключване на действието на функци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2200" indent="-305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калните променливи не са абсолютно задължителни при създаването на скриптове, но стават добра практика в случай, че имаме по-голямо приложение и броя на променливите нарасне. С тях можем да спестим пам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2200" indent="-3056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калните променливи в дефиницията на една функция могат да имат едни и същи имена с други от друга функция дори и да са в една и съща времедиаг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E2C6-3467-4C59-9AD6-C1B84EEB6367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700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lvl="1" marL="443880" indent="-2700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декларацията на локални променливи става ръчно с ключовата дум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myVar = “promenliva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едновременно да декларираме множество променливи по следния начин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ime = “Maria”, familia = “Dimitrova”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te = “www.maria.net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създаваме и функции, връщащи резултати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.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използваме действие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, за да връщаме произволни типове данни, например стойности на променливи, масиви или други обек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0" y="2602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Използване на локалнипроменливи и създава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не на функции, връщащи резултат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5576-724D-49FA-8AA9-961363972859}" type="slidenum">
              <a:t>4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96920"/>
            <a:ext cx="871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Практика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197000"/>
            <a:ext cx="85327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lvl="2" marL="898920" indent="-359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модул за предварително зарежд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8920" indent="-359280"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даване на потребителска клавишна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комбинация за задействане на клип.</a:t>
            </a:r>
            <a:br>
              <a:rPr sz="24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f (Key.isDown(Key.CONTROL)and Key.isDown(77) Key.isDown(83)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йствие()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} 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Key.isDown(Key.CONTROL) and Key.isDown(69)) {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действие()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8920" indent="-359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действието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fscommand</a:t>
            </a:r>
            <a:r>
              <a:rPr b="0" lang="bg-BG" sz="2400" spc="-1" strike="noStrike">
                <a:solidFill>
                  <a:srgbClr val="000000"/>
                </a:solidFill>
                <a:latin typeface="CourierCyr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3682-9399-4BBF-93AD-4D8E9418C7C2}" type="slidenum">
              <a:t>4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777777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777777"/>
                </a:solidFill>
                <a:latin typeface="Arial"/>
              </a:rPr>
              <a:t>ActionScript MX</a:t>
            </a:r>
            <a:r>
              <a:rPr b="1" lang="en-US" sz="30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739440" indent="-739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Обектите във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а елементи, които наподобя-ват обектите от реалния свят. Те са обособени в отделни типове. Можем да ги използваме даже, да изпълним задачи със самите тях. Например филм-че, което записва или стартира друго </a:t>
            </a:r>
            <a:r>
              <a:rPr b="1" lang="en-US" sz="2200" spc="-1" strike="noStrike">
                <a:solidFill>
                  <a:srgbClr val="000000"/>
                </a:solidFill>
                <a:latin typeface="Courier New Cyr"/>
              </a:rPr>
              <a:t>movi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амият език ни осигурява множество предвари-телно създадени обекти за различни нужди. Но в случай, че не може да ни послужат за някоя спе-циална задача, имаме възможност сами да си създадем наш (потребителски) обект.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Обектите се дефинират с помощта на две основни характерист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720" indent="-5544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войства (полет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720" indent="-55440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етоди (функ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27A5-8BE4-479F-8AC7-3D538482B89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55640" indent="-75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16960" indent="-566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вечето, но не всички вградени типове обекти имат свойства (т.е. стойности, представящи характерис-тиките на даден обект). Например, ако имаме един мотор, то той има свойства като модел, марка, мощност, цвят. Ако означим мотора като обект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го дефинираме по следния нач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47232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mo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color = “blue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tor.mark = “Honda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tor.konskisili = 2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16960" indent="-566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дин от обектите, които притежават предварително зададени свойства е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MovieC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рез тях можем да настройваме прозрачността му, видимост, хориз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лна и вертикална позиция, да осъществим въртене (ротация), пренасяне на ново място (транслация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4723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B0D6-473C-4ADF-AB69-2861F420BAA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06380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715320" indent="-715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личните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и на свойствата н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личн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бекти може да използвате за задаване стойности на нещо друго. Например дължината на низа е свойство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. To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 ни помага по много лек начин да получим тази стойност за дадена поредица от симв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3840" indent="-4467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niz:String = “MyString123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3840" indent="-44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lengthOfNiz:Number = niz.length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1-вия ред създаваме променлива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iz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на която присвояваме низ. А на втория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дължината на горния низ става стойност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за променливата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ngthOfNiz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.е.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поред конвенцията 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MX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ената на свойствата на филми трябва да започват със символа: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alpha, _rotation…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о поради нуждата от съвместимост с по-старите версии на езика</a:t>
            </a:r>
            <a:r>
              <a:rPr b="0" lang="bg-BG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това правило невинаги се спазва</a:t>
            </a:r>
            <a:r>
              <a:rPr b="0" lang="bg-BG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3840" indent="-4467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1030-CDBF-4229-A4D7-1C52DFEF244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свойства на обектите могат да се използват масиви, променливи, както и други обек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276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ите представляват функци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словно действия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които може да изпълнява даден обект. Ако вземем предвид един филм, то методите са: запис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recor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зпроизвеждане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play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пауз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p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пиране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stop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въртане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rewin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др. Като записваме първо името на метода, последвано от кръгли скоби “()”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викаме конкретен метод на обект, трябва да напишем първо името на обект (или негова инстанция), след това “.” и после името на метод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.play();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.pause();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89120" indent="-213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116B-A89B-4209-A283-076B4A2067E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300600" indent="-300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3760" indent="-2253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за почти всеки метод, в скобите можем да включим определен брой параметри, с които да манипулираме филмчето по уникален нач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3760" indent="-2253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пример към филмчето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прикрепим следния скрипт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.record (“9”, “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m”,“12.45 pm”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October 16”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за разделител между отделните параметри се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// използва “,”-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3760" indent="-2253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делните параметри можем да зададем по два основни начина: твърдо (както в примера по-горе) и чрез динамични стойности (с променливи). Също за параметър можем да използваме и други методи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5160" indent="-1879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4842-2E63-4178-A765-DAEA1295EF3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4:31Z</dcterms:created>
  <dc:creator>May</dc:creator>
  <dc:description/>
  <dc:language>en-US</dc:language>
  <cp:lastModifiedBy>lyubo</cp:lastModifiedBy>
  <dcterms:modified xsi:type="dcterms:W3CDTF">2004-10-16T09:54:06Z</dcterms:modified>
  <cp:revision>427</cp:revision>
  <dc:subject/>
  <dc:title>Slide 1</dc:title>
</cp:coreProperties>
</file>