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56830-0FB3-42ED-850C-A15AC406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C4C11-92D0-4A68-A9D7-42D4D948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6CBD3-E75B-41D6-B44A-88A59819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B4226-ED08-4B37-B37F-D36BAC13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563E9-0815-4F09-8252-EC0C4E8D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13F5F-B136-48FC-B34E-02148C1B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8EC8E-7502-4019-AB8E-B40AB951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575E3-B508-4AC9-93D7-24C786B6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D5CF2-8697-4AE3-B139-481DCED4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E4F9D-7293-431A-A58C-EC458319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BD8D-ADA1-4B79-85F0-3EADA817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FFEF3-850C-42B8-BA0A-81F0E140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01920" y="6121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E138-5FE1-4D08-89F8-F6E32C206561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.10.04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289440" y="-243360"/>
            <a:ext cx="975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Дефиниране на потребителски клас и</a:t>
            </a: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здаване на негова инстанция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55592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lvl="2" marL="670320" indent="-26784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зи обект се предава на дефиницията на класа и постепенно придобива вид приемайки стъпка по стъпка различните характеристики на класа. По време на този процес временният обект се означава с термина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ест, когато имаме следния скрипт: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s. name = “Mihaela”,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 това означава, че на свойството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трябва да бъде зададена стойност “М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haela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K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гато 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tivation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завърши конструирането, му се дава съответното име и той става достъпен за използван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ака зададен дотук  класа създава идентични инстанции;( в следващия пример ще го променим така, че да създаваме различни негови представители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За да създаваме лесно инстанции на клас от произволни времедиаграми, без въвеждането на целеви път, трябва да направим глобална дефиницията на нашия кла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D418E-CF3F-42A3-8E1B-D25B33782328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44360" y="-24336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Дефиниране на потребителски клас и</a:t>
            </a: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здаване на негова инстанция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413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lvl="2" marL="609480" indent="-24372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зи обект се предава на дефиницията на класа и постепенно придобива вид приемайки стъпка по стъпка различните характеристики на класа. По време на този процес временният обект се означава с термина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ест, когато имаме следния скрипт: </a:t>
            </a:r>
            <a:br>
              <a:rPr sz="1900"/>
            </a:br>
            <a:r>
              <a:rPr b="0" lang="en-US" sz="1800" spc="-1" strike="noStrike">
                <a:solidFill>
                  <a:srgbClr val="000000"/>
                </a:solidFill>
                <a:latin typeface="Courier New Cyr"/>
              </a:rPr>
              <a:t>this. name = “Mihae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 това означава, че на свойството </a:t>
            </a:r>
            <a:r>
              <a:rPr b="0" lang="en-US" sz="1900" spc="-1" strike="noStrike">
                <a:solidFill>
                  <a:srgbClr val="000000"/>
                </a:solidFill>
                <a:latin typeface="Courier New Cyr"/>
              </a:rPr>
              <a:t>name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трябва да бъде зададена стойност “</a:t>
            </a:r>
            <a:r>
              <a:rPr b="0" lang="bg-BG" sz="1900" spc="-1" strike="noStrike">
                <a:solidFill>
                  <a:srgbClr val="000000"/>
                </a:solidFill>
                <a:latin typeface="Courier New Cyr"/>
              </a:rPr>
              <a:t>М</a:t>
            </a:r>
            <a:r>
              <a:rPr b="0" lang="en-US" sz="1900" spc="-1" strike="noStrike">
                <a:solidFill>
                  <a:srgbClr val="000000"/>
                </a:solidFill>
                <a:latin typeface="Courier New Cyr"/>
              </a:rPr>
              <a:t>ihaela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K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гато 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tivation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завърши конструирането, 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му се дава съответното име и той става достъпен за използван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ака зададен дотук  класа създава идентични инстанции;( В следващия пример ще го променим така, че да създаваме различни негови представители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За да създаваме лесно инстанции на клас от произволни времедиаграми, без въвеждането на целеви път, трябва да направим глобална дефиницията на нашия клас. Пример.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06004-3F13-4669-A14D-EB4F8B379F0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44360" y="-16236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Дефиниране на потребителски клас и</a:t>
            </a: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здаване на негова инстанция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1627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lvl="2" marL="670320" indent="-26784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зи обект се предава на дефиницията на класа и постепенно придобива вид приемайки стъпка по стъпка различните характеристики на класа. По време на този процес временният обект се означава с термина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ест, когато имаме следния скрипт: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s. name = “Mihaela”,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 това означава, че на свойството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трябва да бъде зададена стойност “</a:t>
            </a:r>
            <a:r>
              <a:rPr b="0" lang="bg-BG" sz="1900" spc="-1" strike="noStrike">
                <a:solidFill>
                  <a:srgbClr val="000000"/>
                </a:solidFill>
                <a:latin typeface="CourierCyr"/>
              </a:rPr>
              <a:t>М</a:t>
            </a:r>
            <a:r>
              <a:rPr b="0" lang="en-US" sz="1900" spc="-1" strike="noStrike">
                <a:solidFill>
                  <a:srgbClr val="000000"/>
                </a:solidFill>
                <a:latin typeface="CourierCyr"/>
              </a:rPr>
              <a:t>ihaela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K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гато 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tivation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завърши конструирането, му се дава съответното име и той става достъпен за използван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ака зададен дотук  класа създава идентични инстанции;( в следващия пример ще го променим така, че да създаваме различни негови представители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За да създаваме лесно инстанции на клас от произволни времедиаграми, без въвеждането на целеви път, трябва да направим глобална дефиницията на нашия кла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01A0B-B205-437A-9C05-7FD13848C6A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907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Дефиниране на потребителски клас и</a:t>
            </a: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здаване на негова инстанция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70028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lvl="2" marL="838080" indent="-33516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_global.</a:t>
            </a:r>
            <a:r>
              <a:rPr b="0" lang="bg-BG" sz="1900" spc="-1" strike="noStrike">
                <a:solidFill>
                  <a:srgbClr val="000000"/>
                </a:solidFill>
                <a:latin typeface="Courier New"/>
              </a:rPr>
              <a:t>имеклас =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unction () { }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направо можете да създадете инстанция на клас, където и когато поискате само с: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new Person()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ест без да указваме целеви път</a:t>
            </a:r>
            <a:r>
              <a:rPr b="0" lang="bg-BG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33516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ажно е да отбележим, че в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ionScript 2.0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кодът за дефиниране на клас  се разполага в собствен файл с разширение </a:t>
            </a:r>
            <a:r>
              <a:rPr b="0" lang="en-US" sz="1900" spc="-1" strike="noStrike">
                <a:solidFill>
                  <a:srgbClr val="a50021"/>
                </a:solidFill>
                <a:latin typeface="Courier New Cyr"/>
              </a:rPr>
              <a:t>.as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Като всеки клас се разполага в отделен файл, чието име съвпада с това на класа, който описва.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Например, ако създадем клас </a:t>
            </a: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ExampleClas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рябва да го разположим във файл с име </a:t>
            </a: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ExampleClass</a:t>
            </a:r>
            <a:r>
              <a:rPr b="0" lang="bg-BG" sz="1900" spc="-1" strike="noStrike">
                <a:solidFill>
                  <a:srgbClr val="a50021"/>
                </a:solidFill>
                <a:latin typeface="Arial"/>
              </a:rPr>
              <a:t>.а</a:t>
            </a: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335160"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44AD8-F07C-4F13-B8EE-623901772CC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289440" y="333000"/>
            <a:ext cx="975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Програмиране на обект чрез приспосо-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бяване на неговия прототип. 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Свойства на ниво инст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17715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lvl="2" marL="761760" indent="-30456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За всички инстанции на класове в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ionScript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част от характеристиките са универсални, но има и други, които варират, въпросът  е как можем да спестим код като не пишем всеки път общите свойств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761760" indent="-30456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ва става с така нареченият </a:t>
            </a:r>
            <a:r>
              <a:rPr b="0" i="1" lang="bg-BG" sz="1900" spc="-1" strike="noStrike">
                <a:solidFill>
                  <a:srgbClr val="a50021"/>
                </a:solidFill>
                <a:latin typeface="Arial"/>
              </a:rPr>
              <a:t>обект-прототип.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Той съдържа свойства и стойности, които са универсални за класа. Можем да го възприемаме като обект, стоящ точно след дефиницията на класа, специално прикрепен към не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761760" indent="-304560"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сички класове обекти, включително вградените в езика, имат асоцииран обект-прототип. В него не се съдържат никакви стойности докато не се добави скрипт към тях. Като свойствата на обекта-прототип се </a:t>
            </a:r>
            <a:r>
              <a:rPr b="0" i="1" lang="bg-BG" sz="1900" spc="-1" strike="noStrike">
                <a:solidFill>
                  <a:srgbClr val="a50021"/>
                </a:solidFill>
                <a:latin typeface="Arial"/>
              </a:rPr>
              <a:t>наследяват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от всички свойства по-нататъ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405ED-F4D1-4DCF-A07C-E4273BACA2E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216000" y="33300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Програмиране на обект чрез 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присобяване на неговия прототип. 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Свойства на ниво инст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843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lvl="2" marL="670320" indent="-26784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tionScript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винаги проверява при търсене на стойност за дадена променлива първо на ниво инстанция! Ако открие, присъединява нея, ако не търси в обекта-прототип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 обекта-прототип можете да правите усъвършенствания по всички инстанции, което в много случаи е полезно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Добавянето, изтриването или обновяването на свойства в обекта-прототип на клас предизвиква незабавно отразява-не  на промените във всички инстанции на класа. Има само едно изключение, което ще разгледаме след малко;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войството на ниво инстанция е свойство, зададено в дефиницията на класа или при създаването на инстан-цията, или е стойност, зададена чрез директно адреси-ране на инстанцият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C9CA5-04BE-4EBE-93D7-B5AB01DB92F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Програмиране на обект чрез приспосо-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бяване на неговия прототип. 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Свойства на ниво инст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170028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lvl="2" marL="426600" indent="-170640">
              <a:spcBef>
                <a:spcPts val="451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.age = 16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ниво прототип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.legs = 2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ниво инстанци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.name = "Justin"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ниво инстанция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.head = new Object(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ниво прототип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.head.eyes = 2;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ниво прототип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.head.memories = new Array()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ниво протот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ажно се отбележи, че свойството на ниво инстанция има предимство пред това на ниво прототи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жем да изтрием свойство на ниво инстанция с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lete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им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инстанция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свойство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едимство на свойства ниво инстанция е, че можем да зададем допълнителни характеристики, освен тези в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ефиницията на класа и прототипа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B4E6D-384B-4030-B3F8-2FA300689ACB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44360" y="3409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Програмиране на обект чрез приспосо-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бяване на неговия прототип. 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Свойства на ниво инст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843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2" marL="1264680" indent="-50580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добавим свойство към дефиницията на класа, то ще е валидно само за новосъздадените инстанции, тъй като функцията конструктор присъединява характер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ики само в момента на тяхното създав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89D80-2C85-4B6B-AFDF-0035A44C329A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216000" y="26964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Създаване на подкласове, потребителски методи за потребителски клас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773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дкласовете са класове, притежаващи общите характеристиките на класа, но всеки от тях си има и уникални свойства. Например подклас н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може да 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atit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да укажем, че един клас е подклас на друг като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PodKlas.prototype = new ImeSuperKlas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Горният ред всъщност създава връзка между суперкласа и подкласа от типа родител-наследник. Така всички свойства на родителя, ще се отразяват на нас-ледника, но обратното не е в си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всеки обект-прототип на клас и всяка инстанция на клас, съществува свойство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pro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2CC99-884F-4EF7-B5AF-0F10E77FBAA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216000" y="2599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Създаване на подкласове, потребителски методи за потребителски клас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еговата стойност помага на интерпретатора да определи къде да търси, ако не може да открие дадено свойство за обекта. Обикновено в такъв случай се обръща към обекта-прототип на друг клас, евентуалния родит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pro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 за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втоматично при създаването на ин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анция на подклас, но може да го променим винаги, когато ни е ну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искаме да укажем обект-прототип на един клас да наследи прототип на клас, различен от стандартния, например къ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Class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то можем да запишем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tancia._proto_ = NewClass.prototype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га ще се счи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tancia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инстанция н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Class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ще наследи характеристиките на прототипа на този клас.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E7249-EC64-45CD-A128-80F9CE489EDC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900" spc="-1" strike="noStrike">
                <a:solidFill>
                  <a:srgbClr val="a50021"/>
                </a:solidFill>
                <a:latin typeface="Arial"/>
              </a:rPr>
              <a:t>Създаване на потребителски обекти</a:t>
            </a:r>
            <a:r>
              <a:rPr b="1" lang="en-US" sz="2900" spc="-1" strike="noStrike">
                <a:solidFill>
                  <a:srgbClr val="a50021"/>
                </a:solidFill>
                <a:latin typeface="Arial"/>
              </a:rPr>
              <a:t>. </a:t>
            </a:r>
            <a:br>
              <a:rPr sz="2900"/>
            </a:br>
            <a:r>
              <a:rPr b="1" lang="bg-BG" sz="2900" spc="-1" strike="noStrike">
                <a:solidFill>
                  <a:srgbClr val="a50021"/>
                </a:solidFill>
                <a:latin typeface="Arial"/>
              </a:rPr>
              <a:t>Динамични данни в </a:t>
            </a:r>
            <a:r>
              <a:rPr b="1" lang="en-US" sz="2900" spc="-1" strike="noStrike">
                <a:solidFill>
                  <a:srgbClr val="a50021"/>
                </a:solidFill>
                <a:latin typeface="Arial"/>
              </a:rPr>
              <a:t>ActionScript MX</a:t>
            </a:r>
            <a:r>
              <a:rPr b="1" lang="bg-BG" sz="2900" spc="-1" strike="noStrike">
                <a:solidFill>
                  <a:srgbClr val="a50021"/>
                </a:solidFill>
                <a:latin typeface="Arial"/>
              </a:rPr>
              <a:t> и тяхното приложение.</a:t>
            </a:r>
            <a:r>
              <a:rPr b="1" lang="en-US" sz="29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900" spc="-1" strike="noStrike">
                <a:solidFill>
                  <a:srgbClr val="a50021"/>
                </a:solidFill>
                <a:latin typeface="Arial"/>
              </a:rPr>
              <a:t>Практика 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197000"/>
            <a:ext cx="340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700" spc="-1" strike="noStrike">
                <a:solidFill>
                  <a:srgbClr val="808080"/>
                </a:solidFill>
                <a:latin typeface="Arial"/>
              </a:rPr>
              <a:t>ЛЕКЦИЯ № </a:t>
            </a:r>
            <a:r>
              <a:rPr b="1" lang="en-US" sz="37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7DDAC-E41B-48EF-A47F-F648E95E5F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216000" y="3409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Създаване на подкласове, потребителски методи за потребителски клас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916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 свойствата н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tancia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 първоначалния клас, ще бъдат изтри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51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още две понятия, които ни помагат да разберем концепцията за наследяването. Това са релационните връзки от тип “</a:t>
            </a: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им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” и “</a:t>
            </a: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”.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ята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им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войство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ята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ctor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лице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1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елационните връзки от тип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а подходящи за обекти-подкласове, а тези от тип </a:t>
            </a:r>
            <a:r>
              <a:rPr b="0" lang="bg-BG" sz="2000" spc="-1" strike="noStrike">
                <a:solidFill>
                  <a:srgbClr val="a50021"/>
                </a:solidFill>
                <a:latin typeface="Arial"/>
              </a:rPr>
              <a:t>им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и показват какви са к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ретните свойства на класове от обек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A6649-37D2-4A73-B7B3-CBEC3A33CBF7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52360" y="26964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Създаване на подкласове, потребителски методи за потребителски клас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628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2" marL="700920" indent="-280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ектите, които създадохме дотук, съдържат само стойности на свойства, но не притежават фун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ционални характеристики. Като например инстанциите на филмови клипове, за които имаме методи ка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ay(), stop(), getURL(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0920" indent="-280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едващите упражнения ще добавим методи към потребителските ни класове, което ще ни даде търсената полезна функционалн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0920" indent="-280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същност методите на класовете представляват специфично дефинирани за конкретния случай функции, зададени чрез поставянето им в обектите-прототипи на тези класо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0920" indent="-280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ункционалните характеристики на класовете могат да се зададат по два нач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C66F9-0CC2-4E79-8ECF-DAF84DD0E3F9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44360" y="26964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Създаване на подкласове, потребителски методи за потребителски клас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7715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lvl="2" marL="426600" indent="-1706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ървият начин е, чрез директно описание в класа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Klas.prototype.ime_metod = function()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действ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 втория първо описваме функцията извън класа и после я задаваме като метод в него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_metod(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действ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Klas.prototype.metod = ime_meto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ато потребителския метод може да го използваме за всяка бъдеща инстанция на този клас като напишем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_instancia.ime_metod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26600" indent="-170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96C81-E3BA-4374-8AAA-E8C43B6243F7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96720" y="2599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Създаване на подкласове, потребителски методи за потребителски клас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91628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lvl="2" marL="776880" indent="-310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тод на един клас може да се използва за дефини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е на други мето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6880" indent="-310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требителските методи могат да съдържат действия, методи, въобще всичко, което предлага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ато интерактивни сре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6880" indent="-310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тодите на суперклас са достъпни в неговите наследници и те могат да ги използват. В случай, че искаме да дефинираме метод, който да е достъпен само за конкретен клас, просто го слагаме в съответния обект-прототип за н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7EA60-6252-428D-B5C6-46E593F1AA1A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684360" y="259920"/>
            <a:ext cx="1000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блюдения на свойства и разширяване на методите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 съществуващи обекти. Дефиниране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потребителски методи за вече създадени об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628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2" marL="624600" indent="-249840">
              <a:spcBef>
                <a:spcPts val="451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 предишните лекции научихме, че зададените свойства за различните обекти могат да се променят. При това промяната на свойство на един обект, обикновено води до изменения и в другите околни не него или свързани по някакъв начин с него обекти. Обикновено, за да наблюдавате свойст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ектит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специален метод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tch().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еговото действие е следното: при настъпване на промяна, можем да извикаме дадена функция по начин позво-ляващ проекта ни да реагира на промяната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им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обект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tch(“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свойствоЗаНаблюд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, им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Функция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тук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им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Функция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 функцията, която искаме да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извикаме при промяна на някое сво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BD97E-6698-4290-82A6-3207F9C224EF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684360" y="198000"/>
            <a:ext cx="1000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блюдения на свойства и разширяване на методите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 съществуващи обекти. Дефиниране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потребителски методи за вече създадени об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lvl="2" marL="670320" indent="-267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искаме даден обект да укаже самонаблюдение, трябва да използваме служебната думич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tch(“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свойствоЗаНаблюд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, им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Функция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ака във функцията, която трябва да отрази събитието описваме какви промени настъпват при промяната на свойствата. Обикновено тази функция има три параметъра: име на наблюдавано свойство, неговата стара стойност и новата так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ункцията, която ще се извиква от наблюдението винаги трябва да се дефинира преди инициализацията н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tch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не се получат грешки. А и ако не сме го направили, всъщност се ще се опитваме да викаме несъществуваща функ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6FD42-7311-4D8F-888B-A8A3731A6CC7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684360" y="340920"/>
            <a:ext cx="1000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блюдения на свойства и разширяване на методите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 съществуващи обекти. Дефиниране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потребителски методи за вече създадени об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700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lvl="2" marL="609480" indent="-24372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ко искаме вече да не наблюдаваме дадено свойство, трябва да извикаме обратния метод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watch():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имеНаСвойство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watch(“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свойствоЗаНаблюд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”);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одъ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tch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боти за повечето обекти в езика, но не може да действа за предварителни свойства (вградени) като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alpha, _x, _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едно свойство може да задаваме само едно наблюдение, обратното ще предизвика отмяна на първо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лучай, че се опитате да “маскирате” свойство като наблюдавате свойство, което се променя изпълнявайки функция, която променя друго наблюдавано свойство, което в резултат изпълнява друга функция, променяща друго наблюдавано свойство, ще получите неочаквани резулта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ледва пример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62952-218E-4A47-93B3-7D181465570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757440" y="269640"/>
            <a:ext cx="100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блюдения на свойства и разширяване на методите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 съществуващи обекти. Дефиниране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потребителски методи за вече създадени об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1700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lvl="2" marL="609480" indent="-243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градените обекти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притежават редица предварително дефинирани множества от методи, кои-то в редица случаи ни вършат добра работа, но в някои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учай се налага да усъвършенстваме тези мето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ва своебразно разширяване на методите може да стане по два начина, в зависимост от типа на обекта, с който работим. Първият използваме за обекти, за които не можем да създаваме инстанции (ка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use, Ke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др.). В този случай използваме свойството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proto_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 обекти, за които можем да създаваме инстанции, разширяването става чрез допълнителното описание на новите методи, при създаване на инста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ново упражнение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9480" indent="-243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A612-C488-48C6-978C-49D8A5DFE1F7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684360" y="340920"/>
            <a:ext cx="1000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блюдения на свойства и разширяване на методите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 съществуващи обекти. Дефиниране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потребителски методи за вече създадени об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7715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lvl="2" marL="670320" indent="-267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предния слайд накратко казах как да разширим съществуващ метод на клас. В случай, че ни е нужен обаче съвсем нов метод за даден обект, отново имаме два начина да направим това- за вградени и не обекти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 /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За добавяне на метод за вграден обект/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Име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обект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Metod = function()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0320" indent="-267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едващото упражнение ще илюстрираме как точно става това създаване на нови обекти...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C6699-2C16-41E7-97A2-CBBB417F66C4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3682" r="2344" b="0"/>
          <a:stretch/>
        </p:blipFill>
        <p:spPr>
          <a:xfrm>
            <a:off x="34920" y="84240"/>
            <a:ext cx="9001080" cy="665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59F5A-C1B4-4FAB-9EBC-5D98D17FEE87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224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832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4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ъздаване на потребителски обект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щност на механизма на обектите. Сравнение между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здаване на инстанция на обект и класове от обек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ектите като контейнери. Връзка наследник-роди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ефиниране на потребителски клас и създаване на негова инстан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грамиране на обект чрез приспособяване на неговия прототип. Свойства на ниво инстан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здаване на подкласове, потребителски методи за потребителски клас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блюдения на свойства и разширяване на методите на съществуващи обекти. Дефиниране на потребителски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етоди за вече създадени обек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егистриране на клас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422BC-2D64-42C9-BCC9-D0166898574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684360" y="269640"/>
            <a:ext cx="1000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блюдения на свойства и разширяване на методите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 съществуващи обекти. Дефиниране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потребителски методи за вече създадени об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916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обре е при наличието на много потребителски методи, които ще използвате повторно да си създадете собствена библиотека от тях. Това става като напишете желания код в обикновен текстов редактор и след това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пишете получения файл по следния начин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ustomScript.as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ака с това разширение на файл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ще разбере, че той съдържа код на ез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използвате тази своебразна библиотека, просто трябва да я заредите в първия кадър на клипа като я импортирате с команда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#include (“customScript.as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E0F04-CFB2-48B0-A5F8-A5A4BA4385A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Регистриране на клас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133992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lvl="2" marL="578880" indent="-231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зададем дадена инстанция да наследи фун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ционалността на потребителски клас можем да използваме така нареченото регистрирана на клас, което става с метода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.registerClass (“ime_instancia”, Potrebitelski kla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8880" indent="-231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учай, че не искаме повече горната инстанция да наследява функционалността на посочения клас, можем да използваме следния синтаксис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.registerClass (“ime_instancia”,nul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8880" indent="-231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едващото упражнение ще създадем потребителски клас, неговата функционалност, след което ще присъединим символ на потребителски клип о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библиотеката към този клас, като използваме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тод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gisterClass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(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8E7CD-D705-49F8-B7B4-063C0A0E16AD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214128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Динамични данни в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ActionScriptMX</a:t>
            </a:r>
            <a:br>
              <a:rPr sz="3200"/>
            </a:b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 тяхното при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CD890-8305-46E8-8FBD-782772BC64AB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360" y="414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здаване на променливи,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масиви, динамични текстови полета и извличане на информация от 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9875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lvl="2" marL="1173240" indent="-469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кт на тази тема ще бъдат именно динамичните данни, използвани чрез динамични текстови полета и външни файл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3240" indent="-469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едва пример, който ще ни помогне да разберем най-добре горепосочената тема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DB5E8-62BA-4C8F-8FE7-3D564BB31602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Практика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1700280"/>
            <a:ext cx="813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523880" indent="-60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дулът за предварително зареждане – </a:t>
            </a:r>
            <a:r>
              <a:rPr b="0" lang="en-US" sz="2000" spc="-1" strike="noStrike">
                <a:solidFill>
                  <a:srgbClr val="a50021"/>
                </a:solidFill>
                <a:latin typeface="Courier New Cyr"/>
              </a:rPr>
              <a:t>preloader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ажна част, необходима за предварителното зареждане на нужните кад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CE48F-9E66-4B92-95C0-3178EE7D4FA2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07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11000" y="1773360"/>
            <a:ext cx="728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Динамични данни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Script MX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и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тяхното приложение.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здаване на променливи, масиви, динамични текстови полета и извличане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на информация от 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вличане на дан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рактика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848CF-3FB7-4DD7-B27C-A6881984063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zoom dir="ou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9548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здаване на потребителски обек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411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lvl="2" marL="731160" indent="-2923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о сега разгледах само как се използват готови обекти. В тази лекция ще се спрем на създаване на потребителски обекти. Важното тук е да разберем, че класът описва само как е направен и как работи даден обект, тоест се явява своебразен проект на обекта, а инстанциите са това, което създаваме от този обект. Но често инстанциите са познати също като обекти. В повечето случаи инстанциите и обектите са едно и също нещ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160" indent="-2923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неже концепцията за потребителското създаване на обектите е доста абстрактна, то следващите ни упражнения ще бъдат малко по-неграфични от досегашните... Ще разгледаме какво точно става вътр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 изпълнението на даден скрип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B2B02-2A25-4E87-BBEA-E96DD8B2031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794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Създаване на потребителски 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484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lvl="2" marL="533160" indent="-2131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сновните средства, които ни помагат за това са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ункция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команда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 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 -&gt; List 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редата на самото теств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Така ще видим данните, които имаме в нашия филм, но по принцип остават скрити за нас по време на неговото възпроизвеждане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ce(_root._totalfra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ставим ли това действие в кадър първи на клип, примерно съдържащ 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50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адъра, веднага след стартирането на филма ще се отвори прозорецъ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ще визуализира в него 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50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3160" indent="-2131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Горното просто действие може много да ни помогне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изучаването на начина на работа на обект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0EF09-B208-49D1-9FF4-4C1DDF14FBF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60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те като контейнери.</a:t>
            </a:r>
            <a:br>
              <a:rPr sz="3200"/>
            </a:b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Връзка наследник-родите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1413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lvl="2" marL="746640" indent="-2984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ектит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а и контейнери, макар и по-особени. Те не само съхраняват полезни неща като данни (свойства, атрибути) и дори други обекти, но изпълняват и други задачи, свързани с тяхното съдържание. Например обектъ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който използваме за съхранение на низова стойност има методи, които ни позволяват да управляваме и работим с неговото съдържание. Като под съдържание разби-райте съответния низ, който се съхранява. Като това ще го илюстрирам с прим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6640" indent="-2984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едващия пример в обектъ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яма да влагаме конкретно приложение, а ще го разгледаме като универсален обек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6640" indent="-2984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B9F67-74F9-4F49-9AAA-AA3F6C138DC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91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те като контейнери.Връзка</a:t>
            </a:r>
            <a:br>
              <a:rPr sz="3200"/>
            </a:b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наследник-родите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41300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гато поставяме една променлива във времедиаграма, всъщност задаваме ново свойство на инстанция на съответния обек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ieC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 своя страна поставяйки една времедиаграма (респективно инстанция на обек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ieClip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 в друга, както правим за клипчета, то създаваме между двете връзка родител-наслед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 примера, който създадохме в преди малк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1.head.memo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ектът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бек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следник н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mories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d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ответно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одител 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т.н. Важното е да знаем, че това, което се случва с родителя е става и с неговите наследни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едва пример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B0F29-0DCA-47D2-8824-2E997204D8C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216000" y="-10044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	</a:t>
            </a:r>
            <a:br>
              <a:rPr sz="3200"/>
            </a:br>
            <a:br>
              <a:rPr sz="3200"/>
            </a:b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Дефиниране на потребителски клас и</a:t>
            </a: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здаване на негова инстанция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2" marL="655200" indent="-2617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о тук използвахме инстанция на универсалния обек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за да покажем как може да работи един обект (в случая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едващите слайдове ще разгледам как може сами да си създадем потреби-телски клас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. Той ще ни послужи като оригинал за създаването на инстанции на хора. Всъщност ще видим, че тази стратегия е по-добра и ефикасна от предната с дефиниране н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 прието имената на класовете да се пишат с главна буква, а на инстанциите/обекти с малка. Така кодът при по-късно използване е лесен за разбиране и четим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55200" indent="-2617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гато създаваме инстанция на клас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и генерира един временен обект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ivatio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който в началото е праз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08018-C2D5-442F-A264-4EDEB1B8A69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1.02.2004 г.</a:t>
            </a:r>
          </a:p>
        </p:txBody>
      </p:sp>
    </p:spTree>
  </p:cSld>
  <p:transition>
    <p:blinds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8:44:31Z</dcterms:created>
  <dc:creator>May</dc:creator>
  <dc:description/>
  <dc:language>en-US</dc:language>
  <cp:lastModifiedBy>GORO</cp:lastModifiedBy>
  <dcterms:modified xsi:type="dcterms:W3CDTF">2004-10-22T22:30:16Z</dcterms:modified>
  <cp:revision>503</cp:revision>
  <dc:subject/>
  <dc:title>Slide 1</dc:title>
</cp:coreProperties>
</file>