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2145-4721-4A0A-988E-5240DBC1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50DA-BFA1-48A1-8273-1A28E34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3A49-20A1-4C89-8F5C-6C93ED9D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4C24-226E-4E7C-B91C-FB3E64E8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13C5-337B-4664-812C-593CF375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F288-E94A-49AC-AEBF-F7420EF7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9C91-E1A3-4345-AA79-87E1798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AAB0-B8E3-4D03-85F9-6A980B5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7D2D-5803-4BEA-8804-12FF1FCD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4A45-8850-4B4B-93F7-4BB959A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7E7E-26DD-41EF-88B7-3579B1E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60C8-6096-41C4-905A-F8AC8D3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8D70-FF6C-4B29-B52D-9F3E78B0936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.10.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289440" y="-24336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17CC-CC41-4677-843E-F81CEA2FF79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44360" y="-243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this. name = “Mihae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 New 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 Пример.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36C6-2CC6-487D-A7EC-6BD49CC97B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44360" y="-162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41BB-8C6E-4517-B09B-B04416AD620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90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global.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меклас =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unction () { }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право можете да създадете инстанция на клас, където и когато поискате само с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ew Person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ест без да указваме целеви път</a:t>
            </a:r>
            <a:r>
              <a:rPr b="0" lang="bg-BG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ажно е да отбележим, ч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 2.0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дът за дефиниране на клас  се разполага в собствен файл с разширение </a:t>
            </a:r>
            <a:r>
              <a:rPr b="0" lang="en-US" sz="1900" spc="-1" strike="noStrike">
                <a:solidFill>
                  <a:srgbClr val="a50021"/>
                </a:solidFill>
                <a:latin typeface="Courier New Cyr"/>
              </a:rPr>
              <a:t>.as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то всеки клас се разполага в отделен файл, чието име съвпада с това на класа, който описва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пример, ако създадем клас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разположим във файл с име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bg-BG" sz="1900" spc="-1" strike="noStrike">
                <a:solidFill>
                  <a:srgbClr val="a50021"/>
                </a:solidFill>
                <a:latin typeface="Arial"/>
              </a:rPr>
              <a:t>.а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CFFC-A594-4E78-89F3-7FEB8A7AE85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89440" y="33300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всички инстанции на класов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част от характеристиките са универсални, но има и други, които варират, въпросът  е как можем да спестим код като не пишем всеки път общите свой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тава с така нареченият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обект-прототип.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ой съдържа свойства и стойности, които са универсални за класа. Можем да го възприемаме като обект, стоящ точно след дефиницията на класа, специално прикрепен към не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сички класове обекти, включително вградените в езика, имат асоцииран обект-прототип. В него не се съдържат никакви стойности докато не се добави скрипт към тях. Като свойствата на обекта-прототип се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наследяват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от всички свойства по-нататъ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090C-095F-4183-BC60-CEDAC3E34CF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600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исо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инаги проверява при търсене на стойност за дадена променлива първо на ниво инстанция! Ако открие, присъединява нея, ако не търси в обекта-прототип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обекта-прототип можете да правите усъвършенствания по всички инстанции, което в много случаи е полезно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обавянето, изтриването или обновяването на свойства в обекта-прототип на клас предизвиква незабавно отразява-не  на промените във всички инстанции на класа. Има само едно изключение, което ще разгледаме след малко;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войството на ниво инстанция е свойство, зададено в дефиницията на класа или при създаването на инстан-цията, или е стойност, зададена чрез директно адреси-ране на инстанция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C567-540C-4D76-8F61-C7ED05A2AC3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age = 16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legs = 2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name = "Justin"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 = new Object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eyes = 2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memories = new Array(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ажно се отбележи, че свойството на ниво инстанция има предимство пред това на ниво протот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изтрием свойство на ниво инстанция с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мство на свойства ниво инстанция е, че можем да зададем допълнителни характеристики, освен тези в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цията на класа и прототип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47AD-A861-4BD2-AFFB-6A38A1B6994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4436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2" marL="1264680" indent="-5058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добавим свойство към дефиницията на класа, то ще е валидно само за новосъздадените инстанции, тъй като функцията конструктор присъединява характер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ки само в момента на тяхното създа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BEBE-5543-470B-A2D8-DDD4BFA09E2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77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класовете са класове, притежаващи общите характеристиките на класа, но всеки от тях си има и уникални свойства. Например подклас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може да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t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укажем, че един клас е подклас на друг кат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PodKlas.prototype = new ImeSuperKlas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ият ред всъщност създава връзка между суперкласа и подкласа от типа родител-наследник. Така всички свойства на родителя, ще се отразяват на нас-ледника, но обратното не е в с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ки обект-прототип на клас и всяка инстанция на клас, съществув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6E07-1A8E-439C-88C4-DF7B4F944A8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ата стойност помага на интерпретатора да определи къде да търси, ако не може да открие дадено свойство за обекта. Обикновено в такъв случай се обръща към обекта-прототип на друг клас, евентуалния роди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при създаването на и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нция на подклас, но може да го променим винаги, когато ни е н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 укажем обект-прототип на един клас да наследи прототип на клас, различен от стандартния, например къ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о можем да з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._proto_ = NewClass.prototype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га ще се счи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инстанция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наследи характеристиките на прототипа на този клас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D6E3-35C6-4B8C-AD40-4F7DBCBF401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. </a:t>
            </a:r>
            <a:br>
              <a:rPr sz="2900"/>
            </a:b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 и тяхното приложение.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Практика 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97000"/>
            <a:ext cx="340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BA13-8CA8-44C1-8BE3-8DA3A003F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600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войства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ървоначалния клас, ще бъдат изтр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две понятия, които ни помагат да разберем концепцията за наследяването. Това са релационните връзки от тип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и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ct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ице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лационните връзки от тип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подходящи за обекти-подкласове, а тези от тип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и показват какви са 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тните свойства на класове от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910D-E173-4C31-98D2-3522E63F7A6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, които създадохме дотук, съдържат само стойности на свойства, но не притежават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и характеристики. Като например инстанциите на филмови клипове, за които имаме методи 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stop(), getURL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упражнения ще добавим методи към потребителските ни класове, което ще ни даде търсената полезна функционал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методите на класовете представляват специфично дефинирани за конкретния случай функции, зададени чрез поставянето им в обектите-прототипи на тези клас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оналните характеристики на класовете могат да се зададат по два на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92B6-7F5E-49B2-A345-8C343DD0EE4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44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ървият начин е, чрез директно описание в клас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ime_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втория първо описваме функцията извън класа и после я задаваме като метод в нег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metod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metod = ime_met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потребителския метод може да го използваме за всяка бъдеща инстанция на този клас като н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instancia.ime_meto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53E1-54BA-43D1-A31D-C8817CA876C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916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 на един клас може да се използва за деф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на други мето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требителските методи могат да съдържат действия, методи, въобще всичко, което предлаг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интерактивни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на суперклас са достъпни в неговите наследници и те могат да ги използват. В случай, че искаме да дефинираме метод, който да е достъпен само за конкретен клас, просто го слагаме в съответния обект-прототип за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A01A-37F7-4599-89C0-B59ECC8DBD8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684360" y="259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редишните лекции научихме, че зададените свойства за различните обекти могат да се променят. При това промяната на свойство на един обект, обикновено води до изменения и в другите околни не него или свързани по някакъв начин с него обекти. Обикновено, за да наблюдавате свой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пециален метод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()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ото действие е следното: при настъпване на промяна, можем да извикаме дадена функция по начин позво-ляващ проекта ни да реагира на промянат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функцията, която искаме д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извикаме при промяна на някое 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2D08-90A3-425D-A0C9-978280FAAA0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684360" y="19800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ден обект да укаже самонаблюдение, трябва да използваме служебната думи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във функцията, която трябва да отрази събитието описваме какви промени настъпват при промяната на свойствата. Обикновено тази функция има три параметъра: име на наблюдавано свойство, неговата стара стойност и новата так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, която ще се извиква от наблюдението винаги трябва да се дефинира преди инициализация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не се получат грешки. А и ако не сме го направили, всъщност се ще се опитваме да викаме несъществуващ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DB57-FB0E-4215-96E7-DEE76C72F1A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искаме вече да не наблюдаваме дадено свойство, трябва да извикаме обратния метод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НаСвойство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);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дъ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и за повечето обекти в езика, но не може да действа за предварителни свойства (вградени) като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alpha, _x, _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дно свойство може да задаваме само едно наблюдение, обратното ще предизвика отмяна на първо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, че се опитате да “маскирате” свойство като наблюдавате свойство, което се променя изпълнявайки функция, която променя друго наблюдавано свойство, което в резултат изпълнява друга функция, променяща друго наблюдавано свойство, ще получите неочаквани резул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2C9A-5C91-4FB2-BE2F-229EC85D5BA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757440" y="269640"/>
            <a:ext cx="100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градените обект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тежават редица предварително дефинирани множества от методи, кои-то в редица случаи ни вършат добра работа, но в някои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чай се налага да усъвършенстваме тези мето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своебразно разширяване на методите може да стане по два начина, в зависимост от типа на обекта, с който работим. Първият използваме за обекти, за които не можем да създаваме инстанции (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,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). В този случай използваме свойствот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_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бекти, за които можем да създаваме инстанции, разширяването става чрез допълнителното описание на новите методи, при създаване на ин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ново упражнение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0FF0-A832-449D-A2C1-BA812D484A0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редния слайд накратко казах как да разширим съществуващ метод на клас. В случай, че ни е нужен обаче съвсем нов метод за даден обект, отново имаме два начина да направим това- за вградени и не обект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 /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 добавяне на метод за вграден обект/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илюстрираме как точно става това създаване на нови обекти..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270B-1C41-4765-A491-B0C4CDBDB67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3682" r="2344" b="0"/>
          <a:stretch/>
        </p:blipFill>
        <p:spPr>
          <a:xfrm>
            <a:off x="34920" y="84240"/>
            <a:ext cx="9001080" cy="665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BB2E-24F9-4D7A-B568-E80F6342823B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24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3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ъздаване на потребителски обек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щност на механизма на обектите. Сравнение между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инстанция на обект и класове от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ектите като контейнери. Връзка наследник-роди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ране на потребителски клас и създаване на негова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грамиране на обект чрез приспособяване на неговия прототип. Свойства на ниво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подкласове, потребителски методи за потребителски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блюдения на свойства и разширяване на методите на съществуващи обекти. Дефиниране на потребителски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и за вече създадени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гистриране на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690B-FFD4-4C8B-8EEF-65FEF7D02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84360" y="26964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бре е при наличието на много потребителски методи, които ще използвате повторно да си създадете собствена библиотека от тях. Това става като напишете желания код в обикновен текстов редактор и след тов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получения файл по след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stomScript.a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с това разширение на файл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ще разбере, че той съдържа код на е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олзвате тази своебразна библиотека, просто трябва да я заредите в първия кадър на клипа като я импортирате с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#include (“customScript.a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6495-FC25-4DA9-A9A6-854BF83AF05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Регистриране на клас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339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дадем дадена инстанция да наследи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остта на потребителски клас можем да използваме така нареченото регистрирана на клас, което става с мето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 Potrebitelski kl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й, че не искаме повече горната инстанция да наследява функционалността на посочения клас, можем да използваме следния синтаксис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създадем потребителски клас, неговата функционалност, след което ще присъединим символ на потребителски клип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иблиотеката към този клас, като използвам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4990-DFA1-4C2E-8453-83E6DD607BE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1412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ctionScriptMX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тяхното 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4ADE-3D4C-4752-86E1-FCD3545CBC10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414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роменливи,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масиви, динамични текстови полета и извличане на информация от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87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1173240" indent="-469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кт на тази тема ще бъдат именно динамичните данни, използвани чрез динамични текстови полета и външни фай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469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ва пример, който ще ни помогне да разберем най-добре горепосочената тем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47D7-9BA8-4B0C-B3AB-D61CF603EA2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Практика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70028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дулът за предварително зареждане – </a:t>
            </a:r>
            <a:r>
              <a:rPr b="0" lang="en-US" sz="2000" spc="-1" strike="noStrike">
                <a:solidFill>
                  <a:srgbClr val="a50021"/>
                </a:solidFill>
                <a:latin typeface="Courier New Cyr"/>
              </a:rPr>
              <a:t>preloader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жна част, необходима за предварителното зареждане на нужните кад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18CD-0D80-4313-BA71-7E0284308AA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1000" y="1773360"/>
            <a:ext cx="728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инамични данн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MX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тяхното приложение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променливи, масиви, динамични текстови полета и извличан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информация от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влич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3CE5-2737-4146-A6E1-EECE7F4E6B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сега разгледах само как се използват готови обекти. В тази лекция ще се спрем на създаване на потребителски обекти. Важното тук е да разберем, че класът описва само как е направен и как работи даден обект, тоест се явява своебразен проект на обекта, а инстанциите са това, което създаваме от този обект. Но често инстанциите са познати също като обекти. В повечето случаи инстанциите и обектите са едно и също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неже концепцията за потребителското създаване на обектите е доста абстрактна, то следващите ни упражнения ще бъдат малко по-неграфични от досегашните... Ще разгледаме какво точно става вътр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изпълнението на дад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A4B3-7205-4356-B817-DF11CF5CCBF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9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сновните средства, които ни помагат за това с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-&gt; 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редата на самото тест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ака ще видим данните, които имаме в нашия филм, но по принцип остават скрити за нас по време на неговото възпроизвеждане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ce(_root._total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тавим ли това действие в кадър първи на клип, примерно съдържащ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, веднага след стартирането на филма ще се отвори прозорец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визуализира в него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ото просто действие може много да ни помогн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изучаването на начина на работа на обек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3CD2-0FFE-4ACB-B018-257545FA921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Връзка 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2" marL="746640" indent="-298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и контейнери, макар и по-особени. Те не само съхраняват полезни неща като данни (свойства, атрибути) и дори други обекти, но изпълняват и други задачи, свързани с тяхното съдържание. Например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използваме за съхранение на низова стойност има методи, които ни позволяват да управляваме и работим с неговото съдържание. Като под съдържание разби-райте съответния низ, който се съхранява. Като това ще го илюстрирам с при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я пример в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яма да влагаме конкретно приложение, а ще го разгледаме като универсален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B3A0-9F83-4033-8474-0FE9047BDCA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Връзк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4130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поставяме една променлива във времедиаграма, всъщност задаваме ново свойство на инстанция на съответния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воя страна поставяйки една времедиаграма (респективн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в друга, както правим за клипчета, то създаваме между двете връзка родител-насл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 примера, който създадохме в преди мал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.head.mem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ледник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ories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ответн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одител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.н. Важното е да знаем, че това, което се случва с родителя е става и с неговите наследн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9DEC-EE51-4FE7-BE26-08E63FDF3CE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16000" y="-1004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тук използвахме инстанция на универсалния обек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покажем как може да работи един обект (в случая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 как може сами да си създадем потреби-телски клас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 Той ще ни послужи като оригинал за създаването на инстанции на хора. Всъщност ще видим, че тази стратегия е по-добра и ефикасна от предната с дефинир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прието имената на класовете да се пишат с главна буква, а на инстанциите/обекти с малка. Така кодът при по-късно използване е лесен за разбиране и четим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създаваме инстанция на клас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 генерира един временен обект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в началото е праз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9B5A-AE45-4F0A-A49D-BD282D5F2F2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0-22T22:30:16Z</dcterms:modified>
  <cp:revision>503</cp:revision>
  <dc:subject/>
  <dc:title>Slide 1</dc:title>
</cp:coreProperties>
</file>