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1240B-1EF5-42B6-A654-8BAACCCC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9B04D-843A-4463-91EC-8B3F343E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A23C3-709C-43C1-A765-224B438D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BF95C-7415-44D8-A583-E64F6D95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0B8A2-3CFE-437A-8114-7CFCC8A2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E4639-1D72-4865-B04C-4F8F87A7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88B16-9A92-4B63-8823-92B2AA5E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CD97B-D3C9-44F0-86AF-180E2D1D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9CB74-A00D-4F11-8413-3618247A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5D0BE-2C01-451D-BEF6-B1FBAE96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C6679-57E9-4001-B35E-7BF6F190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D9314-0F99-4595-BA57-CC73A6D0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01920" y="6121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A619-8E38-4019-9F60-FB7E2D7D5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6.11.2004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0920" y="556920"/>
            <a:ext cx="84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17715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lvl="2" marL="548280" indent="-219240">
              <a:spcBef>
                <a:spcPts val="550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XM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ози популярен стандарт за формати-ране позволява данните да бъдат съхранява-ни в логическа</a:t>
            </a:r>
            <a:r>
              <a:rPr b="0" i="1" lang="bg-BG" sz="2400" spc="-1" strike="noStrike">
                <a:solidFill>
                  <a:srgbClr val="000000"/>
                </a:solidFill>
                <a:latin typeface="Arial"/>
              </a:rPr>
              <a:t> структура.</a:t>
            </a:r>
            <a:br>
              <a:rPr sz="24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текстовият низ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ani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ana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e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Bulgaria &lt;/Im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Stolica&gt; Sofia &lt;/Stolica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Strana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Strani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800"/>
            </a:b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След като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документът се зареди във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lash,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за извличане на информация от него се използва скрипт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 (който обаче трябва вие да напишете;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D9007-4B60-4833-A12E-71E0DF58E8C5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1066680" indent="-426600"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Arial"/>
              </a:rPr>
              <a:t>Ако искаме да интерпретираме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bg-BG" sz="2300" spc="-1" strike="noStrike">
                <a:solidFill>
                  <a:srgbClr val="000000"/>
                </a:solidFill>
                <a:latin typeface="Arial"/>
              </a:rPr>
              <a:t>в текстово поле,  е нужно да използваме свойството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htmlText, a </a:t>
            </a:r>
            <a:r>
              <a:rPr b="0" lang="bg-BG" sz="2300" spc="-1" strike="noStrike">
                <a:solidFill>
                  <a:srgbClr val="000000"/>
                </a:solidFill>
                <a:latin typeface="Arial"/>
              </a:rPr>
              <a:t>не познатото ни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.text. K</a:t>
            </a:r>
            <a:r>
              <a:rPr b="0" lang="bg-BG" sz="2300" spc="-1" strike="noStrike">
                <a:solidFill>
                  <a:srgbClr val="000000"/>
                </a:solidFill>
                <a:latin typeface="Arial"/>
              </a:rPr>
              <a:t>ато преди това, разбира се трябва да натиснете бутона “</a:t>
            </a:r>
            <a:r>
              <a:rPr b="0" lang="en-US" sz="2300" spc="-1" strike="noStrike">
                <a:solidFill>
                  <a:srgbClr val="000000"/>
                </a:solidFill>
                <a:latin typeface="CourierCyr"/>
              </a:rPr>
              <a:t>Render text as HTML</a:t>
            </a:r>
            <a:r>
              <a:rPr b="0" lang="bg-BG" sz="2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3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perti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7089B-2D90-4348-9F49-326DA5BC555A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1120" y="340920"/>
            <a:ext cx="91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Динамично форматиране на текст с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HTML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920" y="13399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lvl="2" marL="472320" indent="-188640">
              <a:spcBef>
                <a:spcPts val="451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инамичните полета и полетата за въвеждане на текст въ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могат да бъдат задавани да интерпретира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д, както споменах по-рано. Което означава, че можете да визуализирате текс, съдържащ хипервръзки и различни цветове и стилове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 да интерпретира следни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агове:</a:t>
            </a:r>
            <a:br>
              <a:rPr sz="2000"/>
            </a:br>
            <a:r>
              <a:rPr b="0" lang="bg-BG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а&gt; // за котва, хипервръзка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/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удебелен текст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/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ов ред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 color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/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цвят на тек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 face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/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тил на шрифта на текс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 size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gt; // големина на текст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&gt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// наклонен текс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p&gt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// нов параграф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u&gt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// подчертан 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2320" indent="-18864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2320" indent="-18864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9AD67-C1DB-4EB1-AA48-6A976927EF8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912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14112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lvl="2" marL="716040" indent="-28620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Поделени обекти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 последната част на тази лекция ще ги разгледаме по-подробно. А за сега просто ще приемем тези поделени обекти кат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"бисквитки“. Т.е. те ви позволяват да съхранявате обекти (данни) локално, на хард диска на потребителя. Това означава, че след като потребителят разгледа и напусне филма 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(като прожекция или он-лайн), данните, създадени но време на възпроизвеждането на филма (име на потребител, последна посетена секция и т.н.) се записват.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ова означава, че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ези данни могат да бъдат извличани следващия път, когато потребителят възпроизведе филма на същия компютър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F2CCE-A8DA-45A8-98B7-A9BD9B85F39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34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6272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lvl="2" marL="685440" indent="-273960">
              <a:spcBef>
                <a:spcPts val="601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 помощта на поделени обекти можете да съхра-нявате не само променливи и техните стойности, но и всеки вид обекти на данни - масиви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бекти, до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ри потребителски обекти. Можете да направите този процес на запис прозрачен за потребителите или да им предоставите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бутони, за да инициират действие. 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На един компютър можете да имате множес-тво файлове с поделени обекти на данни, защото всеки филм обикновено (</a:t>
            </a:r>
            <a:r>
              <a:rPr b="0" i="1" lang="bg-BG" sz="2400" spc="-1" strike="noStrike">
                <a:solidFill>
                  <a:srgbClr val="000000"/>
                </a:solidFill>
                <a:latin typeface="Arial"/>
              </a:rPr>
              <a:t>почти винаги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) създава свой собствен файл с дан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4A6E8-DD5E-4CAC-96ED-E9CEAAF5DC6D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55692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916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lvl="2" marL="776880" indent="-310680">
              <a:spcBef>
                <a:spcPts val="799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ъответно източниците, от коит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оже д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зарежда данни са: </a:t>
            </a:r>
            <a:br>
              <a:rPr sz="2200"/>
            </a:b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Текстови файлове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може да зарежда текстови файлов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.t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, съдържащи данни, форматирани с помощта на форма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низ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поменат по-горе. Текстовите файлове могат да бъдат зареждани с помощта на метода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Variables</a:t>
            </a:r>
            <a:r>
              <a:rPr b="0" lang="bg-BG" sz="2400" spc="-1" strike="noStrike">
                <a:solidFill>
                  <a:srgbClr val="000000"/>
                </a:solidFill>
                <a:latin typeface="Courier New"/>
              </a:rPr>
              <a:t>()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bg-BG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0" lang="bg-BG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на обекта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D887B-2524-41E0-9BA3-8C550A0618C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2760" y="48528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15559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lvl="2" marL="670320" indent="-2678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Скриптове на страната на сървъра (сървърни скриптове).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Това са скриптове, поставени 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P, CFM, CGI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P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траници, които се изпълняват от сървър. Макар и невидимо за потребителя, скриптовата страница реално генерира формати-рани данн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HTML, XM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 т.н.), които се изпращат обратно на източника, отправил заявка за тях. Представете с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апример, че посещавате страница, наречена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s.as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оято съдържа скрипт на страната на сървъра и вероятно никакво реално съдържание: 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криптът - който се изпълня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огат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отреб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елят посети страницата се използва, за да ге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рира динамично страница във форма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M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09006-D1AA-4502-8300-7B197BFD780B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912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916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lvl="2" marL="883800" indent="-35316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зи страница обикновено съдържа последните новини (вероятно извлечени от база данни) и се изпраща (от скрипта към браузъра на потре-бителя. Скриптовете на страната на сървъра могат да връщат данни както във форма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ML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ака и във форма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из - което означава, че посредством комуникация със страница, която съдържа скрипт на страната на сървъра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оже да зарежда динамични данни, създавани по време на самото изпълн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7B76B-46F8-4FC3-9AA4-EE817E460742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7948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18432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2" marL="822600" indent="-329040">
              <a:spcBef>
                <a:spcPts val="601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XML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файлове.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файлът е просто текстов файл, който обаче съдържа съдърж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форматирани данни; такива файлове обикновено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имат разшир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22600" indent="-3290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XML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сокет.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Сокет сървърите представляват приложения, които се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зпълняват на сървър и свързват няколко едновременно работещи потребителя един с друг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оже да изпраща или приема информация, посредством сокета като използва форма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2F548-87D5-4C3E-8DC8-97AC69EC04B0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2760" y="63000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1916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lvl="2" marL="1218960" indent="-4874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a50021"/>
                </a:solidFill>
                <a:latin typeface="Arial"/>
              </a:rPr>
              <a:t>Поделени обекти.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Както беше отбелязано по-горе, поделените обекти се използват за създаване на файл с данни, който съхранява информация на твърдия диск на потребителя - който след това можете да извличате и да вграждате обратно във филма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3E9B7-8E28-49A1-AB85-6A3238BA2F15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1854000"/>
            <a:ext cx="7869240" cy="27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Въвеждане и извеждане на данни от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Flash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. Използване на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XML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Flash</a:t>
            </a:r>
            <a:r>
              <a:rPr b="1" lang="ru-RU" sz="3000" spc="-1" strike="noStrike">
                <a:solidFill>
                  <a:srgbClr val="a50021"/>
                </a:solidFill>
                <a:latin typeface="Arial"/>
              </a:rPr>
              <a:t>.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Практика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50760" y="1206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700" spc="-1" strike="noStrike">
                <a:solidFill>
                  <a:srgbClr val="808080"/>
                </a:solidFill>
                <a:latin typeface="Arial"/>
              </a:rPr>
              <a:t>ЛЕКЦИЯ № </a:t>
            </a:r>
            <a:r>
              <a:rPr b="1" lang="en-US" sz="37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EA69E-B7A2-4269-ACF7-1943E2B304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340920"/>
            <a:ext cx="884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равнение между методите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GET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POST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lvl="2" marL="670320" indent="-267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гато работите със скриптове на страната на сървъра, (както бе отбелязано по-горе), има два начина (метода) за трансфер на данни между сървъра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GE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ези два метода за изпращане на промен-ливи и асоциираните с тях стойности се използват в обикновени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раници и въ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инаги когато данни, въведени във формуляр, се изпращат към сървър, за да бъдат обработ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гато изпращате променливи с помощта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осто сливате двойки "име на променлива/стойност" в сам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пример, ако искате да използва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изпратите име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дрес към скрипт, разположен на страницата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register</a:t>
            </a:r>
            <a:r>
              <a:rPr b="0" lang="ru-RU" sz="2000" spc="-1" strike="noStrike">
                <a:solidFill>
                  <a:srgbClr val="000000"/>
                </a:solidFill>
                <a:latin typeface="CourierCyr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a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g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рябва да зададе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о след­ния начин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domai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C1856-C461-48CE-93E2-93DDC09038B9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2" marL="639720" indent="-25596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Въпросителният знак, поставен пред променливите, указва на скрипта и на сървъра, че всичко, к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, следва след знака, съдържа променливи. Въпреки че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T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е по-лесен за използване от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той не рабо-ти при всички случаи, защото има ограничение от 1024 знака, а и по-малка сигурност на предаваните данн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55960"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се използва по следния начин: когато промен-ливите данни се</a:t>
            </a:r>
            <a:r>
              <a:rPr b="0" i="1" lang="bg-BG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зпращат с него, тези данни се съдържат в хедъра н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запитването, което означава, че не можете да ги видите по време на трансфера. Тъй като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ST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няма ограничение на броя на знаковете, той осигурява малко по-гъвкав начин за изпращане па променливи данн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557280"/>
            <a:ext cx="8840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равнение между методите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GET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POST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1BB80-082B-4590-B135-1129A03F4EB3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Използване на обекта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LoadVars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lvl="2" marL="716040" indent="-28620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Ще използваме обек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Var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огато работим с данни във форма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из. Този обект ни позволява да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зареждаме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оменливи данни от текстов файл или да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изпращаме и зареждаме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оменливи данни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към и от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крипт на страната на сървъ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16040" indent="-28620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ажно е да запомните, че: </a:t>
            </a:r>
            <a:r>
              <a:rPr b="0" i="1" lang="bg-BG" sz="2200" spc="-1" strike="noStrike">
                <a:solidFill>
                  <a:srgbClr val="a50021"/>
                </a:solidFill>
                <a:latin typeface="Arial"/>
              </a:rPr>
              <a:t>променливите данни, съдържащи се в текстовия файл могат да бъдат заредени във </a:t>
            </a:r>
            <a:r>
              <a:rPr b="0" i="1" lang="en-US" sz="2200" spc="-1" strike="noStrike">
                <a:solidFill>
                  <a:srgbClr val="a50021"/>
                </a:solidFill>
                <a:latin typeface="Arial"/>
              </a:rPr>
              <a:t>Flash</a:t>
            </a:r>
            <a:r>
              <a:rPr b="0" i="1" lang="ru-RU" sz="2200" spc="-1" strike="noStrike">
                <a:solidFill>
                  <a:srgbClr val="a50021"/>
                </a:solidFill>
                <a:latin typeface="Arial"/>
              </a:rPr>
              <a:t>, </a:t>
            </a:r>
            <a:r>
              <a:rPr b="0" i="1" lang="bg-BG" sz="2200" spc="-1" strike="noStrike">
                <a:solidFill>
                  <a:srgbClr val="a50021"/>
                </a:solidFill>
                <a:latin typeface="Arial"/>
              </a:rPr>
              <a:t>но </a:t>
            </a:r>
            <a:r>
              <a:rPr b="0" i="1" lang="en-US" sz="2200" spc="-1" strike="noStrike">
                <a:solidFill>
                  <a:srgbClr val="a50021"/>
                </a:solidFill>
                <a:latin typeface="Arial"/>
              </a:rPr>
              <a:t>Flash </a:t>
            </a:r>
            <a:r>
              <a:rPr b="0" i="1" lang="bg-BG" sz="2200" spc="-1" strike="noStrike">
                <a:solidFill>
                  <a:srgbClr val="a50021"/>
                </a:solidFill>
                <a:latin typeface="Arial"/>
              </a:rPr>
              <a:t>не може директно да записва данни в текстов файл; трябва да използвате скрипт на страната на сървъра, за да направите то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900F6-AA0D-46AC-9055-A170685DB992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224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обек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LoadVars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6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0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lvl="2" marL="594000" indent="-23760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Ще използвате обек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Var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огато работите с данни във форма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из. Този обект ви позволява да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зареждате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оменливи данни от текстов файл или да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изпращате и зареждате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оменливи данни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към и от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крипт на страната на сървъ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94000" indent="-23760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ъздаването на обект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Vars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ъ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е просто: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onteiner = new LoadVars();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ака създавате нов обект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 с име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onteiner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. За да заредите променливи о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 обект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, трябва да използвате метода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ad();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ECF99-EBB5-43E5-8903-7FA40CF5588D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обек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LoadVars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6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1125360"/>
            <a:ext cx="842472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lvl="2" marL="594000" indent="-23760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получите по всяко време общия брой байтове, заредени до момента, или общия брой байтове, които ще бъдат заредени, може да използвате методите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BytesLoaded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BytesTotal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на обект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4000" indent="-237600">
              <a:spcBef>
                <a:spcPts val="451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гато данните се заредени в обек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те да осъществявате достъп до тях като се обърнете към името на конкретния обек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ъдържащ данните, които искате, следван от името на променливата на тази част от даннит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пример, ако искаме да заредим долния низ в обект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 име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iDan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 = teach&amp;subject = 2&amp;matematika = Lisabon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ойностите на тези променливи могат да се запишат:</a:t>
            </a:r>
            <a:br>
              <a:rPr sz="20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iDanni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 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iDanni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ject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E5D45-D753-4934-A486-E571C72B60AB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обек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LoadVars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6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lvl="2" marL="807480" indent="-32292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ези променливи стойности в обек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Vars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могат да бъдат задавани не само чрез за-реждане на външни данни, а също чрез вът-решно задаване на техните стойности (с по-мощта на скрипт вътре във филма. Като, </a:t>
            </a:r>
            <a:r>
              <a:rPr b="0" i="1" lang="bg-BG" sz="2400" spc="-1" strike="noStrike">
                <a:solidFill>
                  <a:srgbClr val="000000"/>
                </a:solidFill>
                <a:latin typeface="Arial"/>
              </a:rPr>
              <a:t>когато зареждате променливи в обекта 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LoadVars, Flash </a:t>
            </a:r>
            <a:r>
              <a:rPr b="0" i="1" lang="bg-BG" sz="2400" spc="-1" strike="noStrike">
                <a:solidFill>
                  <a:srgbClr val="a50021"/>
                </a:solidFill>
                <a:latin typeface="Arial"/>
              </a:rPr>
              <a:t>ще замени стойностите на променливите, които вече съществуват в обекта и ще добави нови стойности на променливи, които още не съществув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E73A9-C9DE-437B-A48A-BF2523BF6F56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076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обек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LoadVars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6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15559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lvl="2" marL="838080" indent="-335160">
              <a:spcBef>
                <a:spcPts val="499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Ако искате да изпратите променливите на обекта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ъм скрипт на страната на сървъра за обработка, трябва да използвате метода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nd</a:t>
            </a:r>
            <a:r>
              <a:rPr b="0" lang="bg-BG" sz="2200" spc="-1" strike="noStrike">
                <a:solidFill>
                  <a:srgbClr val="000000"/>
                </a:solidFill>
                <a:latin typeface="Courier New"/>
              </a:rPr>
              <a:t>().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Синтаксисът е следният: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e_obekt_LoadVars.send (“URL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на скрипт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”)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33516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огато използвате този метод, отговорът не се изпраща обратно 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, което означава, че можете да го използвате само за изпращане на променливи данни на сървъра за обработ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33516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FBD95-495B-488E-8BE0-DD4223D2ABD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224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обек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LoadVars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6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lvl="2" marL="548280" indent="-2192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етодът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ndAndLoad</a:t>
            </a:r>
            <a:r>
              <a:rPr b="0" lang="bg-BG" sz="22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ви дава възможност да зададете обект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ъдържанието на който искате да изпратите и обек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Var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 който ис-кате да заредите отговора: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e_obekt_LoadVars.send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dL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“URL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 на скрип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,получаващия обект);</a:t>
            </a:r>
            <a:r>
              <a:rPr b="0" lang="bg-BG" sz="22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ак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 горния метод си решавате проблема с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братно изпращане на данните къ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48280" indent="-2192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 помощта на метода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bg-BG" sz="22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на обекта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ожете да създадет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форматиран низ, който представя двойкит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оменлива/сто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ост", съдържащи се в обе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48280" indent="-21924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48280" indent="-2192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29AFC-837D-48E9-95A2-541235CFF646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548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обек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LoadVars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6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lvl="2" marL="731160" indent="-2923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бектъ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а две свойства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tent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ed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 Свойството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tentType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(което можете да променяте преди да изпращате променливи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просто ви дава мним тип, зададен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хедъра на заредения документ. Свойството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осто връщ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зареждането на данните в обекта е завършило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не 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define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методъ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още не е извик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160" indent="-2923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обект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 достъпно само едно събитие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nLoa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те да използвате това събитие, за да извикате функция когато завърши зареждането на данни в обекта. Всеки път, когато данните се зареждат в обекта, това събитие настъпва отн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E6368-5070-4DE5-A89C-3B3E75ADA9FF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224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обект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LoadVars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6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15559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lvl="2" marL="959760" indent="-38376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заредите променливи от конкрете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обек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след това да го накарате да извика функция, когато зареждането завърши, вие трябва да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Дефинирате функци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Създадете нов обек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Var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помощта на конструктора на нови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обек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Va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Зададете функцията, която трябва да бъде извикан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 когато завърши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зареждане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9760" indent="-38376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A72ED-62AB-4ECE-B910-811F72031BB7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СЪДЪРЖ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04840" y="1855800"/>
            <a:ext cx="7788240" cy="25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682560" indent="-68256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Въвеждане и извеждане на данни от и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въ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lash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9800" indent="-51192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ъщност на източниците на данни и 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форматиране на дан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9800" indent="-51192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равнение между методи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9800" indent="-51192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ползване на обек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Vars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9800" indent="-51192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ползване на поделени обек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F5481-CCE8-4B3D-AEE8-B5D63A1A963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07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Използване на поделени обек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lvl="2" marL="807480" indent="-322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F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айлът може да съхранява данни (променливи, както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бекти и други обекти на данни) на твърдия диск на потребителя, използвайки поделени обекти - подобни, но много по-мощни от бисквитки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okies)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ито се използват от браузърите: Можете да ги използвате, за да съхранявате информация, генери-рана от потребителя докато разглежда вашия филм (име, последен посетен кадър, предпочитание за музика и др.). Поделените обекти могат да бъдат използвани от филми, възпроизвеждани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браузър, както и от филми, записани като самостоятелни прожекц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project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07EDE-1EE7-4A17-BB90-0389DF00A59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7948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Използване на поделени обек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341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lvl="2" marL="655200" indent="-261720">
              <a:spcBef>
                <a:spcPts val="451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ен скрипт, който можете да използвате, за да създадете поделен обект: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Objec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aredObject.getLocal("stuff_I_saved")</a:t>
            </a:r>
            <a:r>
              <a:rPr b="1" lang="bg-BG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 Тук ако,  по начина, по който е използван по-горе, методъ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Local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) или ще създаде поделен обект, (ако такъв не съществува), или ще извлече данни от съществуващ поделен об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Горе името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поделения обект реално е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stuflLI_jsaved"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ожете да правите обръщение към поделения обект директно по неговото име;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това обръщението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ъм поделения обект се създава с помощта на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Object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ова означава, че винаги когато се обръщате към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Object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крипт, реално се обръщате към поделения обект с име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stuff_I_saved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— сложна, но важна концепция, за да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зберете как рабо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cript c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делени обек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2D6B2-F216-4A42-B267-5FACB9BC6019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794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Използване на поделени обек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8000" y="14112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2" marL="624600" indent="-2498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анните се записват в поделен обект с помощта на свойството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Object.data.userName </a:t>
            </a:r>
            <a:r>
              <a:rPr b="0" lang="bg-BG" sz="22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sername.tex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4600" indent="-249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ова ще запише променливата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ser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(и нейната стойност- текста в текстовото поле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ser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поделения обект. Можете да записвате също и цял  обек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4600" indent="-249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дин поделен обект може да съдържа много части от данни едновременно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Object.data.savedArray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OfArrayObject; 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Object.data.savedXML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OfXMLObjec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4600" indent="-249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4600" indent="-24984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E0865-B852-4A21-B871-99912A2883EE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224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Използване на поделени обек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2" marL="624600" indent="-2498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онкретна част от данни може да бъде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зтрита от поделен обект с помощта на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bg-BG" sz="2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4600" indent="-2498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огат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F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есията завърши (т.е. при затваряне или напускане на филма), цялата информация на свойството </a:t>
            </a:r>
            <a:r>
              <a:rPr b="0" lang="en-US" sz="2200" spc="-1" strike="noStrike">
                <a:solidFill>
                  <a:srgbClr val="000000"/>
                </a:solidFill>
                <a:latin typeface="CourierCyr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а поделен обект се записва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автоматично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 поделения обектен файл, готова да бъде извлечена с помощта на метода </a:t>
            </a:r>
            <a:r>
              <a:rPr b="0" lang="en-US" sz="2200" spc="-1" strike="noStrike">
                <a:solidFill>
                  <a:srgbClr val="000000"/>
                </a:solidFill>
                <a:latin typeface="CourierCyr"/>
              </a:rPr>
              <a:t>getLocal</a:t>
            </a:r>
            <a:r>
              <a:rPr b="0" lang="bg-BG" sz="2200" spc="-1" strike="noStrike">
                <a:solidFill>
                  <a:srgbClr val="000000"/>
                </a:solidFill>
                <a:latin typeface="CourierCyr"/>
              </a:rPr>
              <a:t>(),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описан по-горе. Можете да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задължите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оделен обект да бъде написан и съхранен по всяко време като използвате метода </a:t>
            </a:r>
            <a:r>
              <a:rPr b="0" lang="en-US" sz="2200" spc="-1" strike="noStrike">
                <a:solidFill>
                  <a:srgbClr val="000000"/>
                </a:solidFill>
                <a:latin typeface="CourierCyr"/>
              </a:rPr>
              <a:t>flush</a:t>
            </a:r>
            <a:r>
              <a:rPr b="0" lang="bg-BG" sz="2200" spc="-1" strike="noStrike">
                <a:solidFill>
                  <a:srgbClr val="000000"/>
                </a:solidFill>
                <a:latin typeface="CourierCyr"/>
              </a:rPr>
              <a:t>().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Object.flush</a:t>
            </a:r>
            <a:r>
              <a:rPr b="0" lang="bg-BG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24600" indent="-2498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F3674-A2ED-4FCE-B726-A1C4075B3A43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794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Използване на поделени обек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800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lvl="2" marL="761760" indent="-30456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Горният код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указва задълж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елно записване на поделен обект и всички данни, които съдържа. Тъй като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yO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 обръщение към поделен обект с име </a:t>
            </a:r>
            <a:r>
              <a:rPr b="0" lang="en-US" sz="2400" spc="-1" strike="noStrike">
                <a:solidFill>
                  <a:srgbClr val="000000"/>
                </a:solidFill>
                <a:latin typeface="CourierCyr"/>
              </a:rPr>
              <a:t>"stuff_I_saved"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ова е обектът, който реално ще бъде запис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1760" indent="-3045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ъхранява всички поделени обекти в централно местоположение на твърдия диск на потребителя - точното местоположение ще зависи о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мястото, където се намира филмът, който ги е създ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1760" indent="-3045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EB127-6643-4722-9DE4-FF7BE29E0519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92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Използване на поделени обек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800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lvl="2" marL="700920" indent="-280080">
              <a:spcBef>
                <a:spcPts val="400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P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поделените обекти се съхраняват в следната основна директория: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CourierCyr"/>
              </a:rPr>
              <a:t>c:\Documents and Settings\&lt;username&gt;ApplicationData\Macromedia\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Cyr"/>
              </a:rPr>
              <a:t>FlashPlayer\</a:t>
            </a:r>
            <a:br>
              <a:rPr sz="1600"/>
            </a:br>
            <a:r>
              <a:rPr b="1" lang="bg-BG" sz="1600" spc="-1" strike="noStrike">
                <a:solidFill>
                  <a:srgbClr val="a50021"/>
                </a:solidFill>
                <a:latin typeface="Arial"/>
              </a:rPr>
              <a:t>Разбира се според версията на операционна система този път е различен, така че най-сигурно е да потърсите поделените обекти като пуснете 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find </a:t>
            </a:r>
            <a:r>
              <a:rPr b="1" lang="bg-BG" sz="1600" spc="-1" strike="noStrike">
                <a:solidFill>
                  <a:srgbClr val="a50021"/>
                </a:solidFill>
                <a:latin typeface="Arial"/>
              </a:rPr>
              <a:t>по разширението, което използват: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l</a:t>
            </a:r>
            <a:r>
              <a:rPr b="1" lang="bg-BG" sz="1600" spc="-1" strike="noStrike">
                <a:solidFill>
                  <a:srgbClr val="a50021"/>
                </a:solidFill>
                <a:latin typeface="CourierCyr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00920" indent="-280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Горният път е основен - т.е. когато даден филм създава поделен обект, се създава нова поддиректория на едно от горните местопо-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83532-019F-45B2-8CFF-20C51B641E4E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221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Използване на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XML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 FLASH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7C29B-CDAD-47A6-AC2C-86A2AC3DF85E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2760" y="-171720"/>
            <a:ext cx="91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Практика 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90792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lvl="2" marL="655200" indent="-2617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ът прави поточно възпроизвеждане на филм-четата, което означава, че когато размера на файла е по-голям и връзката в Интернет на потребителя е лоша, това би довело до нежелано насичане на кадри, чакане за пъ-лен </a:t>
            </a:r>
            <a:r>
              <a:rPr b="0" lang="bg-BG" sz="2000" spc="-1" strike="noStrike">
                <a:solidFill>
                  <a:srgbClr val="a50021"/>
                </a:solidFill>
                <a:latin typeface="CourierCyr"/>
              </a:rPr>
              <a:t>preloading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ползват се различни </a:t>
            </a:r>
            <a:r>
              <a:rPr b="0" lang="bg-BG" sz="2000" spc="-1" strike="noStrike">
                <a:solidFill>
                  <a:srgbClr val="a50021"/>
                </a:solidFill>
                <a:latin typeface="CourierCyr"/>
              </a:rPr>
              <a:t>preloader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и, действащи горе-долу по един и същи начин. Те циклично проверяват дали се е заредил последния (или някой друг, нужен за възпроизвеждане) кадър (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frame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и после пускат вече зареденото филмч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лед като сме напълно готови с анимацията добавяме нова сцена с </a:t>
            </a:r>
            <a:r>
              <a:rPr b="0" lang="bg-BG" sz="2000" spc="-1" strike="noStrike">
                <a:solidFill>
                  <a:srgbClr val="a50021"/>
                </a:solidFill>
                <a:latin typeface="CourierCyr"/>
              </a:rPr>
              <a:t>Insert -&gt; New Scene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и я слагаме в началото, т.е. тя трябва да се зареди първа. След това натискаме </a:t>
            </a:r>
            <a:r>
              <a:rPr b="0" lang="bg-BG" sz="2000" spc="-1" strike="noStrike">
                <a:solidFill>
                  <a:srgbClr val="a50021"/>
                </a:solidFill>
                <a:latin typeface="CourierCyr"/>
              </a:rPr>
              <a:t>Ctrl+Enter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ва пъти и ако не се вижда </a:t>
            </a:r>
            <a:r>
              <a:rPr b="0" lang="bg-BG" sz="2000" spc="-1" strike="noStrike">
                <a:solidFill>
                  <a:srgbClr val="a50021"/>
                </a:solidFill>
                <a:latin typeface="CourierCyr"/>
              </a:rPr>
              <a:t>Bandwith Profiler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натискате </a:t>
            </a:r>
            <a:r>
              <a:rPr b="0" lang="bg-BG" sz="2000" spc="-1" strike="noStrike">
                <a:solidFill>
                  <a:srgbClr val="a50021"/>
                </a:solidFill>
                <a:latin typeface="CourierCyr"/>
              </a:rPr>
              <a:t>Ctr+B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a50021"/>
                </a:solidFill>
                <a:latin typeface="CourierCyr"/>
              </a:rPr>
              <a:t>Bandwith Profiler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имулира поточно възпроизвеждане при дадена скорост на връзката (настройте го на </a:t>
            </a:r>
            <a:r>
              <a:rPr b="0" lang="bg-BG" sz="2000" spc="-1" strike="noStrike">
                <a:solidFill>
                  <a:srgbClr val="a50021"/>
                </a:solidFill>
                <a:latin typeface="CourierCyr"/>
              </a:rPr>
              <a:t>28.8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и може да видим как ще се възпроизвежда филмчето в We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14999-DD3C-49FF-B042-421E07739F43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2760" y="-171720"/>
            <a:ext cx="91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Практика 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90792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lvl="2" marL="700920" indent="-280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него ще видим червена линия, за която говорихме в една от предните лекции. Над тази линия почти винаги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се виждат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части от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стълбчета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ито са отделните фрей-мове съдържащи символи с размер по-голям от необхо-димия, за да върви филмчето глад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0920" indent="-280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 кликване на мишката върху тези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стълбчета можем да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идим съответния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frame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с превишен размер. Записваме си тези кадри (например frame 30, frame 214  и т.н.), после се връщате в </a:t>
            </a:r>
            <a:r>
              <a:rPr b="0" lang="bg-BG" sz="2000" spc="-1" strike="noStrike">
                <a:solidFill>
                  <a:srgbClr val="a50021"/>
                </a:solidFill>
                <a:latin typeface="CourierCyr"/>
              </a:rPr>
              <a:t>Edit mode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и копирайки един по един симво-лите от тези кадри ги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paste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аме (вмъкваме) в новата (</a:t>
            </a:r>
            <a:r>
              <a:rPr b="0" lang="bg-BG" sz="2000" spc="-1" strike="noStrike">
                <a:solidFill>
                  <a:srgbClr val="a50021"/>
                </a:solidFill>
                <a:latin typeface="Arial"/>
              </a:rPr>
              <a:t>първ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сцена. Няма значение дали са подредени на плат-ното, просто на един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layer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ъздаваме нов frame за всеки символ и го вмъкнете. И така се събират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кадъра с пръс-нати символи, които в повечето случаи са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impor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нати обекти (.JPG, .BMP или по-сложни MC-т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61F19-0750-4F67-AA3F-5C55EF3646F0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2760" y="-171720"/>
            <a:ext cx="91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Практика 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90792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lvl="2" marL="700920" indent="-280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него ще видим червена линия, за която говорихме в една от предните лекции. Над тази линия почти винаги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се виждат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части от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стълбчета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ито са отделните фрей-мове съдържащи символи с размер по-голям от необхо-димия, за да върви филмчето глад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0920" indent="-280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 кликване на мишката върху тези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стълбчета можем да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идим съответния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frame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с превишен размер. Записваме си тези кадри (например frame 30, frame 214  и т.н.), после се връщате в </a:t>
            </a:r>
            <a:r>
              <a:rPr b="0" lang="bg-BG" sz="2000" spc="-1" strike="noStrike">
                <a:solidFill>
                  <a:srgbClr val="a50021"/>
                </a:solidFill>
                <a:latin typeface="CourierCyr"/>
              </a:rPr>
              <a:t>Edit mode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и копирайки един по един симво-лите от тези кадри ги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paste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аме (вмъкваме) в новата (</a:t>
            </a:r>
            <a:r>
              <a:rPr b="0" lang="bg-BG" sz="2000" spc="-1" strike="noStrike">
                <a:solidFill>
                  <a:srgbClr val="a50021"/>
                </a:solidFill>
                <a:latin typeface="Arial"/>
              </a:rPr>
              <a:t>първ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сцена. Няма значение дали са подредени на плат-ното, просто на един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layer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ъздаваме нов frame за всеки символ и го вмъкнете. И така се събират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кадъра с пръс-нати символи, които в повечето случаи са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impor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нати обекти (.JPG, .BMP или по-сложни MC-т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DD9C1-AE52-4981-8116-77DDAA675BC8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6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СЪДЪРЖ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38280" y="1782360"/>
            <a:ext cx="67788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600" spc="-1" strike="noStrike">
                <a:solidFill>
                  <a:srgbClr val="000000"/>
                </a:solidFill>
                <a:latin typeface="Arial"/>
              </a:rPr>
              <a:t>Използване на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1" lang="bg-BG" sz="26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lash MX</a:t>
            </a:r>
            <a:r>
              <a:rPr b="1" lang="bg-BG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снови н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Използване на клас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Arial"/>
              </a:rPr>
              <a:t>Използване на сокет сървър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38280" y="3871800"/>
            <a:ext cx="677880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600" spc="-1" strike="noStrike">
                <a:solidFill>
                  <a:srgbClr val="000000"/>
                </a:solidFill>
                <a:latin typeface="Arial"/>
              </a:rPr>
              <a:t>Практика 5</a:t>
            </a:r>
            <a:r>
              <a:rPr b="0" lang="bg-BG" sz="3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7B6DD-972B-4EA3-99EB-CF2CC1C216C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2760" y="-171720"/>
            <a:ext cx="91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Практика 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90792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lvl="2" marL="578880" indent="-231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накрая, за да не се виждат разхвърляните по платното символи докато се зарежда, се маркират всичките им кадри от долния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layer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и ги преместваме непосредствено след втория фрейм с Action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gotoAndPlay (1);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края се слага и един </a:t>
            </a:r>
            <a:r>
              <a:rPr b="0" i="1" lang="bg-BG" sz="2000" spc="-1" strike="noStrike">
                <a:solidFill>
                  <a:srgbClr val="000000"/>
                </a:solidFill>
                <a:latin typeface="CourierCyr"/>
              </a:rPr>
              <a:t>Loading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между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frame 1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frame 5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(цикленето), за да разбира нашия потребител, че нещо се случва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8880" indent="-231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андартният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preloader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цикли докато се зареди (обикно-вено) целият файл. Това не е много добре за големи файлове, каквито има в повечето изцяло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flash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айтове.</a:t>
            </a:r>
            <a:br>
              <a:rPr sz="2000"/>
            </a:b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CourierCyr"/>
              </a:rPr>
              <a:t>file=100 Kb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- чакаш ХХХ sec/min да се заредят тия 100 Kb. В този различен начин за зареждане, времето за чакане се скъсява значително, защото правим </a:t>
            </a:r>
            <a:r>
              <a:rPr b="0" lang="bg-BG" sz="2000" spc="-1" strike="noStrike">
                <a:solidFill>
                  <a:srgbClr val="a50021"/>
                </a:solidFill>
                <a:latin typeface="Arial"/>
              </a:rPr>
              <a:t>preloading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a50021"/>
                </a:solidFill>
                <a:latin typeface="Arial"/>
              </a:rPr>
              <a:t>само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на първата сцена с големите по размер символи, а останалите ще се възпроизвеждат поточно, защото са под червената линия на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Bandwith Profiler-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и се предполага, че ще вървят гладко без да се зареждат предварител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8880" indent="-231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A7B9B-69BF-402C-9C9F-A5B12270324A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82760" y="-171720"/>
            <a:ext cx="91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Практика 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90792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2" marL="1127520" indent="-4507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така от от 100Kb файл, се зареждат предварително само големите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анимации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а те са например 45Kb (или JPG-a) и зрителят чака два пъти по-малко. Което е наистина добре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27520" indent="-4507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ато задължително не трябва да забравяме да скрием символите от първата сц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85594-791B-4514-8C6F-5A423A349430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          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Въвеждане и извеждане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на данни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от и във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 Flash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обекти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C3795-3238-4685-9667-EBB386DEEEC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634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7715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2" marL="822600" indent="-3290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дна от най-полезните възможности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 неговата възможност да комуникира с вън-шни източници. Възможността за изпращане и получаване на данни към и от други мес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прав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реално средство за разработка на прило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а ни позволява да правим неща като динамично зареждане на новини, влизане и регистрация на потребители и създаване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риложения за ч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F5315-05E2-4421-9D86-3290BB73EE9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3120" y="549000"/>
            <a:ext cx="884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557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lvl="2" marL="716040" indent="-28620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Източникът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на данни въ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представлява мястото, от което може да зарежда външни данни (т.е. такива, които не са кодирани (програмирани) директно във файла. Например това може да е текстов файл, както видяхме в една от първите лек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16040" indent="-28620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Трансферът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на данни е акт на извличане на данни от източник или изпращане на данни о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lash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о друго приложение. В тази лекция ще се запознаем с  за различните типове източници на данни, както и за обектите и методите 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,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зползвани за комуникация с тези източници в процеса на трансфера на дан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EEB3D-A4BF-4987-BF84-4E0ABCF0C01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62720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lvl="2" marL="563760" indent="-22536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ъответно всички данни, които планираме да зареждаме въ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т външен източник трябва да бъдат структурирани (форматирани) по определен начин.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поддържа следните форма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63760" indent="-225360">
              <a:spcBef>
                <a:spcPts val="451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URL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низ.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При този тип форматиране по двойки "име-стойност", променливите и техните стойности се дефинират като низ от текст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bg-BG" sz="2200" spc="-1" strike="noStrike">
                <a:solidFill>
                  <a:srgbClr val="000000"/>
                </a:solidFill>
                <a:latin typeface="Arial"/>
              </a:rPr>
              <a:t>текстовият низ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2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 = teach&amp;website =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ttp://www.teaching.com&amp;eyeColor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38302-3FC4-4F19-85D8-8B4675835FB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2760" y="63000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 на източниците на данни 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форматиране на данн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36360" y="1557360"/>
            <a:ext cx="878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lvl="2" marL="716040" indent="-286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ефинира три променлив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ebsi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yeCo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и съответните им стойност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www.teaching.com&amp;eyeColor,gre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лед като зареди този текстов низ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втоматично ще го раздели на неговите отделни двойки "променлива-стойност", като ги направи достъпни за използване, както всички други променливи. Виждаме, че знакът за равен-ство се използва за асоцииране на име на променлива с нейната стойност, а знакът амперсанд 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(&amp;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маркира края на една двойка "име на променлива-стойност" и началото на друга. Форматът поддържа неограничен брой промен-ливи. Но имайте предвид, че в този формат могат да бъдат съхранявани само прости променливи; данните, съдържащи се в обекти, масиви или друг тип данни не мога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2381C-48AB-4F0C-8DED-20C0E8885D2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6.03.2004 г.</a:t>
            </a:r>
          </a:p>
        </p:txBody>
      </p:sp>
    </p:spTree>
  </p:cSld>
  <p:transition>
    <p:blinds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8:44:31Z</dcterms:created>
  <dc:creator>May</dc:creator>
  <dc:description/>
  <dc:language>en-US</dc:language>
  <cp:lastModifiedBy>GORO</cp:lastModifiedBy>
  <dcterms:modified xsi:type="dcterms:W3CDTF">2004-11-06T02:20:34Z</dcterms:modified>
  <cp:revision>796</cp:revision>
  <dc:subject/>
  <dc:title>Slide 1</dc:title>
</cp:coreProperties>
</file>