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A751-CB5A-42E0-A156-96B030A3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54C05-9900-4B7F-BB5A-B9D44802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C22C-5437-45A4-814E-89A65E27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495A-D3E4-49C1-9FB1-919481E7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5B33-5199-4471-A0C4-76ED8022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4F4BB-8A23-44F3-B215-D7B5EB44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BCF1-6227-4D14-B48A-5C031D4F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753A-8666-41CF-B4F4-A589F9B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3DE0-4635-4912-B090-66441B86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AAC1-C5DE-4DD7-9134-66BCF38C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7124-D316-40C7-94E8-8E34A509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65D8B-0973-4A21-9D21-E8A54F56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0192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E16F-0D17-4090-B27A-36ABF2941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11.2004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исък с Уеб услуги, предоставен от </a:t>
            </a:r>
            <a:r>
              <a:rPr b="0" lang="en-US" sz="1800" spc="-1" strike="noStrike">
                <a:solidFill>
                  <a:srgbClr val="a50021"/>
                </a:solidFill>
                <a:latin typeface="CourierCyr"/>
              </a:rPr>
              <a:t>http://www.xmethods.com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961320" cy="45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92AD-4ADF-4343-8C62-835CC2679D1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исък с Уеб услуги, предоставен от </a:t>
            </a:r>
            <a:r>
              <a:rPr b="0" lang="en-US" sz="1800" spc="-1" strike="noStrike">
                <a:solidFill>
                  <a:srgbClr val="a50021"/>
                </a:solidFill>
                <a:latin typeface="CourierCyr"/>
              </a:rPr>
              <a:t>http://www.xmethods.com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017" t="0" r="0" b="0"/>
          <a:stretch/>
        </p:blipFill>
        <p:spPr>
          <a:xfrm>
            <a:off x="1476360" y="1916280"/>
            <a:ext cx="7102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BD41-8DF1-4CE9-8726-C00B8049B74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исък с Уеб услуги, предоставен от </a:t>
            </a:r>
            <a:r>
              <a:rPr b="0" lang="en-US" sz="1800" spc="-1" strike="noStrike">
                <a:solidFill>
                  <a:srgbClr val="a50021"/>
                </a:solidFill>
                <a:latin typeface="CourierCyr"/>
              </a:rPr>
              <a:t>http://www.xmethods.com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996" t="0" r="0" b="0"/>
          <a:stretch/>
        </p:blipFill>
        <p:spPr>
          <a:xfrm>
            <a:off x="1403280" y="1927080"/>
            <a:ext cx="7104240" cy="45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DBD4-26A2-4E15-BA08-6A9D8CDC5CD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lvl="2" marL="944640" indent="-3776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мпонентът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WebServiveConn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XML.sendAndLoa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за да комуникира с уеб услугата. Затова е подчинен на същите ограничения за сигурност, създадени при зареждане на данни от един на друг домейн. Съответно там, където ни е услугата трябва да ни е разрешен достъпа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rossdomain.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й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4640" indent="-377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 сега малко практик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4640" indent="-3776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FD3A-59A5-4128-A0C2-4FFE5676E03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исък с Уеб услуги, предоставен от </a:t>
            </a:r>
            <a:r>
              <a:rPr b="0" lang="en-US" sz="1800" spc="-1" strike="noStrike">
                <a:solidFill>
                  <a:srgbClr val="a50021"/>
                </a:solidFill>
                <a:latin typeface="CourierCyr"/>
              </a:rPr>
              <a:t>http://www.xmethods.com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238880" cy="45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DDF2-60D1-411C-8813-EBAFBE5C847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19556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2" marL="639720" indent="-2559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Използване на метода Load Movie в сайт. Предимства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) Създаваме анимациите, които искаме да зареждаме отдалечено. Като избираме едно за контейнер (това, в което ще се зареждат всички други). То винаги ще се остане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0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 другите ще ги зареждаме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 и нагоре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2) Всяко филмче зареждаме като натиснем съответния бутон. Като за всеки един сме прикрепи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cript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(releas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loadMovie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(“име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анимация.swf", номер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ни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Cyr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9529-A76D-4D30-B222-323354B5236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19556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lvl="2" marL="518040" indent="-207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 за използване на  HTML форматиране във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lash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жем да присвоим HTML низ на текстово поле, използвайки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ActionScript ка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18040" indent="-207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Създаваме си текстово поле на желаното място на сцената. Като е важно да запомните, че само Dynamic и Input текстовите полета поддържат такова форматиране.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В случая избираме:  Dynamic Text from the pop-up menu. А във полето Var въвеждаме: 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testBox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и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лагаме отметки за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Selec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HTML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.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В нов сл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1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ишем: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Courier New Cyr"/>
              </a:rPr>
              <a:t>testBox = “&lt;B&gt;This is bold text&lt;/B&gt;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8285-3CC7-4AAD-B200-B720EF6DB91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19556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lvl="2" marL="426600" indent="-1706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 за използване на  HTML форматиране във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lash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Link =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"&lt;a href=\"http://www.macromedia.com\"&gt; Macromedia,Inc.&lt;/a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Bold = "&lt;b&gt;Macromedia, Inc.&lt;/b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Color = "&lt;font color=\"#663399\"&gt;Macromedia, Inc.&lt;/font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Italics = "&lt;i&gt;Macromedia, Inc.&lt;/i&gt;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myTextCombo = "&lt;p align=\"right\"&gt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&lt;a href=\"http://www.macromedia.com\"&gt;&lt;b&gt;&lt;font color =\"#000099\" size = \"14\" face=\"Times New Roman\"  &gt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&lt;i&gt;Macromedia, Inc.&lt;/i&gt;&lt;/font&gt;&lt;/b&gt;&lt;/a&gt;&lt;/p&gt;"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 за използване на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SS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 форматиране във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lash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AAB4-B734-4D64-A1D6-59DD9570BFF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286000"/>
            <a:ext cx="786924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WEBSERVERCONNECTOR.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HTML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 </a:t>
            </a:r>
            <a:br>
              <a:rPr sz="3200"/>
            </a:b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SS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Практика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1206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ЛЕКЦИЯ № 6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A687-2D6C-4A24-AE24-85F2FC867F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07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04840" y="1855800"/>
            <a:ext cx="778824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зползване на компонента </a:t>
            </a:r>
            <a:r>
              <a:rPr b="0" lang="en-US" sz="1800" spc="-1" strike="noStrike">
                <a:solidFill>
                  <a:srgbClr val="000000"/>
                </a:solidFill>
                <a:latin typeface="CourierCyr"/>
              </a:rPr>
              <a:t>WEBSERVERCONNECTOR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една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ет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м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DB8E-6277-427D-AB6D-424724E207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38280" y="1782360"/>
            <a:ext cx="67788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ash MX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снови н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Използване на клас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Използване на сокет сървъ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38280" y="3871800"/>
            <a:ext cx="67788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Практик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bg-BG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BB5E-E293-4B95-8014-0AE24ACCE4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356000" y="3460680"/>
          <a:ext cx="1413000" cy="12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3460680"/>
                    <a:ext cx="141300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27D7-E88C-41F8-B5B1-0B8140CFF0D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lvl="2" marL="731160" indent="-2923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йки компонен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erviceConnector, 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нимацията се свързва с Уеб услуга и може да зареди информация от нея. Като под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уеб услуг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разбираме сървърно приложение, приемащо данни, извършващо дейности, базирани на тези данни и връща резултат. Например една такава услуга може да ни позволи по подаден от потребителя пощенски код, да ни върне областта, на който й съответства. Или по подаден грешен текст да открие неправилните части и да върне правилното му съответ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160" indent="-2923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ратим данни на една уеб услуга 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трябва да ги подадем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ормат. И по-точ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орматът трябва да отговаря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 (Simple Object Access Protocol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танда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4824-1ED3-4A83-BC5E-3C92C27A465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2" marL="639720" indent="-2559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точно се намесва компонен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erviceConnecto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Той ни спасява от необходимостта да разучаваме посочения протокол като се занимава с процеса на конвертиране на данните, предназначени за уеб услугата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Съответно след като ги прати,  полу-чава и парсв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мпонентът има 5 параметър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WSDLU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адресът на файла, който дефинира операцията на Уеб услугата. При въвеждане на стойност на този параметър, средата за разработка на Флаш автоматично се опитва да зареди посочения файл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operation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след като се зареди файла, посочен в горния параметър тук можем да изберем от падащ списък операцията, която искаме да изпъл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2053-1A34-4D7E-8025-469019C10F5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2" marL="624600" indent="-249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мпонентът има 5 параметър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multipleSimultaneousAll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приема за стойност истина или лъжа. При избор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яма да изпълни повече заявки докато не получи отговор на текущата заявк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suppressInvalidCalls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отново приема за стойнос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следната роля. Ако е зададен като истина и заявката ни за уеб услуга не съдържа указания тип данни, необходим за обработка на заявката, тя просто не се изпраща, ако 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явката се изпраща, независимо от въведения тип данни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timeout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– незадължителен параметър. В него въвеждаме число или нищо. Като числото показва броя секунди, през което компонента ще чака отговор на заявката. Изтекат ли... заявката се отм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7909-00FD-4A29-A520-B7E0256018D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компонен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WEBSERVERCONN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lvl="2" marL="533160" indent="-2131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видим как се променя динамично страница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в инспектора на компонентите, според стой-ностите на първите два параметъра на комп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3160" indent="-2131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като сме задали исканата уеб услуга създаваме инстанция на компонента и я именуване. А за да накараме инстанцията да изпълни заявката за услуга, трябва да извикаме метода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trigger(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име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_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инстанция.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trig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3160" indent="-213120">
              <a:spcBef>
                <a:spcPts val="300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зи метод взима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s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форматира заявката, изпраща я и чака отговор. Който стартира събитие, наречено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о за да го уловим ни трябва слушател за него. Например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function distanceReceived (ev:Object)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var razstoyanie: = ev.target.result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Cyr"/>
              </a:rPr>
              <a:t>postcode_ws.addEventListener(“results”, distanceReceive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A1C42-D9E2-401C-ABFC-8E9436729FA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4:31Z</dcterms:created>
  <dc:creator>May</dc:creator>
  <dc:description/>
  <dc:language>en-US</dc:language>
  <cp:lastModifiedBy>GORO</cp:lastModifiedBy>
  <dcterms:modified xsi:type="dcterms:W3CDTF">2004-11-13T01:42:44Z</dcterms:modified>
  <cp:revision>851</cp:revision>
  <dc:subject/>
  <dc:title>Slide 1</dc:title>
</cp:coreProperties>
</file>