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954-FDD5-44CD-A840-5A512EBC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348-A998-4FC0-BD40-A25D7F3A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F79-8AB8-4E4F-AA73-234CE3F3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381-C873-40FD-9C6B-943AAB8B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A771-29B3-4D07-B095-EAF8B930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967-2EC6-473E-ACF8-7923D76C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A35-22F8-4B4E-A4F0-14A55E64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BC5-7F8F-4FDD-B6F5-0247D781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AAD-050D-4800-AF65-E5A1DFA4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969-189D-4E06-974F-75DF5EA8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6FB-D2C1-44A3-9E2E-402A1954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547-0315-48E9-BD2F-6FEA8AC9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.11.2004 </a:t>
            </a: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4320" y="6095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7CBD-BAAE-4D2F-9EDC-381811B357CE}" type="slidenum">
              <a:rPr b="0" lang="sr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24D-94D1-441C-BD19-61419EB84B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Текстови възли</a:t>
            </a:r>
            <a:br>
              <a:rPr sz="2200"/>
            </a:br>
            <a:br>
              <a:rPr sz="22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кстовите възли представляват текста, който описвате,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по-специално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” текста, описан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зи текст може да е разположен на повече от един ред. Пора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орматирането в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а и структуринето на таго-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ете (с елемен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някои символ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кстовите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ъзли, които не могат да се използват или трябва да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 използват по определен начин, за да не нарушат правилното форматиране на документа.</a:t>
            </a:r>
            <a:br>
              <a:rPr sz="2000"/>
            </a:br>
            <a:r>
              <a:rPr b="0" lang="bg-BG" sz="2000" spc="-1" strike="noStrike">
                <a:solidFill>
                  <a:srgbClr val="800000"/>
                </a:solidFill>
                <a:latin typeface="Arial"/>
              </a:rPr>
              <a:t>Ако това все пак стане, се казва, че документа не е форматиран правил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578-8897-489E-ACDB-D2ED095EA1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ези определени символи трябва да се заменят с техни обек-тни референции. Това важни в най-голяма степен за “&lt;” и “&amp;” Съществуват 5 предефинирани такива з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, които трябва да заместваме: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05120" y="2666880"/>
          <a:ext cx="6248160" cy="2965680"/>
        </p:xfrm>
        <a:graphic>
          <a:graphicData uri="http://schemas.openxmlformats.org/drawingml/2006/table">
            <a:tbl>
              <a:tblPr/>
              <a:tblGrid>
                <a:gridCol w="2666520"/>
                <a:gridCol w="3581640"/>
              </a:tblGrid>
              <a:tr h="66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им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4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меня се в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4f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apos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quo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A3C-1E8F-43CE-936E-1FB0E250D9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incorrect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It is clearly stated that variable A &lt; variable B &amp; variable A &gt; variable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/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incorrect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acceptable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It is clearly stated that variable A 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&amp;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iable B 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&amp;amp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iable A &gt; variable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/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acceptable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lt;!-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бележете, че не напълно задължително да заместите зна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gt;“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Но за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“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 е. Макар и да е във ваш интерес и е добра практика да използвате указаните в таблицата референции. 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best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It is clearly stated that variable A 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&amp;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iable B 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&amp;amp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iable A 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&amp;g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iable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/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best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ED8-B707-47F1-88BA-6F8D1F6534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рибу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още един тип структури от данни, наречени атрибути 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attribute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рибут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допълните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икновено пр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йности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ито могат да се включв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елемент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 се състоят от и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йност, указана в рамките на отворения таг на елемент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о атрибути могат да имат само елементите без деца и то тези атрибути не трябва да съществуват под формата на елементи по-долу в йерархията. В един елемент може да имате толкова атрибути, колкото иска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мер за атрибути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 Cyr"/>
              </a:rPr>
              <a:t>letter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 to="Sandy" from="Pet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I love you!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Courier New Cyr"/>
              </a:rPr>
              <a:t>letter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E07-DBFE-42D8-B1A0-09B2A98AEF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341000"/>
            <a:ext cx="761976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трибути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 могат да съдържат комплексна информация. Стойностите им се заграждат с кавички или апостроф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ователно не могат да съдържат кавички – поне не такива, които са използвани при дефиницията и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сто, ако се наложи употребата им трябва да използвате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escap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кодовете за наклонена че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\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ва действие се прилага също и за табулаци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(\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вите ред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\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743200" y="3657600"/>
          <a:ext cx="4876920" cy="2009880"/>
        </p:xfrm>
        <a:graphic>
          <a:graphicData uri="http://schemas.openxmlformats.org/drawingml/2006/table">
            <a:tbl>
              <a:tblPr/>
              <a:tblGrid>
                <a:gridCol w="2286000"/>
                <a:gridCol w="2590920"/>
              </a:tblGrid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4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меня се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4f5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булац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\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#09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 ре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\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#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ъщане на кареткат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\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#13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F3E-503F-442B-97C8-B5766AF268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използваме таговете 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аже и в първия да нямат затварящ, то е задължително да ги затворим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Например вместо 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br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рябва да напишем: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Courier New Cyr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br</a:t>
            </a:r>
            <a:r>
              <a:rPr b="1" lang="bg-BG" sz="2000" spc="-1" strike="noStrike">
                <a:solidFill>
                  <a:srgbClr val="000000"/>
                </a:solidFill>
                <a:latin typeface="Courier New Cyr"/>
              </a:rPr>
              <a:t> /</a:t>
            </a:r>
            <a:r>
              <a:rPr b="1" lang="en-US" sz="2000" spc="-1" strike="noStrike">
                <a:solidFill>
                  <a:srgbClr val="000000"/>
                </a:solidFill>
                <a:latin typeface="Courier New Cyr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рябва да кодират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всички специални символи – което може да направите с помощта на функцият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escap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ъ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еб страниците често използват текстови файлове, които съдърж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орматирана информация – напр. Статиче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 за съхраняване на данни за това кои динамични страници (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P…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да се извикат или към кой порт 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дрес да се свържат, когато се опитват да се свържат със сокет сървъ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A2A-6DB3-431C-B439-5B00639C10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Използване на клас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кла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може да направите следните неща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форматиран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парсван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(извличане на информацията от форматирания файл)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зареждане или изпращан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негова помощ може да заредим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т външен източник като статичен файл или сървърен скрипт. А след като сме заредили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документа да поллучим достъп до информацията в него с помощта на методите и свойствата на класа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. Може да създадем и собствен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, който да използваме във филм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ли да го изпратим на сървърен скрип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114-A6AF-4734-84E0-12E0E5A676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777777"/>
                </a:solidFill>
                <a:latin typeface="Arial"/>
              </a:rPr>
              <a:t>Форматиране на </a:t>
            </a:r>
            <a:r>
              <a:rPr b="0" lang="en-US" sz="36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да създадем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бект въ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трябва да използваме конструктора на класа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var myXML:XML = new XM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да създадем след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MyClassMate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name gender=“male”&gt; Ivan Ivanov &lt;/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&lt;name gender=“female”&gt; Maria Draganova &lt;/name&gt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/MyClassMate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</a:t>
            </a: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рябва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1) да създадем документа като низ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) да конвертираме низа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бект с помощта на констру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(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кла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mySt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MyClassMate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=&gt;&lt;name gender=\“male\”&gt; Ivan Ivanov &lt;/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=&gt;&lt;name gender=\“female\”&gt; Maria Draganova &lt;/name&gt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/MyClassMate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 myXML:XML = new XML(myStr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010-B19B-46E3-A292-5A9FFE5436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777777"/>
                </a:solidFill>
                <a:latin typeface="Arial"/>
              </a:rPr>
              <a:t>Парсване на </a:t>
            </a:r>
            <a:r>
              <a:rPr b="0" lang="en-US" sz="36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620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Pa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= анализиране, разлагане на части на нещ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войства на кла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firstChi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очи към първия възел в дървовидната структу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hildNodes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nextSibl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очи към следващия възел на същото ниво в структур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ttribu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ръща асоциативен масив от имена на атрибу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390-2291-431F-9161-0104B3780A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Зареждане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620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заред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т отдалечен източник трябва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1) създаде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бект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2) да използваме мето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(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бекта, за да заред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форматирани данни от външен източник.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var myXML: XML = new XML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myXML.load(“http://ime_domain.com/imeXMLfile.xml”);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*тук може да се укаже и динамичен скриптов файл, чийто резултат е скриптова страница.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определим кога еди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документ се е заредил в даден обект, използваме събитието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onLoa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бекта.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 да укажем на това събитие да вика функция при завършване на зареждането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а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function init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ук трябва да парснем скрипта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}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5D7-AD60-4413-B6DF-6CCA8CE462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1676520"/>
            <a:ext cx="786924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XML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LASH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700" spc="-1" strike="noStrike">
                <a:solidFill>
                  <a:srgbClr val="808080"/>
                </a:solidFill>
                <a:latin typeface="Arial"/>
              </a:rPr>
              <a:t>ЛЕКЦИЯ № </a:t>
            </a: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6FE-A892-4C49-B11B-1560FF235E31}" type="slidenum">
              <a:t>2</a:t>
            </a:fld>
          </a:p>
        </p:txBody>
      </p:sp>
    </p:spTree>
  </p:cSld>
  <p:transition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Зареждане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620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дният пример илюстрира, че когато зареждането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а приключи ще бъде извикана функцият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init()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нея трябва да напишем специален код за интерпретиране на данните, описани от наш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йл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73C-94F5-4BBA-8BDA-CEF6DB9A7D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Изпращане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620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рез методит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ласа може да изпраща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адрес. Като същевременно с това да заредим резултатния доку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прат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трябва да използваме метод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send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да укажем предназнач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дре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myXML:XML = new XML(“&lt;message&gt;&lt;text&gt;Hi!&lt;/text&gt;&lt;/message&gt;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XML.send(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“http://ime_domain.com/destinacia.php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пратим и едновременно с това да получим отговор трябва да използва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AndLoad(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ода на кла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832-1C2C-4F42-B13A-F792E4FC18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</a:t>
            </a:r>
            <a:r>
              <a:rPr b="0" lang="bg-BG" sz="4400" spc="-1" strike="noStrike">
                <a:solidFill>
                  <a:srgbClr val="800000"/>
                </a:solidFill>
                <a:latin typeface="Arial"/>
              </a:rPr>
              <a:t>снови на 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O</a:t>
            </a: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нови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646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eXtensible Markup Language) 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зик за форматиране на данни чрез използване на етикети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ужи за лесно обозначаване (маркиране)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формация в рамките на обикновен текстов фай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дно от основните негови пред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възможността за съхраняване на тази информация в йерархичен вид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ва означава, че можете да я разделите на парч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ктичес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те да мислите 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то т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во описание на йерархична файлова система, съхраняваща текстова информац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 е скриптов език и реално не “върши” нищо, макар средствата, с които си служи да напомнят такъв. Навсякъде, където нормално използвате текстов файл можете да го заместите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Снабдявайки се така със структурираност и яснота на конкретото съдържан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повече информация относ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 да погледнете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 Cyr"/>
              </a:rPr>
              <a:t>http://www.xml.com/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 Cyr"/>
              </a:rPr>
              <a:t>http://www.w3.org/XML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EA4-07D7-45B6-9383-AC79855499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оглеждай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прим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ще забележите, че много прилича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същ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TML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ML (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ака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TML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а се 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оявил пре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ML –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 двата са създадени на баз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G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яхната структура в много отношения е еднак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имер з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let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to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&gt; Мария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/to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from&gt;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 Игнат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/fro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body&gt;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 Как си?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/let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E62-F127-47C4-A1B6-4665381490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 аналогия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файл-пап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тикета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едставя папка, съдържащ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3 друг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. Всички те описват съдържанието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ложението на едно писм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сяка една папка съдърж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преде-л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кст съответстващ на типа 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съдържа информация за получателя на писмот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държанието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окуме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тикет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нформацията в тя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е разглеждат като въз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зи въз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сновн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граждащ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локо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ML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определящи кое какво 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 примера има 2 тип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ъзли: елементи и текст въз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лемен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Мария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Игнат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Как си?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кс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ъз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883E-84E0-4227-B1BA-0E6491E596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н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ъзли елементи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злите елементите представлява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M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аговет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ли папки, етике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нашия пример елемента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 е коренният 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лемент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куме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Желателно е да има само един коренен етикет за все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ака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lash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а не е толкова строг за т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сички други елементи трябва да бъдат поставени в него, определяйки цялостната структура на доку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гато един възел се съдържа в друг, се обозначава като “дете” на съдържащия 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ругия като родителски (“родител”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обно на родословно дър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лементът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“деца”: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одителският възел на всеки от тях е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секи елемент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M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рябва да има отварящ и затварящ етикет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лементи без съдържание между отварящия и затварящ таг, или нямащи “деца” (ка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&gt;&lt;/to&g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е нарича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азни елемен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гат да се запишат алтернативно ка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ме_елем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&gt;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я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&lt;to /&gt;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ъдето имаме един таг, затварящ себе с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 имайки сам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&gt;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тваряне ще бъде неправи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87A-2F8C-4286-A5E2-CBCC2BEFC9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н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именува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лемен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ществуват правила, които да спазва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ената на елементи трябва да съдържат само символи. Това включ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ук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циф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_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ир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-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ч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.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воеточ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:)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воеточие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ипично само 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делител на именувани простран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акар изброените символи да са валидни, имената на елементите могат да започват само с букви или долна подчертавка “_”. Освен това имената на елементи не трябва да започват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xml“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ената на етикетите са чувствителни към регистъра. Тоест прави се разлика между малки и големи букв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ag&gt;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различно 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ag&gt;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андарт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гове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 пишат с малк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ук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ес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тикет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а с голе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661-DDC5-4695-8374-2E3547BEBA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йла може да използваме еднакъв етикет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ного пъти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let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to&gt;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M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ария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to&gt;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Ивели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to&gt;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Петър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from&gt;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Игнат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fr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body&gt;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Как си?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let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61C-43BC-441F-AC78-40D184454D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9:44:27Z</dcterms:created>
  <dc:creator>SP_03</dc:creator>
  <dc:description/>
  <dc:language>en-US</dc:language>
  <cp:lastModifiedBy>GORO</cp:lastModifiedBy>
  <dcterms:modified xsi:type="dcterms:W3CDTF">2004-11-20T01:53:27Z</dcterms:modified>
  <cp:revision>182</cp:revision>
  <dc:subject/>
  <dc:title>Slide 1</dc:title>
</cp:coreProperties>
</file>