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DB0-14B7-4352-B09A-20E07F69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7DD-3BB7-429C-8D4A-0461C6A1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78F-0D5F-4BF8-8F39-072D538D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813-16BA-419E-9F3B-22C7C42D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862-7DD2-4B95-952E-DB537126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99C-72C5-45B4-8AF5-5D4F0456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92E-A433-40F2-A39D-626B0948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C55-6DFF-4A0D-B8D5-8CA25E0D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AB7-A0C4-49DB-889C-DE8DE4D2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2A8-6FEC-4D29-8121-1B03B7DE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771-0421-4119-A558-15EBD5F6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CD0-7125-489B-BE7B-298DCE84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.11.2004 </a:t>
            </a: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095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C155-2FD9-4CAB-BFA3-BB7BAFC46DE3}" type="slidenum">
              <a:rPr b="0" lang="sr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6A3-DD21-4E10-923F-2F1B5C616C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Текстови възли</a:t>
            </a:r>
            <a:br>
              <a:rPr sz="2200"/>
            </a:br>
            <a:br>
              <a:rPr sz="22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кстовите възли представляват текста, който описвате,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по-специално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 текста, описан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зи текст може да е разположен на повече от един ред. Пора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орматирането в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а и структуринето на таго-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ете (с елемен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някои символ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кстовите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зли, които не могат да се използват или трябва д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 използват по определен начин, за да не нарушат правилното форматиране на документа.</a:t>
            </a:r>
            <a:br>
              <a:rPr sz="2000"/>
            </a:br>
            <a:r>
              <a:rPr b="0" lang="bg-BG" sz="2000" spc="-1" strike="noStrike">
                <a:solidFill>
                  <a:srgbClr val="800000"/>
                </a:solidFill>
                <a:latin typeface="Arial"/>
              </a:rPr>
              <a:t>Ако това все пак стане, се казва, че документа не е форматиран правил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FCA-D6FC-4555-95A4-2EC0F7623B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ези определени символи трябва да се заменят с техни обек-тни референции. Това важни в най-голяма степен за “&lt;” и “&amp;” Съществуват 5 предефинирани такива з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, които трябва да заместваме: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5120" y="2666880"/>
          <a:ext cx="6248160" cy="2965680"/>
        </p:xfrm>
        <a:graphic>
          <a:graphicData uri="http://schemas.openxmlformats.org/drawingml/2006/table">
            <a:tbl>
              <a:tblPr/>
              <a:tblGrid>
                <a:gridCol w="2666520"/>
                <a:gridCol w="3581640"/>
              </a:tblGrid>
              <a:tr h="66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им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4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меня се в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4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apo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quo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C30-0438-496A-9B31-129769F47A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incorrect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It is clearly stated that variable A &lt; variable B &amp; variable A &gt; variable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/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incorrect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acceptable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It is clearly stated that variable A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B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amp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A &gt; variable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/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acceptable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!-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бележете, че не напълно задължително да заместите зна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“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Но за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 е. Макар и да е във ваш интерес и е добра практика да използвате указаните в таблицата референции. 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best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It is clearly stated that variable A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B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amp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A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g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/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best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202-4436-492F-B1C8-82F06E3E30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рибу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още един тип структури от данни, наречени атрибути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attribute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рибут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допълните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икновено пр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могат да се включв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елемент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 се състоят от и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, указана в рамките на отворения таг на елемент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о атрибути могат да имат само елементите без деца и то тези атрибути не трябва да съществуват под формата на елементи по-долу в йерархията. В един елемент може да имате толкова атрибути, колкото иска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мер за атрибути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 Cyr"/>
              </a:rPr>
              <a:t>letter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 to="Sandy" from="Pet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I love you!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Courier New Cyr"/>
              </a:rPr>
              <a:t>letter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A6D-982A-41D4-B3BA-F1DD7B809B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341000"/>
            <a:ext cx="76197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рибути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 могат да съдържат комплексна информация. Стойностите им се заграждат с кавички или апостроф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ователно не могат да съдържат кавички – поне не такива, които са използвани при дефиницията 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сто, ако се наложи употребата им трябва да използвате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escap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кодовете за наклонена че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\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ва действие се прилага също и за табулаци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(\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ите ред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\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743200" y="3657600"/>
          <a:ext cx="4876920" cy="2009880"/>
        </p:xfrm>
        <a:graphic>
          <a:graphicData uri="http://schemas.openxmlformats.org/drawingml/2006/table">
            <a:tbl>
              <a:tblPr/>
              <a:tblGrid>
                <a:gridCol w="2286000"/>
                <a:gridCol w="2590920"/>
              </a:tblGrid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4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меня се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4f5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булац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\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#09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 ре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\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#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ъщане на каретка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\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#13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201-683D-48E0-A3A0-82249ED8DB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използваме таговете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же и в първия да нямат затварящ, то е задължително да ги затворим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Например вместо 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br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рябва да напишем: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Courier New Cyr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br</a:t>
            </a:r>
            <a:r>
              <a:rPr b="1" lang="bg-BG" sz="2000" spc="-1" strike="noStrike">
                <a:solidFill>
                  <a:srgbClr val="000000"/>
                </a:solidFill>
                <a:latin typeface="Courier New Cyr"/>
              </a:rPr>
              <a:t> /</a:t>
            </a:r>
            <a:r>
              <a:rPr b="1" lang="en-US" sz="2000" spc="-1" strike="noStrike">
                <a:solidFill>
                  <a:srgbClr val="000000"/>
                </a:solidFill>
                <a:latin typeface="Courier New Cyr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рябва да кодират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всички специални символи – което може да направите с помощта на функцият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escap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еб страниците често използват текстови файлове, които съдърж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орматирана информация – напр. Статич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 за съхраняване на данни за това кои динамични страници (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P…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да се извикат или към кой порт 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дрес да се свържат, когато се опитват да се свържат със сокет сървъ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BC1-E367-4C85-BC04-30FD21A9CC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Използване на клас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кла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оже да направите следните неща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форматиран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парсван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(извличане на информацията от форматирания файл)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зареждане или изпращан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негова помощ може да заредим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т външен източник като статичен файл или сървърен скрипт. А след като сме заредили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окумента да поллучим достъп до информацията в него с помощта на методите и свойствата на клас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. Може да създадем и собствен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, който да използваме във филм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да го изпратим на сървърен скрип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A8D-38EA-4C2E-BF72-361DB4AA9A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777777"/>
                </a:solidFill>
                <a:latin typeface="Arial"/>
              </a:rPr>
              <a:t>Форматиране на </a:t>
            </a:r>
            <a:r>
              <a:rPr b="0" lang="en-US" sz="36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да създадем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бект въ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трябва да използваме конструктора на класа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var myXML:XML = new XM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да създадем след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MyClassMate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name gender=“male”&gt; Ivan Ivanov 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&lt;name gender=“female”&gt; Maria Draganova &lt;/name&gt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/MyClassMate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рябва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1) да създадем документа като низ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) да конвертираме низа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бект с помощта на констру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(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кла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mySt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MyClassMate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=&gt;&lt;name gender=\“male\”&gt; Ivan Ivanov 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=&gt;&lt;name gender=\“female\”&gt; Maria Draganova &lt;/name&gt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/MyClassMate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 myXML:XML = new XML(my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016-67A1-4645-9183-0C6B12B78A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777777"/>
                </a:solidFill>
                <a:latin typeface="Arial"/>
              </a:rPr>
              <a:t>Парсване на </a:t>
            </a:r>
            <a:r>
              <a:rPr b="0" lang="en-US" sz="36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Pa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= анализиране, разлагане на части на нещ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войства на кла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firstChi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очи към първия възел в дървовидната структу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hildNodes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nextSib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очи към следващия възел на същото ниво в структур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ttrib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ръща асоциативен масив от имена на атрибу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0F6-5B5E-43F2-9A35-F0F1D677AC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Зареждане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заред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т отдалечен източник трябва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1) създаде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бект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2) да използваме мето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(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бекта, за да заред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форматирани данни от външен източник.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var myXML: XML = new XML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myXML.load(“http://ime_domain.com/imeXMLfile.xml”);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*тук може да се укаже и динамичен скриптов файл, чийто резултат е скриптова страница.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определим кога еди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окумент се е заредил в даден обект, използваме събитието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onLoa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бекта.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 да укажем на това събитие да вика функция при завършване на зарежданет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function init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трябва да парснем скрипт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}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A9E-3F51-458A-AFAC-93A7110243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1676520"/>
            <a:ext cx="78692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ACC-2FFB-45A5-AC80-FE6EB4624B31}" type="slidenum">
              <a:t>2</a:t>
            </a:fld>
          </a:p>
        </p:txBody>
      </p:sp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Зареждане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ният пример илюстрира, че когато зарежданет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а приключи ще бъде извикана функцият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init()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нея трябва да напишем специален код за интерпретиране на данните, описани от наш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йл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C3F-EAD6-47CE-AC41-2D0037EAC5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Изпращане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рез методит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ласа може да изпраща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адрес. Като същевременно с това да заредим резултатния док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рат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трябва да използваме метод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send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да укажем предназнач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дре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myXML:XML = new XML(“&lt;message&gt;&lt;text&gt;Hi!&lt;/text&gt;&lt;/message&gt;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XML.send(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“http://ime_domain.com/destinacia.php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ратим и едновременно с това да получим отговор трябва да използва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AndLoad(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а на кла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A9A-F5A8-471F-B8AD-DED6E96AB5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0" lang="bg-BG" sz="4400" spc="-1" strike="noStrike">
                <a:solidFill>
                  <a:srgbClr val="800000"/>
                </a:solidFill>
                <a:latin typeface="Arial"/>
              </a:rPr>
              <a:t>снови на 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O</a:t>
            </a: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нови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646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eXtensible Markup Language) 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зик за форматиране на данни чрез използване на етикети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ужи за лесно обозначаване (маркиране)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формация в рамките на обикновен текстов фай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дно от основните негови пред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възможността за съхраняване на тази информация в йерархичен вид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ва означава, че можете да я разделите на парч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ктиче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те да мислите 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то т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во описание на йерархична файлова система, съхраняваща текстова информац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 е скриптов език и реално не “върши” нищо, макар средствата, с които си служи да напомнят такъв. Навсякъде, където нормално използвате текстов файл можете да го заместите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Снабдявайки се така със структурираност и яснота на конкретото съдържан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повече информация относ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 да погледнете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 Cyr"/>
              </a:rPr>
              <a:t>http://www.xml.com/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 Cyr"/>
              </a:rPr>
              <a:t>http://www.w3.org/XML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BB9-FCEE-4EA4-B311-B23B62796B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глеждай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прим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ще забележите, че много прилича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същ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TM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ML (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ак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M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а се 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явил пре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ML –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 двата са създадени на баз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G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яхната структура в много отношения е еднак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мер з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let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to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&gt; Мария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/to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from&gt;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 Игнат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/fro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body&gt;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 Как си?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/let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CA1-C06B-45BB-B4CD-95BBB4498B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аналогия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файл-пап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тикета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едставя папка, съдържащ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3 друг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. Всички те описват съдържанието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ложението на едно писм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сяка една папка съдърж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преде-л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кст съответстващ на типа 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съдържа информация за получателя на писмот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държанието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куме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тикет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нформацията в тя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е разглеждат като въз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зи въз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сновн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граждащ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локо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ML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определящи кое какво 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примера има 2 ти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ъзли: елементи и текст въз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лем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Мария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Игнат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Как си?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к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ъз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6F2-A516-4508-A054-91367A4180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н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ъзли елементи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злите елементите представляв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аговет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ли папки, етике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нашия пример елемента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 е коренният 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мент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кум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Желателно е да има само един коренен етикет за все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ака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lash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не е толкова строг за т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сички други елементи трябва да бъдат поставени в него, определяйки цялостната структура на док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гато един възел се съдържа в друг, се обозначава като “дете” на съдържащия 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ругия като родителски (“родител”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обно на родословно дър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ментът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деца”: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одителският възел на всеки от тях е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секи елемент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рябва да има отварящ и затварящ етике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менти без съдържание между отварящия и затварящ таг, или нямащи “деца” (ка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&gt;&lt;/to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е нарич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азни елемен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гат да се запишат алтернативно ка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ме_еле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&gt;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я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&lt;to /&gt;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дето имаме един таг, затварящ себе с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 имайки сам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&gt;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тваряне ще бъде неправи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45D-2CF3-4033-B662-E0BA80993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н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именув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лемен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ществуват правила, които да спазв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ената на елементи трябва да съдържат само символи. Това включ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ук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циф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_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ир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.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воеточ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:)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воеточие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ипично само 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делител на именувани простран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акар изброените символи да са валидни, имената на елементите могат да започват само с букви или долна подчертавка “_”. Освен това имената на елементи не трябва да започват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xml“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ената на етикетите са чувствителни към регистъра. Тоест прави се разлика между малки и големи букв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ag&gt;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различно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ag&gt;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андарт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гове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 пишат с малк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ук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ес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тикет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а с гол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BA4-3297-424D-8401-D0A351EE3B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йла може да използваме еднакъв етикет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ного пъти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let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to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M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ария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to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Ивели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to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Петър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from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Игнат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fr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body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Как си?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let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7A1-988B-4A8B-9585-63AFD4A3CF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9:44:27Z</dcterms:created>
  <dc:creator>SP_03</dc:creator>
  <dc:description/>
  <dc:language>en-US</dc:language>
  <cp:lastModifiedBy>GORO</cp:lastModifiedBy>
  <dcterms:modified xsi:type="dcterms:W3CDTF">2004-11-20T01:53:27Z</dcterms:modified>
  <cp:revision>182</cp:revision>
  <dc:subject/>
  <dc:title>Slide 1</dc:title>
</cp:coreProperties>
</file>