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9EA-2DAE-45EB-BC8E-6AF3B8D7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8B7-5B7D-4254-A7B1-F8FDD4DE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A18-A5D0-4463-AE5B-42CAF335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90C-442A-4C19-83CF-8F9A12A7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985-01D3-4207-A8A4-61E3AA5F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613-754D-414E-8D35-1BDDE2F6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02A-87B0-4AB0-ACC3-C49C891F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BD6-7817-40EC-A061-2FCDE74C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91A-9AC1-400E-B529-CF0A3AEB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E01-2AA0-4559-8B53-3791A569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8B0-43BC-4B2D-8BFA-C5E36ECC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3F1-3515-4990-82CB-ED862FB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.11.2004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095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8FEE-69FB-4EB8-8D4D-D8E8794B0159}" type="slidenum">
              <a:rPr b="0" lang="sr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B94-9110-4FC3-8ECB-66D2238C15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createEmptyMovieClip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 този метод веднъж създадената празна инстанция можем да я пълним като прикрепяме нови филмчета.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_root.createEmptyMovieClip(“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Име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”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depth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помощта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 динамично да чертаем линии във филм, докато той се възпроизвежда – това се подпомага от множеството методи, които ни предоставя нагото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тяхна помощ можем да: нарисуваме линия от текуща позиция за чертане до зададена от нас точка, преместим текущата позиция на чертане без да чертаем,  зададем стил на линията за дадената времедиаграма, запълване на фигура с цвят или градиент, чертане на крива между две точки, триене във времедиаграма на линии и прели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26D-C42C-4E7F-BA11-A73A1B91B4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lineStyle(debelina,color,alph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debeli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 м/у 0 и 25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moveTo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lineTo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x,y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прозрачен зелен квадрат:</a:t>
            </a:r>
            <a:br>
              <a:rPr sz="2000"/>
            </a:br>
            <a:r>
              <a:rPr b="0" lang="bg-BG" sz="16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_root.createEmptyMovieClip("newBox"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with (_root.newBo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beginFill(0x00ff00, 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moveTo(100, 100);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lineTo(100, 300);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lineTo(300, 3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lineTo(300, 1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lineTo(100, 1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endFill();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AD7-98EE-4709-8583-827DB0D0CF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за кръг с очертание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_root.createEmptyMovieClip( "newCircle", 3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with ( _root.newCircle ) {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lineStyle( 4, 0x666666, 6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beginFill( 0xff0000, 6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moveTo( 300, 4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 400, 400, 400, 3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 400, 200, 300, 2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 200, 200, 200, 3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 200, 400, 300, 4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endFil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CE2-D637-4658-9FA3-09B36A7561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25520"/>
            <a:ext cx="78692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Динамично управление на филмови клипове. Създаване на скриптове з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UI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компоненти. Отпечатване и 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контекстни меню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B6C-5AFF-4529-B446-C32184FEC293}" type="slidenum">
              <a:t>2</a:t>
            </a:fld>
          </a:p>
        </p:txBody>
      </p:sp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Динамично управление на филмови клипов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646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В разгледаните до сега уроци използвахме клипове, бутони, кадри, за да предизвикаме изпълнението на дадено събитие. Сега ще разясним как да обработваме инстанции на филмови клипове – да ги дублириме, прикрепяме, оцветяваме, рисуваме, имитирайки моли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Ето защо, в настоящата лекция ще наблегнем повече на практиката, за да разберем по-добре тем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E70-FF2F-4466-8047-0CC171C145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Динамичното създаване на инстанция на филмов клип става с помощта на един от следните методи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 Cyr"/>
              </a:rPr>
              <a:t>duplicateMovieClip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дублиране на съществуваща инстанция на клип като се създава нова негова инстанция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 Cyr"/>
              </a:rPr>
              <a:t>attachMovie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така се създава нова инстанция на клип от самата библиотека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 Cyr"/>
              </a:rPr>
              <a:t>createEmptyMovieClip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създава се празна инстанция на клип, несъдържаща никакви данни или графично съдържа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Ще използваме в следващото упражнение всяка от т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93D-B332-48C8-B7F7-594E295C7B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duplicateMovieClip()</a:t>
            </a:r>
            <a:br>
              <a:rPr sz="26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този метод може да окажем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 дублира съществуваща в момента инстанция на клип. Но ако тя се намира на друг фрейм или още не е на сцената това не е възможно да стане. Освен това можем да дублираме филмчето само във времедиаграмата, на която се намира оригинала му. За да избегнем това неудобство се използва втората фун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ублираното филмче наследява всички текущи физически свойства на родителя си: позиция, мащаб, прозрачност и др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 то </a:t>
            </a:r>
            <a:r>
              <a:rPr b="0" lang="sr-CS" sz="2000" spc="-1" strike="noStrike">
                <a:solidFill>
                  <a:srgbClr val="800000"/>
                </a:solidFill>
                <a:latin typeface="Arial"/>
              </a:rPr>
              <a:t>Н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наследява: променливи, масиви, обекти, видимост, име, текущ кадъ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AE5-AB1C-4032-B38D-94FA75644D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ублираното филмче започва да се възпроизвежда от кадър 1, дори и оригиналът да е бил в друг кадър на времедиаграмата при създаване на копие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интаксис за дублиране на фил: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ime_klip.duplicateMovieClip(name, depth, object);</a:t>
            </a:r>
            <a:br>
              <a:rPr sz="1800"/>
            </a:br>
            <a:br>
              <a:rPr sz="18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var name:String = “cat_mc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var depth:String = 1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cat_mc.duplicateMovieClip(name, dept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03E-D647-4C54-AC37-3345318F79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3000" spc="-1" strike="noStrike">
                <a:solidFill>
                  <a:srgbClr val="000000"/>
                </a:solidFill>
                <a:latin typeface="Courier New Cyr"/>
              </a:rPr>
              <a:t>attachMovie()</a:t>
            </a:r>
            <a:br>
              <a:rPr sz="30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 този метод може динамично да си изваждаме инстанции от библиотеката. Прикрепеният филм става наследник на времедиаграмата, към която е прикрепен. Новото филмче запазва видимостта си и другите характеристики, които не можеха да се наследят при използване на първия ме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крепената инстанция не трябва да е на сцената, когато искаме да я прикрепя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F45-217C-4884-A52F-54F6B44602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600" spc="-1" strike="noStrike">
                <a:solidFill>
                  <a:srgbClr val="000000"/>
                </a:solidFill>
                <a:latin typeface="Courier New Cyr"/>
              </a:rPr>
              <a:t>attachMovie()</a:t>
            </a:r>
            <a:br>
              <a:rPr sz="26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няколко стъпки, през които трябва да минем, за да използваме този метод. Първо трябва да окажем в библиотеката кои филмови клипове искаме да направим достъпни за прикрепяне. Това се нарича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вързван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linkage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 е терми, отнасящ се за споделяне на библиотеки, при което актив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t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някоя библиотека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ове се свързват, или споделят, с дру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_root.attachMovieClip(“kvadrat”,”dynamic_kvadrat_mc”,1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dynamic_kvadrat_mc.onEnterFrame = function(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dynamic_kvadrat_mc._rotation +=10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505-80E8-4E50-BDB7-FA1C55E9BF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9:44:27Z</dcterms:created>
  <dc:creator>SP_03</dc:creator>
  <dc:description/>
  <dc:language>en-US</dc:language>
  <cp:lastModifiedBy>GORO</cp:lastModifiedBy>
  <dcterms:modified xsi:type="dcterms:W3CDTF">2004-11-27T01:46:57Z</dcterms:modified>
  <cp:revision>233</cp:revision>
  <dc:subject/>
  <dc:title>Slide 1</dc:title>
</cp:coreProperties>
</file>