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35F1-F980-4673-BADB-54818461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D5C-814D-458A-810A-727DDED8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D63-9B4B-4AD6-B75B-8FE1B5C7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29F-ECA9-48C0-94E7-456308F2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96F-3481-4755-BFD9-0FE9EB1F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92C-D6FB-4668-AE2C-A2E495ED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5CC-00ED-4A36-A663-9E3F954A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CAE-D5DB-4613-BE7B-ACF23B39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946-CB94-4F87-88CB-9ECE70B3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D69-78CE-4012-A254-E603D7A8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E17-1AD4-4958-B84E-FDFDC751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FD1-8B6F-461B-BF25-6EABF257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.11.2004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4320" y="6095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3773-7EBD-43CD-BC79-FFF33BF0F4C4}" type="slidenum">
              <a:rPr b="0" lang="sr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2CC-D03E-4C9A-A40E-651ED602FD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createEmptyMovieClip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 този метод веднъж създадената празна инстанция можем да я пълним като прикрепяме нови филмчета.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_root.createEmptyMovieClip(“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Име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”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depth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 помощта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 динамично да чертаем линии във филм, докато той се възпроизвежда – това се подпомага от множеството методи, които ни предоставя нагото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 тяхна помощ можем да: нарисуваме линия от текуща позиция за чертане до зададена от нас точка, преместим текущата позиция на чертане без да чертаем,  зададем стил на линията за дадената времедиаграма, запълване на фигура с цвят или градиент, чертане на крива между две точки, триене във времедиаграма на линии и прели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BBC-E414-416D-BCB8-65F10AA216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lineStyle(debelina,color,alph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debeli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йност м/у 0 и 25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moveTo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lineTo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urveTo(x,y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прозрачен зелен квадрат:</a:t>
            </a:r>
            <a:br>
              <a:rPr sz="2000"/>
            </a:br>
            <a:r>
              <a:rPr b="0" lang="bg-BG" sz="16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_root.createEmptyMovieClip("newBox"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with (_root.newBo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beginFill(0x00ff00, 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moveTo(100, 100);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lineTo(100, 300);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lineTo(300, 3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lineTo(300, 1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lineTo(100, 1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endFill();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 Cyr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DFC-3388-43AC-905B-7F82EE56EB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за кръг с очертание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_root.createEmptyMovieClip( "newCircle", 3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with ( _root.newCircle ) {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lineStyle( 4, 0x666666, 6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beginFill( 0xff0000, 6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moveTo( 300, 40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urveTo( 400, 400, 400, 30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urveTo( 400, 200, 300, 20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urveTo( 200, 200, 200, 30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urveTo( 200, 400, 300, 40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endFil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DA3-F2DE-45B8-AC8C-940C8189BF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25520"/>
            <a:ext cx="786924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Динамично управление на филмови клипове. Създаване на скриптове з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UI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компоненти. Отпечатване и 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контекстни меню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700" spc="-1" strike="noStrike">
                <a:solidFill>
                  <a:srgbClr val="808080"/>
                </a:solidFill>
                <a:latin typeface="Arial"/>
              </a:rPr>
              <a:t>ЛЕКЦИЯ № </a:t>
            </a: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BF2-4F42-4A82-A61B-DE2C399378B6}" type="slidenum">
              <a:t>2</a:t>
            </a:fld>
          </a:p>
        </p:txBody>
      </p:sp>
    </p:spTree>
  </p:cSld>
  <p:transition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Динамично управление на филмови клипов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646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В разгледаните до сега уроци използвахме клипове, бутони, кадри, за да предизвикаме изпълнението на дадено събитие. Сега ще разясним как да обработваме инстанции на филмови клипове – да ги дублириме, прикрепяме, оцветяваме, рисуваме, имитирайки моли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Ето защо, в настоящата лекция ще наблегнем повече на практиката, за да разберем по-добре тем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332-4201-416D-82C2-F6B592A239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Динамичното създаване на инстанция на филмов клип става с помощта на един от следните методи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 Cyr"/>
              </a:rPr>
              <a:t>duplicateMovieClip(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дублиране на съществуваща инстанция на клип като се създава нова негова инстанция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 Cyr"/>
              </a:rPr>
              <a:t>attachMovie(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така се създава нова инстанция на клип от самата библиотека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 Cyr"/>
              </a:rPr>
              <a:t>createEmptyMovieClip(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създава се празна инстанция на клип, несъдържаща никакви данни или графично съдържа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Ще използваме в следващото упражнение всяка от т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04E-0384-4670-8FA5-C4ABEA3B60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duplicateMovieClip()</a:t>
            </a:r>
            <a:br>
              <a:rPr sz="26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този метод може да окажем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а дублира съществуваща в момента инстанция на клип. Но ако тя се намира на друг фрейм или още не е на сцената това не е възможно да стане. Освен това можем да дублираме филмчето само във времедиаграмата, на която се намира оригинала му. За да избегнем това неудобство се използва втората функ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ублираното филмче наследява всички текущи физически свойства на родителя си: позиция, мащаб, прозрачност и дру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 то </a:t>
            </a:r>
            <a:r>
              <a:rPr b="0" lang="sr-CS" sz="2000" spc="-1" strike="noStrike">
                <a:solidFill>
                  <a:srgbClr val="800000"/>
                </a:solidFill>
                <a:latin typeface="Arial"/>
              </a:rPr>
              <a:t>Н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наследява: променливи, масиви, обекти, видимост, име, текущ кадъ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D0F-B725-4016-9188-6FE395C406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ублираното филмче започва да се възпроизвежда от кадър 1, дори и оригиналът да е бил в друг кадър на времедиаграмата при създаване на копие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интаксис за дублиране на фил: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ime_klip.duplicateMovieClip(name, depth, object);</a:t>
            </a:r>
            <a:br>
              <a:rPr sz="1800"/>
            </a:br>
            <a:br>
              <a:rPr sz="18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var name:String = “cat_mc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var depth:String = 1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cat_mc.duplicateMovieClip(name, depth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D3A-6728-4C0B-80B8-AA965C413D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3000" spc="-1" strike="noStrike">
                <a:solidFill>
                  <a:srgbClr val="000000"/>
                </a:solidFill>
                <a:latin typeface="Courier New Cyr"/>
              </a:rPr>
              <a:t>attachMovie()</a:t>
            </a:r>
            <a:br>
              <a:rPr sz="30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 този метод може динамично да си изваждаме инстанции от библиотеката. Прикрепеният филм става наследник на времедиаграмата, към която е прикрепен. Новото филмче запазва видимостта си и другите характеристики, които не можеха да се наследят при използване на първия мет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крепената инстанция не трябва да е на сцената, когато искаме да я прикрепя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935-CD57-4E89-80DC-35AC7115E4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Динамично управление на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филмови клипове.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560" y="1646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600" spc="-1" strike="noStrike">
                <a:solidFill>
                  <a:srgbClr val="000000"/>
                </a:solidFill>
                <a:latin typeface="Courier New Cyr"/>
              </a:rPr>
              <a:t>attachMovie()</a:t>
            </a:r>
            <a:br>
              <a:rPr sz="26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няколко стъпки, през които трябва да минем, за да използваме този метод. Първо трябва да окажем в библиотеката кои филмови клипове искаме да направим достъпни за прикрепяне. Това се нарича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вързван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linkage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 е терми, отнасящ се за споделяне на библиотеки, при което актив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t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някоя библиотека 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ове се свързват, или споделят, с дру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_root.attachMovieClip(“kvadrat”,”dynamic_kvadrat_mc”,1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dynamic_kvadrat_mc.onEnterFrame = function(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dynamic_kvadrat_mc._rotation +=10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 Cyr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E5C-50EB-4E66-933D-14CED39894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9:44:27Z</dcterms:created>
  <dc:creator>SP_03</dc:creator>
  <dc:description/>
  <dc:language>en-US</dc:language>
  <cp:lastModifiedBy>GORO</cp:lastModifiedBy>
  <dcterms:modified xsi:type="dcterms:W3CDTF">2004-11-27T01:46:57Z</dcterms:modified>
  <cp:revision>233</cp:revision>
  <dc:subject/>
  <dc:title>Slide 1</dc:title>
</cp:coreProperties>
</file>